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1A2-2CD5-4409-A6D0-E18658B3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63A-23A9-46A7-B0CC-C0CF9CE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926-0BB3-4370-B0A9-BBC47D9E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2CA-4D15-499C-8B69-782E17A4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D2DD-4FD3-45CF-BC55-50451DAF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EF1D-3A28-400D-BBE1-EC74585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56CF-8B6B-4370-AE26-78E79CCF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50E3-07B5-44DA-B683-AE2493BF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FCEF-059D-43AB-B629-8444401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224-ED13-4890-8BE9-6813C00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D394-EA4E-494E-8D3A-52D2EEC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966-524F-4542-9217-9BE8F8E0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C01F-1E7F-460A-81B8-B6F3DDF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A1E0-2DF1-4EC6-AE0B-1E8C1D7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C62E-FC3F-47FE-A62C-DE7E44F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300-D92E-4BE8-B111-E445C785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4734-2971-42AB-936A-5C11CECC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979-13FD-46AC-A1C3-4FDD897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CE9-4353-41FE-9203-DFAE0A17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A0A-2074-4823-B6FA-97445281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B87-89B8-4423-A43B-7E7D0CB8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4F9-E939-4C21-99A3-2C21223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347-75F8-4EBC-A8C1-0ABF157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649-B1EC-49CD-8B5E-04B5EE8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686b5d"/>
              </a:gs>
              <a:gs pos="100000">
                <a:srgbClr val="5b5e5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85b4f"/>
                  </a:gs>
                  <a:gs pos="100000">
                    <a:srgbClr val="686b5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85b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55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1746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C6FC-B5DF-4BAE-BB08-51C8B276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85b4f"/>
                  </a:gs>
                  <a:gs pos="100000">
                    <a:srgbClr val="686b5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e5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5f6155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85b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f61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55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e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1746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d7062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26558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265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5685a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7FAA-7927-430F-A28E-D3FBCFD91642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343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1676520" y="1371600"/>
            <a:ext cx="5943600" cy="31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he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Find the asymptotes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(x) = 2x/(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 – 1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G(x) = 2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/(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 – 16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H(x) = 4x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/(x – 5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5" name="Ink 4"/>
          <p:cNvSpPr/>
          <p:nvPr/>
        </p:nvSpPr>
        <p:spPr>
          <a:xfrm>
            <a:off x="696960" y="3348000"/>
            <a:ext cx="1857240" cy="831960"/>
          </a:xfrm>
          <a:custGeom>
            <a:avLst/>
            <a:gdLst/>
            <a:ahLst/>
            <a:rect l="l" t="t" r="r" b="b"/>
            <a:pathLst>
              <a:path w="5160" h="2308">
                <a:moveTo>
                  <a:pt x="2431" y="9748"/>
                </a:moveTo>
                <a:cubicBezTo>
                  <a:pt x="2431" y="9798"/>
                  <a:pt x="2431" y="9847"/>
                  <a:pt x="2431" y="9897"/>
                </a:cubicBezTo>
                <a:cubicBezTo>
                  <a:pt x="2422" y="9837"/>
                  <a:pt x="2409" y="9799"/>
                  <a:pt x="2381" y="9748"/>
                </a:cubicBezTo>
                <a:cubicBezTo>
                  <a:pt x="2357" y="9704"/>
                  <a:pt x="2356" y="9626"/>
                  <a:pt x="2307" y="9599"/>
                </a:cubicBezTo>
                <a:cubicBezTo>
                  <a:pt x="2242" y="9563"/>
                  <a:pt x="2223" y="9635"/>
                  <a:pt x="2208" y="9674"/>
                </a:cubicBezTo>
                <a:cubicBezTo>
                  <a:pt x="2167" y="9785"/>
                  <a:pt x="2179" y="9851"/>
                  <a:pt x="2158" y="9971"/>
                </a:cubicBezTo>
                <a:cubicBezTo>
                  <a:pt x="2144" y="10050"/>
                  <a:pt x="2133" y="10114"/>
                  <a:pt x="2133" y="10195"/>
                </a:cubicBezTo>
                <a:cubicBezTo>
                  <a:pt x="2133" y="10272"/>
                  <a:pt x="2119" y="10379"/>
                  <a:pt x="2158" y="10418"/>
                </a:cubicBezTo>
              </a:path>
              <a:path w="5160" h="2308">
                <a:moveTo>
                  <a:pt x="1935" y="10120"/>
                </a:moveTo>
                <a:cubicBezTo>
                  <a:pt x="1976" y="10145"/>
                  <a:pt x="2065" y="10181"/>
                  <a:pt x="2108" y="10195"/>
                </a:cubicBezTo>
                <a:cubicBezTo>
                  <a:pt x="2125" y="10195"/>
                  <a:pt x="2141" y="10195"/>
                  <a:pt x="2158" y="10195"/>
                </a:cubicBezTo>
              </a:path>
              <a:path w="5160" h="2308">
                <a:moveTo>
                  <a:pt x="2654" y="9847"/>
                </a:moveTo>
                <a:cubicBezTo>
                  <a:pt x="2583" y="9976"/>
                  <a:pt x="2575" y="10068"/>
                  <a:pt x="2530" y="10195"/>
                </a:cubicBezTo>
                <a:cubicBezTo>
                  <a:pt x="2504" y="10267"/>
                  <a:pt x="2489" y="10336"/>
                  <a:pt x="2530" y="10418"/>
                </a:cubicBezTo>
                <a:cubicBezTo>
                  <a:pt x="2547" y="10452"/>
                  <a:pt x="2591" y="10509"/>
                  <a:pt x="2629" y="10517"/>
                </a:cubicBezTo>
                <a:cubicBezTo>
                  <a:pt x="2671" y="10517"/>
                  <a:pt x="2679" y="10517"/>
                  <a:pt x="2704" y="10517"/>
                </a:cubicBezTo>
              </a:path>
              <a:path w="5160" h="2308">
                <a:moveTo>
                  <a:pt x="2877" y="9996"/>
                </a:moveTo>
                <a:cubicBezTo>
                  <a:pt x="2899" y="10111"/>
                  <a:pt x="2918" y="10239"/>
                  <a:pt x="2977" y="10344"/>
                </a:cubicBezTo>
                <a:cubicBezTo>
                  <a:pt x="3014" y="10410"/>
                  <a:pt x="3076" y="10469"/>
                  <a:pt x="3125" y="10492"/>
                </a:cubicBezTo>
                <a:cubicBezTo>
                  <a:pt x="3234" y="10543"/>
                  <a:pt x="3159" y="10563"/>
                  <a:pt x="3274" y="10517"/>
                </a:cubicBezTo>
              </a:path>
              <a:path w="5160" h="2308">
                <a:moveTo>
                  <a:pt x="3175" y="10046"/>
                </a:moveTo>
                <a:cubicBezTo>
                  <a:pt x="3123" y="10120"/>
                  <a:pt x="3074" y="10192"/>
                  <a:pt x="3026" y="10269"/>
                </a:cubicBezTo>
                <a:cubicBezTo>
                  <a:pt x="2980" y="10344"/>
                  <a:pt x="2961" y="10425"/>
                  <a:pt x="2927" y="10492"/>
                </a:cubicBezTo>
                <a:cubicBezTo>
                  <a:pt x="2902" y="10541"/>
                  <a:pt x="2869" y="10534"/>
                  <a:pt x="2902" y="10567"/>
                </a:cubicBezTo>
              </a:path>
              <a:path w="5160" h="2308">
                <a:moveTo>
                  <a:pt x="3200" y="9674"/>
                </a:moveTo>
                <a:cubicBezTo>
                  <a:pt x="3307" y="9706"/>
                  <a:pt x="3328" y="9775"/>
                  <a:pt x="3373" y="9897"/>
                </a:cubicBezTo>
                <a:cubicBezTo>
                  <a:pt x="3414" y="10008"/>
                  <a:pt x="3444" y="10102"/>
                  <a:pt x="3448" y="10220"/>
                </a:cubicBezTo>
                <a:cubicBezTo>
                  <a:pt x="3451" y="10314"/>
                  <a:pt x="3455" y="10478"/>
                  <a:pt x="3423" y="10567"/>
                </a:cubicBezTo>
                <a:cubicBezTo>
                  <a:pt x="3410" y="10603"/>
                  <a:pt x="3394" y="10627"/>
                  <a:pt x="3373" y="10641"/>
                </a:cubicBezTo>
              </a:path>
              <a:path w="5160" h="2308">
                <a:moveTo>
                  <a:pt x="3696" y="10220"/>
                </a:moveTo>
                <a:cubicBezTo>
                  <a:pt x="3799" y="10220"/>
                  <a:pt x="3831" y="10247"/>
                  <a:pt x="3919" y="10269"/>
                </a:cubicBezTo>
              </a:path>
              <a:path w="5160" h="2308">
                <a:moveTo>
                  <a:pt x="3721" y="10492"/>
                </a:moveTo>
                <a:cubicBezTo>
                  <a:pt x="3820" y="10492"/>
                  <a:pt x="3919" y="10492"/>
                  <a:pt x="4018" y="10492"/>
                </a:cubicBezTo>
              </a:path>
              <a:path w="5160" h="2308">
                <a:moveTo>
                  <a:pt x="4911" y="9674"/>
                </a:moveTo>
                <a:cubicBezTo>
                  <a:pt x="4911" y="9723"/>
                  <a:pt x="4905" y="9728"/>
                  <a:pt x="4936" y="9748"/>
                </a:cubicBezTo>
                <a:cubicBezTo>
                  <a:pt x="4962" y="9691"/>
                  <a:pt x="5017" y="9631"/>
                  <a:pt x="5035" y="9599"/>
                </a:cubicBezTo>
                <a:cubicBezTo>
                  <a:pt x="5096" y="9491"/>
                  <a:pt x="5147" y="9459"/>
                  <a:pt x="5209" y="9599"/>
                </a:cubicBezTo>
                <a:cubicBezTo>
                  <a:pt x="5244" y="9679"/>
                  <a:pt x="5234" y="9762"/>
                  <a:pt x="5234" y="9847"/>
                </a:cubicBezTo>
                <a:cubicBezTo>
                  <a:pt x="5234" y="9940"/>
                  <a:pt x="5226" y="10051"/>
                  <a:pt x="5209" y="10145"/>
                </a:cubicBezTo>
                <a:cubicBezTo>
                  <a:pt x="5191" y="10241"/>
                  <a:pt x="5143" y="10341"/>
                  <a:pt x="5085" y="10418"/>
                </a:cubicBezTo>
                <a:cubicBezTo>
                  <a:pt x="5031" y="10489"/>
                  <a:pt x="5027" y="10492"/>
                  <a:pt x="4936" y="10492"/>
                </a:cubicBezTo>
                <a:cubicBezTo>
                  <a:pt x="4844" y="10492"/>
                  <a:pt x="4840" y="10458"/>
                  <a:pt x="4812" y="10368"/>
                </a:cubicBezTo>
                <a:cubicBezTo>
                  <a:pt x="4790" y="10297"/>
                  <a:pt x="4807" y="10226"/>
                  <a:pt x="4812" y="10195"/>
                </a:cubicBezTo>
                <a:cubicBezTo>
                  <a:pt x="4823" y="10129"/>
                  <a:pt x="4866" y="10080"/>
                  <a:pt x="4936" y="10145"/>
                </a:cubicBezTo>
                <a:cubicBezTo>
                  <a:pt x="4978" y="10184"/>
                  <a:pt x="5016" y="10250"/>
                  <a:pt x="5060" y="10294"/>
                </a:cubicBezTo>
                <a:cubicBezTo>
                  <a:pt x="5134" y="10368"/>
                  <a:pt x="5184" y="10422"/>
                  <a:pt x="5259" y="10492"/>
                </a:cubicBezTo>
                <a:cubicBezTo>
                  <a:pt x="5337" y="10565"/>
                  <a:pt x="5319" y="10560"/>
                  <a:pt x="5383" y="10517"/>
                </a:cubicBezTo>
              </a:path>
              <a:path w="5160" h="2308">
                <a:moveTo>
                  <a:pt x="5507" y="9996"/>
                </a:moveTo>
                <a:cubicBezTo>
                  <a:pt x="5535" y="10075"/>
                  <a:pt x="5578" y="10208"/>
                  <a:pt x="5631" y="10269"/>
                </a:cubicBezTo>
                <a:cubicBezTo>
                  <a:pt x="5661" y="10303"/>
                  <a:pt x="5810" y="10401"/>
                  <a:pt x="5854" y="10418"/>
                </a:cubicBezTo>
                <a:cubicBezTo>
                  <a:pt x="5906" y="10418"/>
                  <a:pt x="5924" y="10419"/>
                  <a:pt x="5953" y="10443"/>
                </a:cubicBezTo>
              </a:path>
              <a:path w="5160" h="2308">
                <a:moveTo>
                  <a:pt x="5953" y="9971"/>
                </a:moveTo>
                <a:cubicBezTo>
                  <a:pt x="5857" y="10015"/>
                  <a:pt x="5807" y="10077"/>
                  <a:pt x="5730" y="10145"/>
                </a:cubicBezTo>
                <a:cubicBezTo>
                  <a:pt x="5662" y="10206"/>
                  <a:pt x="5620" y="10291"/>
                  <a:pt x="5581" y="10368"/>
                </a:cubicBezTo>
                <a:cubicBezTo>
                  <a:pt x="5546" y="10438"/>
                  <a:pt x="5501" y="10501"/>
                  <a:pt x="5457" y="10567"/>
                </a:cubicBezTo>
              </a:path>
              <a:path w="5160" h="2308">
                <a:moveTo>
                  <a:pt x="4663" y="10567"/>
                </a:moveTo>
                <a:cubicBezTo>
                  <a:pt x="4954" y="10567"/>
                  <a:pt x="5242" y="10575"/>
                  <a:pt x="5531" y="10592"/>
                </a:cubicBezTo>
                <a:cubicBezTo>
                  <a:pt x="5869" y="10611"/>
                  <a:pt x="6213" y="10591"/>
                  <a:pt x="6548" y="10567"/>
                </a:cubicBezTo>
                <a:cubicBezTo>
                  <a:pt x="6709" y="10556"/>
                  <a:pt x="6857" y="10553"/>
                  <a:pt x="6995" y="10517"/>
                </a:cubicBezTo>
                <a:cubicBezTo>
                  <a:pt x="7093" y="10491"/>
                  <a:pt x="7115" y="10492"/>
                  <a:pt x="6995" y="10492"/>
                </a:cubicBezTo>
              </a:path>
              <a:path w="5160" h="2308">
                <a:moveTo>
                  <a:pt x="4762" y="9302"/>
                </a:moveTo>
                <a:cubicBezTo>
                  <a:pt x="4711" y="9381"/>
                  <a:pt x="4708" y="9439"/>
                  <a:pt x="4688" y="9525"/>
                </a:cubicBezTo>
                <a:cubicBezTo>
                  <a:pt x="4665" y="9625"/>
                  <a:pt x="4623" y="9721"/>
                  <a:pt x="4614" y="9823"/>
                </a:cubicBezTo>
                <a:cubicBezTo>
                  <a:pt x="4605" y="9926"/>
                  <a:pt x="4616" y="10046"/>
                  <a:pt x="4638" y="10145"/>
                </a:cubicBezTo>
                <a:cubicBezTo>
                  <a:pt x="4656" y="10225"/>
                  <a:pt x="4715" y="10278"/>
                  <a:pt x="4762" y="10344"/>
                </a:cubicBezTo>
              </a:path>
              <a:path w="5160" h="2308">
                <a:moveTo>
                  <a:pt x="6077" y="9401"/>
                </a:moveTo>
                <a:cubicBezTo>
                  <a:pt x="6150" y="9503"/>
                  <a:pt x="6167" y="9533"/>
                  <a:pt x="6201" y="9674"/>
                </a:cubicBezTo>
                <a:cubicBezTo>
                  <a:pt x="6237" y="9823"/>
                  <a:pt x="6222" y="9927"/>
                  <a:pt x="6176" y="10071"/>
                </a:cubicBezTo>
                <a:cubicBezTo>
                  <a:pt x="6154" y="10138"/>
                  <a:pt x="6150" y="10156"/>
                  <a:pt x="6127" y="10195"/>
                </a:cubicBezTo>
              </a:path>
              <a:path w="5160" h="2308">
                <a:moveTo>
                  <a:pt x="4589" y="10790"/>
                </a:moveTo>
                <a:cubicBezTo>
                  <a:pt x="4554" y="10886"/>
                  <a:pt x="4535" y="10966"/>
                  <a:pt x="4514" y="11063"/>
                </a:cubicBezTo>
                <a:cubicBezTo>
                  <a:pt x="4490" y="11175"/>
                  <a:pt x="4510" y="11302"/>
                  <a:pt x="4564" y="11410"/>
                </a:cubicBezTo>
                <a:cubicBezTo>
                  <a:pt x="4610" y="11501"/>
                  <a:pt x="4684" y="11550"/>
                  <a:pt x="4762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6" name="Ink 5"/>
          <p:cNvSpPr/>
          <p:nvPr/>
        </p:nvSpPr>
        <p:spPr>
          <a:xfrm>
            <a:off x="3589200" y="2990880"/>
            <a:ext cx="1982880" cy="866880"/>
          </a:xfrm>
          <a:custGeom>
            <a:avLst/>
            <a:gdLst/>
            <a:ahLst/>
            <a:rect l="l" t="t" r="r" b="b"/>
            <a:pathLst>
              <a:path w="5508" h="2407">
                <a:moveTo>
                  <a:pt x="10443" y="9550"/>
                </a:moveTo>
                <a:cubicBezTo>
                  <a:pt x="10443" y="9650"/>
                  <a:pt x="10440" y="9485"/>
                  <a:pt x="10368" y="9451"/>
                </a:cubicBezTo>
                <a:cubicBezTo>
                  <a:pt x="10304" y="9421"/>
                  <a:pt x="10192" y="9458"/>
                  <a:pt x="10145" y="9500"/>
                </a:cubicBezTo>
                <a:cubicBezTo>
                  <a:pt x="10091" y="9548"/>
                  <a:pt x="10035" y="9627"/>
                  <a:pt x="10021" y="9699"/>
                </a:cubicBezTo>
                <a:cubicBezTo>
                  <a:pt x="10011" y="9749"/>
                  <a:pt x="10050" y="9808"/>
                  <a:pt x="10071" y="9847"/>
                </a:cubicBezTo>
                <a:cubicBezTo>
                  <a:pt x="10112" y="9923"/>
                  <a:pt x="10157" y="9897"/>
                  <a:pt x="10244" y="9897"/>
                </a:cubicBezTo>
                <a:cubicBezTo>
                  <a:pt x="10346" y="9897"/>
                  <a:pt x="10291" y="9850"/>
                  <a:pt x="10368" y="9823"/>
                </a:cubicBezTo>
                <a:cubicBezTo>
                  <a:pt x="10437" y="9799"/>
                  <a:pt x="10474" y="9764"/>
                  <a:pt x="10492" y="9674"/>
                </a:cubicBezTo>
                <a:cubicBezTo>
                  <a:pt x="10492" y="9657"/>
                  <a:pt x="10492" y="9641"/>
                  <a:pt x="10492" y="9624"/>
                </a:cubicBezTo>
                <a:cubicBezTo>
                  <a:pt x="10482" y="9740"/>
                  <a:pt x="10455" y="9855"/>
                  <a:pt x="10443" y="9971"/>
                </a:cubicBezTo>
                <a:cubicBezTo>
                  <a:pt x="10425" y="10146"/>
                  <a:pt x="10469" y="10322"/>
                  <a:pt x="10418" y="10492"/>
                </a:cubicBezTo>
                <a:cubicBezTo>
                  <a:pt x="10382" y="10613"/>
                  <a:pt x="10389" y="10614"/>
                  <a:pt x="10319" y="10691"/>
                </a:cubicBezTo>
                <a:cubicBezTo>
                  <a:pt x="10275" y="10739"/>
                  <a:pt x="10196" y="10720"/>
                  <a:pt x="10145" y="10691"/>
                </a:cubicBezTo>
                <a:cubicBezTo>
                  <a:pt x="10031" y="10626"/>
                  <a:pt x="10018" y="10645"/>
                  <a:pt x="9971" y="10517"/>
                </a:cubicBezTo>
              </a:path>
              <a:path w="5508" h="2407">
                <a:moveTo>
                  <a:pt x="10864" y="9227"/>
                </a:moveTo>
                <a:cubicBezTo>
                  <a:pt x="10857" y="9303"/>
                  <a:pt x="10831" y="9380"/>
                  <a:pt x="10790" y="9451"/>
                </a:cubicBezTo>
                <a:cubicBezTo>
                  <a:pt x="10750" y="9522"/>
                  <a:pt x="10773" y="9599"/>
                  <a:pt x="10815" y="9674"/>
                </a:cubicBezTo>
                <a:cubicBezTo>
                  <a:pt x="10853" y="9742"/>
                  <a:pt x="10908" y="9844"/>
                  <a:pt x="10964" y="9897"/>
                </a:cubicBezTo>
                <a:cubicBezTo>
                  <a:pt x="11020" y="9950"/>
                  <a:pt x="11088" y="9971"/>
                  <a:pt x="11162" y="9971"/>
                </a:cubicBezTo>
              </a:path>
              <a:path w="5508" h="2407">
                <a:moveTo>
                  <a:pt x="11137" y="9451"/>
                </a:moveTo>
                <a:cubicBezTo>
                  <a:pt x="11169" y="9503"/>
                  <a:pt x="11210" y="9576"/>
                  <a:pt x="11237" y="9624"/>
                </a:cubicBezTo>
                <a:cubicBezTo>
                  <a:pt x="11280" y="9701"/>
                  <a:pt x="11327" y="9832"/>
                  <a:pt x="11385" y="9897"/>
                </a:cubicBezTo>
                <a:cubicBezTo>
                  <a:pt x="11407" y="9922"/>
                  <a:pt x="11461" y="9959"/>
                  <a:pt x="11485" y="9971"/>
                </a:cubicBezTo>
              </a:path>
              <a:path w="5508" h="2407">
                <a:moveTo>
                  <a:pt x="11361" y="9475"/>
                </a:moveTo>
                <a:cubicBezTo>
                  <a:pt x="11299" y="9568"/>
                  <a:pt x="11241" y="9655"/>
                  <a:pt x="11187" y="9748"/>
                </a:cubicBezTo>
                <a:cubicBezTo>
                  <a:pt x="11135" y="9837"/>
                  <a:pt x="11112" y="9941"/>
                  <a:pt x="11088" y="10046"/>
                </a:cubicBezTo>
                <a:cubicBezTo>
                  <a:pt x="11076" y="10097"/>
                  <a:pt x="11072" y="10137"/>
                  <a:pt x="11088" y="10145"/>
                </a:cubicBezTo>
              </a:path>
              <a:path w="5508" h="2407">
                <a:moveTo>
                  <a:pt x="11460" y="9103"/>
                </a:moveTo>
                <a:cubicBezTo>
                  <a:pt x="11541" y="9196"/>
                  <a:pt x="11588" y="9259"/>
                  <a:pt x="11633" y="9376"/>
                </a:cubicBezTo>
                <a:cubicBezTo>
                  <a:pt x="11678" y="9493"/>
                  <a:pt x="11697" y="9627"/>
                  <a:pt x="11708" y="9748"/>
                </a:cubicBezTo>
                <a:cubicBezTo>
                  <a:pt x="11717" y="9846"/>
                  <a:pt x="11707" y="9953"/>
                  <a:pt x="11683" y="10046"/>
                </a:cubicBezTo>
                <a:cubicBezTo>
                  <a:pt x="11665" y="10118"/>
                  <a:pt x="11629" y="10160"/>
                  <a:pt x="11584" y="10195"/>
                </a:cubicBezTo>
                <a:cubicBezTo>
                  <a:pt x="11530" y="10237"/>
                  <a:pt x="11541" y="10195"/>
                  <a:pt x="11534" y="10145"/>
                </a:cubicBezTo>
              </a:path>
              <a:path w="5508" h="2407">
                <a:moveTo>
                  <a:pt x="11956" y="9599"/>
                </a:moveTo>
                <a:cubicBezTo>
                  <a:pt x="12039" y="9599"/>
                  <a:pt x="12121" y="9599"/>
                  <a:pt x="12204" y="9599"/>
                </a:cubicBezTo>
              </a:path>
              <a:path w="5508" h="2407">
                <a:moveTo>
                  <a:pt x="12030" y="9773"/>
                </a:moveTo>
                <a:cubicBezTo>
                  <a:pt x="12172" y="9806"/>
                  <a:pt x="12209" y="9823"/>
                  <a:pt x="12328" y="9823"/>
                </a:cubicBezTo>
              </a:path>
              <a:path w="5508" h="2407">
                <a:moveTo>
                  <a:pt x="12948" y="8855"/>
                </a:moveTo>
                <a:cubicBezTo>
                  <a:pt x="12923" y="8888"/>
                  <a:pt x="12899" y="8921"/>
                  <a:pt x="12874" y="8954"/>
                </a:cubicBezTo>
                <a:cubicBezTo>
                  <a:pt x="12899" y="8936"/>
                  <a:pt x="12988" y="8873"/>
                  <a:pt x="12998" y="8855"/>
                </a:cubicBezTo>
                <a:cubicBezTo>
                  <a:pt x="13024" y="8808"/>
                  <a:pt x="13042" y="8737"/>
                  <a:pt x="13097" y="8706"/>
                </a:cubicBezTo>
                <a:cubicBezTo>
                  <a:pt x="13131" y="8687"/>
                  <a:pt x="13232" y="8706"/>
                  <a:pt x="13271" y="8706"/>
                </a:cubicBezTo>
                <a:cubicBezTo>
                  <a:pt x="13292" y="8794"/>
                  <a:pt x="13295" y="8864"/>
                  <a:pt x="13295" y="8954"/>
                </a:cubicBezTo>
                <a:cubicBezTo>
                  <a:pt x="13295" y="9047"/>
                  <a:pt x="13293" y="9138"/>
                  <a:pt x="13271" y="9227"/>
                </a:cubicBezTo>
                <a:cubicBezTo>
                  <a:pt x="13244" y="9337"/>
                  <a:pt x="13153" y="9412"/>
                  <a:pt x="13047" y="9451"/>
                </a:cubicBezTo>
                <a:cubicBezTo>
                  <a:pt x="12938" y="9491"/>
                  <a:pt x="12939" y="9413"/>
                  <a:pt x="12874" y="9376"/>
                </a:cubicBezTo>
                <a:cubicBezTo>
                  <a:pt x="12821" y="9346"/>
                  <a:pt x="12848" y="9276"/>
                  <a:pt x="12874" y="9227"/>
                </a:cubicBezTo>
                <a:cubicBezTo>
                  <a:pt x="12916" y="9148"/>
                  <a:pt x="12990" y="9123"/>
                  <a:pt x="13072" y="9178"/>
                </a:cubicBezTo>
                <a:cubicBezTo>
                  <a:pt x="13136" y="9221"/>
                  <a:pt x="13208" y="9262"/>
                  <a:pt x="13246" y="9302"/>
                </a:cubicBezTo>
                <a:cubicBezTo>
                  <a:pt x="13264" y="9321"/>
                  <a:pt x="13383" y="9457"/>
                  <a:pt x="13419" y="9451"/>
                </a:cubicBezTo>
                <a:cubicBezTo>
                  <a:pt x="13436" y="9434"/>
                  <a:pt x="13452" y="9418"/>
                  <a:pt x="13469" y="9401"/>
                </a:cubicBezTo>
              </a:path>
              <a:path w="5508" h="2407">
                <a:moveTo>
                  <a:pt x="13519" y="8930"/>
                </a:moveTo>
                <a:cubicBezTo>
                  <a:pt x="13527" y="9003"/>
                  <a:pt x="13551" y="9073"/>
                  <a:pt x="13593" y="9153"/>
                </a:cubicBezTo>
                <a:cubicBezTo>
                  <a:pt x="13634" y="9232"/>
                  <a:pt x="13744" y="9323"/>
                  <a:pt x="13816" y="9376"/>
                </a:cubicBezTo>
                <a:cubicBezTo>
                  <a:pt x="13855" y="9404"/>
                  <a:pt x="13901" y="9435"/>
                  <a:pt x="13940" y="9451"/>
                </a:cubicBezTo>
              </a:path>
              <a:path w="5508" h="2407">
                <a:moveTo>
                  <a:pt x="13667" y="8930"/>
                </a:moveTo>
                <a:cubicBezTo>
                  <a:pt x="13619" y="9008"/>
                  <a:pt x="13512" y="9156"/>
                  <a:pt x="13494" y="9252"/>
                </a:cubicBezTo>
                <a:cubicBezTo>
                  <a:pt x="13494" y="9320"/>
                  <a:pt x="13497" y="9339"/>
                  <a:pt x="13469" y="9376"/>
                </a:cubicBezTo>
              </a:path>
              <a:path w="5508" h="2407">
                <a:moveTo>
                  <a:pt x="13816" y="8334"/>
                </a:moveTo>
                <a:cubicBezTo>
                  <a:pt x="13856" y="8319"/>
                  <a:pt x="13927" y="8331"/>
                  <a:pt x="13915" y="8409"/>
                </a:cubicBezTo>
                <a:cubicBezTo>
                  <a:pt x="13908" y="8450"/>
                  <a:pt x="13883" y="8538"/>
                  <a:pt x="13866" y="8582"/>
                </a:cubicBezTo>
                <a:cubicBezTo>
                  <a:pt x="13844" y="8640"/>
                  <a:pt x="13856" y="8691"/>
                  <a:pt x="13940" y="8706"/>
                </a:cubicBezTo>
                <a:cubicBezTo>
                  <a:pt x="14035" y="8723"/>
                  <a:pt x="14101" y="8756"/>
                  <a:pt x="14188" y="8781"/>
                </a:cubicBezTo>
                <a:cubicBezTo>
                  <a:pt x="14205" y="8781"/>
                  <a:pt x="14221" y="8781"/>
                  <a:pt x="14238" y="8781"/>
                </a:cubicBezTo>
              </a:path>
              <a:path w="5508" h="2407">
                <a:moveTo>
                  <a:pt x="12626" y="9525"/>
                </a:moveTo>
                <a:cubicBezTo>
                  <a:pt x="13197" y="9525"/>
                  <a:pt x="13769" y="9513"/>
                  <a:pt x="14337" y="9550"/>
                </a:cubicBezTo>
                <a:cubicBezTo>
                  <a:pt x="14685" y="9572"/>
                  <a:pt x="15091" y="9582"/>
                  <a:pt x="15429" y="9525"/>
                </a:cubicBezTo>
                <a:cubicBezTo>
                  <a:pt x="15473" y="9525"/>
                  <a:pt x="15493" y="9528"/>
                  <a:pt x="15453" y="95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7" name="Ink 6"/>
          <p:cNvSpPr/>
          <p:nvPr/>
        </p:nvSpPr>
        <p:spPr>
          <a:xfrm>
            <a:off x="312840" y="4276800"/>
            <a:ext cx="812520" cy="1957320"/>
          </a:xfrm>
          <a:custGeom>
            <a:avLst/>
            <a:gdLst/>
            <a:ahLst/>
            <a:rect l="l" t="t" r="r" b="b"/>
            <a:pathLst>
              <a:path w="2258" h="5434">
                <a:moveTo>
                  <a:pt x="1414" y="11881"/>
                </a:moveTo>
                <a:cubicBezTo>
                  <a:pt x="1459" y="11943"/>
                  <a:pt x="1476" y="11985"/>
                  <a:pt x="1513" y="12055"/>
                </a:cubicBezTo>
                <a:cubicBezTo>
                  <a:pt x="1551" y="12126"/>
                  <a:pt x="1600" y="12180"/>
                  <a:pt x="1637" y="12254"/>
                </a:cubicBezTo>
                <a:cubicBezTo>
                  <a:pt x="1678" y="12336"/>
                  <a:pt x="1708" y="12424"/>
                  <a:pt x="1736" y="12502"/>
                </a:cubicBezTo>
                <a:cubicBezTo>
                  <a:pt x="1755" y="12556"/>
                  <a:pt x="1787" y="12605"/>
                  <a:pt x="1811" y="12650"/>
                </a:cubicBezTo>
                <a:cubicBezTo>
                  <a:pt x="1837" y="12699"/>
                  <a:pt x="1860" y="12750"/>
                  <a:pt x="1885" y="12799"/>
                </a:cubicBezTo>
                <a:cubicBezTo>
                  <a:pt x="1929" y="12755"/>
                  <a:pt x="1953" y="12718"/>
                  <a:pt x="1984" y="12675"/>
                </a:cubicBezTo>
                <a:cubicBezTo>
                  <a:pt x="2021" y="12625"/>
                  <a:pt x="2053" y="12554"/>
                  <a:pt x="2084" y="12502"/>
                </a:cubicBezTo>
                <a:cubicBezTo>
                  <a:pt x="2121" y="12440"/>
                  <a:pt x="2122" y="12387"/>
                  <a:pt x="2158" y="12328"/>
                </a:cubicBezTo>
                <a:cubicBezTo>
                  <a:pt x="2198" y="12263"/>
                  <a:pt x="2245" y="12198"/>
                  <a:pt x="2282" y="12129"/>
                </a:cubicBezTo>
                <a:cubicBezTo>
                  <a:pt x="2316" y="12065"/>
                  <a:pt x="2329" y="11990"/>
                  <a:pt x="2356" y="11931"/>
                </a:cubicBezTo>
                <a:cubicBezTo>
                  <a:pt x="2364" y="11923"/>
                  <a:pt x="2373" y="11914"/>
                  <a:pt x="2381" y="11906"/>
                </a:cubicBezTo>
              </a:path>
              <a:path w="2258" h="5434">
                <a:moveTo>
                  <a:pt x="1191" y="14436"/>
                </a:moveTo>
                <a:cubicBezTo>
                  <a:pt x="1207" y="14515"/>
                  <a:pt x="1227" y="14616"/>
                  <a:pt x="1240" y="14684"/>
                </a:cubicBezTo>
                <a:cubicBezTo>
                  <a:pt x="1240" y="14736"/>
                  <a:pt x="1241" y="14754"/>
                  <a:pt x="1265" y="14784"/>
                </a:cubicBezTo>
              </a:path>
              <a:path w="2258" h="5434">
                <a:moveTo>
                  <a:pt x="1067" y="14585"/>
                </a:moveTo>
                <a:cubicBezTo>
                  <a:pt x="1140" y="14585"/>
                  <a:pt x="1195" y="14601"/>
                  <a:pt x="1265" y="14610"/>
                </a:cubicBezTo>
              </a:path>
              <a:path w="2258" h="5434">
                <a:moveTo>
                  <a:pt x="1612" y="14412"/>
                </a:moveTo>
                <a:cubicBezTo>
                  <a:pt x="1603" y="14489"/>
                  <a:pt x="1588" y="14554"/>
                  <a:pt x="1588" y="14635"/>
                </a:cubicBezTo>
                <a:cubicBezTo>
                  <a:pt x="1588" y="14719"/>
                  <a:pt x="1582" y="14739"/>
                  <a:pt x="1612" y="14784"/>
                </a:cubicBezTo>
              </a:path>
              <a:path w="2258" h="5434">
                <a:moveTo>
                  <a:pt x="2431" y="14387"/>
                </a:moveTo>
                <a:cubicBezTo>
                  <a:pt x="2451" y="14477"/>
                  <a:pt x="2467" y="14573"/>
                  <a:pt x="2480" y="14660"/>
                </a:cubicBezTo>
                <a:cubicBezTo>
                  <a:pt x="2489" y="14721"/>
                  <a:pt x="2493" y="14774"/>
                  <a:pt x="2505" y="14833"/>
                </a:cubicBezTo>
              </a:path>
              <a:path w="2258" h="5434">
                <a:moveTo>
                  <a:pt x="2307" y="14610"/>
                </a:moveTo>
                <a:cubicBezTo>
                  <a:pt x="2458" y="14610"/>
                  <a:pt x="2481" y="14589"/>
                  <a:pt x="2555" y="14635"/>
                </a:cubicBezTo>
              </a:path>
              <a:path w="2258" h="5434">
                <a:moveTo>
                  <a:pt x="2952" y="14412"/>
                </a:moveTo>
                <a:cubicBezTo>
                  <a:pt x="2952" y="14528"/>
                  <a:pt x="2952" y="14643"/>
                  <a:pt x="2952" y="14759"/>
                </a:cubicBezTo>
              </a:path>
              <a:path w="2258" h="5434">
                <a:moveTo>
                  <a:pt x="1141" y="15354"/>
                </a:moveTo>
                <a:cubicBezTo>
                  <a:pt x="1152" y="15449"/>
                  <a:pt x="1185" y="15536"/>
                  <a:pt x="1215" y="15627"/>
                </a:cubicBezTo>
                <a:cubicBezTo>
                  <a:pt x="1245" y="15718"/>
                  <a:pt x="1310" y="15825"/>
                  <a:pt x="1364" y="15900"/>
                </a:cubicBezTo>
                <a:cubicBezTo>
                  <a:pt x="1406" y="15941"/>
                  <a:pt x="1414" y="15949"/>
                  <a:pt x="1439" y="15974"/>
                </a:cubicBezTo>
              </a:path>
              <a:path w="2258" h="5434">
                <a:moveTo>
                  <a:pt x="1389" y="15329"/>
                </a:moveTo>
                <a:cubicBezTo>
                  <a:pt x="1327" y="15406"/>
                  <a:pt x="1280" y="15512"/>
                  <a:pt x="1240" y="15602"/>
                </a:cubicBezTo>
                <a:cubicBezTo>
                  <a:pt x="1203" y="15683"/>
                  <a:pt x="1179" y="15769"/>
                  <a:pt x="1141" y="15850"/>
                </a:cubicBezTo>
                <a:cubicBezTo>
                  <a:pt x="1133" y="15867"/>
                  <a:pt x="1124" y="15883"/>
                  <a:pt x="1116" y="15900"/>
                </a:cubicBezTo>
              </a:path>
              <a:path w="2258" h="5434">
                <a:moveTo>
                  <a:pt x="1488" y="15032"/>
                </a:moveTo>
                <a:cubicBezTo>
                  <a:pt x="1557" y="15041"/>
                  <a:pt x="1613" y="15063"/>
                  <a:pt x="1588" y="15156"/>
                </a:cubicBezTo>
                <a:cubicBezTo>
                  <a:pt x="1571" y="15221"/>
                  <a:pt x="1504" y="15232"/>
                  <a:pt x="1563" y="15304"/>
                </a:cubicBezTo>
                <a:cubicBezTo>
                  <a:pt x="1616" y="15370"/>
                  <a:pt x="1712" y="15354"/>
                  <a:pt x="1786" y="15354"/>
                </a:cubicBezTo>
                <a:cubicBezTo>
                  <a:pt x="1794" y="15354"/>
                  <a:pt x="1803" y="15354"/>
                  <a:pt x="1811" y="15354"/>
                </a:cubicBezTo>
              </a:path>
              <a:path w="2258" h="5434">
                <a:moveTo>
                  <a:pt x="1588" y="15577"/>
                </a:moveTo>
                <a:cubicBezTo>
                  <a:pt x="1682" y="15629"/>
                  <a:pt x="1703" y="15627"/>
                  <a:pt x="1811" y="15627"/>
                </a:cubicBezTo>
              </a:path>
              <a:path w="2258" h="5434">
                <a:moveTo>
                  <a:pt x="1736" y="15701"/>
                </a:moveTo>
                <a:cubicBezTo>
                  <a:pt x="1851" y="15750"/>
                  <a:pt x="1833" y="15764"/>
                  <a:pt x="1935" y="15726"/>
                </a:cubicBezTo>
              </a:path>
              <a:path w="2258" h="5434">
                <a:moveTo>
                  <a:pt x="2332" y="15230"/>
                </a:moveTo>
                <a:cubicBezTo>
                  <a:pt x="2325" y="15318"/>
                  <a:pt x="2296" y="15395"/>
                  <a:pt x="2282" y="15478"/>
                </a:cubicBezTo>
                <a:cubicBezTo>
                  <a:pt x="2270" y="15548"/>
                  <a:pt x="2282" y="15629"/>
                  <a:pt x="2282" y="15701"/>
                </a:cubicBezTo>
              </a:path>
              <a:path w="2258" h="5434">
                <a:moveTo>
                  <a:pt x="868" y="15354"/>
                </a:moveTo>
                <a:cubicBezTo>
                  <a:pt x="868" y="15462"/>
                  <a:pt x="888" y="15549"/>
                  <a:pt x="893" y="15652"/>
                </a:cubicBezTo>
                <a:cubicBezTo>
                  <a:pt x="896" y="15710"/>
                  <a:pt x="890" y="15729"/>
                  <a:pt x="918" y="15776"/>
                </a:cubicBezTo>
                <a:cubicBezTo>
                  <a:pt x="918" y="15672"/>
                  <a:pt x="932" y="15579"/>
                  <a:pt x="943" y="15478"/>
                </a:cubicBezTo>
                <a:cubicBezTo>
                  <a:pt x="955" y="15367"/>
                  <a:pt x="933" y="15237"/>
                  <a:pt x="967" y="15131"/>
                </a:cubicBezTo>
                <a:cubicBezTo>
                  <a:pt x="994" y="15046"/>
                  <a:pt x="1062" y="15013"/>
                  <a:pt x="1141" y="15007"/>
                </a:cubicBezTo>
                <a:cubicBezTo>
                  <a:pt x="1212" y="15002"/>
                  <a:pt x="1269" y="15026"/>
                  <a:pt x="1339" y="15032"/>
                </a:cubicBezTo>
              </a:path>
              <a:path w="2258" h="5434">
                <a:moveTo>
                  <a:pt x="2158" y="15032"/>
                </a:moveTo>
                <a:cubicBezTo>
                  <a:pt x="2170" y="15146"/>
                  <a:pt x="2180" y="15262"/>
                  <a:pt x="2158" y="15379"/>
                </a:cubicBezTo>
                <a:cubicBezTo>
                  <a:pt x="2145" y="15447"/>
                  <a:pt x="2155" y="15565"/>
                  <a:pt x="2133" y="15627"/>
                </a:cubicBezTo>
                <a:cubicBezTo>
                  <a:pt x="2105" y="15655"/>
                  <a:pt x="2096" y="15668"/>
                  <a:pt x="2108" y="15701"/>
                </a:cubicBezTo>
                <a:cubicBezTo>
                  <a:pt x="2084" y="15618"/>
                  <a:pt x="2084" y="15541"/>
                  <a:pt x="2084" y="15453"/>
                </a:cubicBezTo>
                <a:cubicBezTo>
                  <a:pt x="2084" y="15363"/>
                  <a:pt x="2098" y="15287"/>
                  <a:pt x="2108" y="15205"/>
                </a:cubicBezTo>
                <a:cubicBezTo>
                  <a:pt x="2117" y="15132"/>
                  <a:pt x="2118" y="15047"/>
                  <a:pt x="2158" y="14982"/>
                </a:cubicBezTo>
                <a:cubicBezTo>
                  <a:pt x="2186" y="14936"/>
                  <a:pt x="2249" y="14869"/>
                  <a:pt x="2307" y="14883"/>
                </a:cubicBezTo>
                <a:cubicBezTo>
                  <a:pt x="2376" y="14899"/>
                  <a:pt x="2440" y="14924"/>
                  <a:pt x="2505" y="14957"/>
                </a:cubicBezTo>
              </a:path>
              <a:path w="2258" h="5434">
                <a:moveTo>
                  <a:pt x="1960" y="14908"/>
                </a:moveTo>
                <a:cubicBezTo>
                  <a:pt x="1940" y="15007"/>
                  <a:pt x="1932" y="15022"/>
                  <a:pt x="1935" y="15081"/>
                </a:cubicBezTo>
              </a:path>
              <a:path w="2258" h="5434">
                <a:moveTo>
                  <a:pt x="1885" y="15007"/>
                </a:moveTo>
                <a:cubicBezTo>
                  <a:pt x="1962" y="15026"/>
                  <a:pt x="1979" y="15019"/>
                  <a:pt x="2009" y="15056"/>
                </a:cubicBezTo>
              </a:path>
              <a:path w="2258" h="5434">
                <a:moveTo>
                  <a:pt x="1860" y="15205"/>
                </a:moveTo>
                <a:cubicBezTo>
                  <a:pt x="1940" y="15249"/>
                  <a:pt x="1929" y="15255"/>
                  <a:pt x="2009" y="15255"/>
                </a:cubicBezTo>
              </a:path>
              <a:path w="2258" h="5434">
                <a:moveTo>
                  <a:pt x="1463" y="15999"/>
                </a:moveTo>
                <a:cubicBezTo>
                  <a:pt x="1472" y="16093"/>
                  <a:pt x="1502" y="16178"/>
                  <a:pt x="1513" y="16272"/>
                </a:cubicBezTo>
                <a:cubicBezTo>
                  <a:pt x="1525" y="16378"/>
                  <a:pt x="1554" y="16467"/>
                  <a:pt x="1588" y="16570"/>
                </a:cubicBezTo>
                <a:cubicBezTo>
                  <a:pt x="1620" y="16667"/>
                  <a:pt x="1671" y="16742"/>
                  <a:pt x="1736" y="16818"/>
                </a:cubicBezTo>
              </a:path>
              <a:path w="2258" h="5434">
                <a:moveTo>
                  <a:pt x="1662" y="16123"/>
                </a:moveTo>
                <a:cubicBezTo>
                  <a:pt x="1594" y="16235"/>
                  <a:pt x="1496" y="16356"/>
                  <a:pt x="1439" y="16470"/>
                </a:cubicBezTo>
                <a:cubicBezTo>
                  <a:pt x="1406" y="16536"/>
                  <a:pt x="1389" y="16597"/>
                  <a:pt x="1389" y="16669"/>
                </a:cubicBezTo>
              </a:path>
              <a:path w="2258" h="5434">
                <a:moveTo>
                  <a:pt x="1860" y="16272"/>
                </a:moveTo>
                <a:cubicBezTo>
                  <a:pt x="1944" y="16272"/>
                  <a:pt x="2005" y="16287"/>
                  <a:pt x="2084" y="16297"/>
                </a:cubicBezTo>
              </a:path>
              <a:path w="2258" h="5434">
                <a:moveTo>
                  <a:pt x="1811" y="16470"/>
                </a:moveTo>
                <a:cubicBezTo>
                  <a:pt x="1941" y="16582"/>
                  <a:pt x="1890" y="16585"/>
                  <a:pt x="2034" y="16545"/>
                </a:cubicBezTo>
              </a:path>
              <a:path w="2258" h="5434">
                <a:moveTo>
                  <a:pt x="2456" y="15999"/>
                </a:moveTo>
                <a:cubicBezTo>
                  <a:pt x="2428" y="16074"/>
                  <a:pt x="2416" y="16166"/>
                  <a:pt x="2406" y="16247"/>
                </a:cubicBezTo>
                <a:cubicBezTo>
                  <a:pt x="2401" y="16287"/>
                  <a:pt x="2406" y="16331"/>
                  <a:pt x="2406" y="16371"/>
                </a:cubicBezTo>
              </a:path>
              <a:path w="2258" h="5434">
                <a:moveTo>
                  <a:pt x="2232" y="16247"/>
                </a:moveTo>
                <a:cubicBezTo>
                  <a:pt x="2312" y="16254"/>
                  <a:pt x="2374" y="16272"/>
                  <a:pt x="2456" y="16272"/>
                </a:cubicBezTo>
                <a:cubicBezTo>
                  <a:pt x="2489" y="16272"/>
                  <a:pt x="2522" y="16272"/>
                  <a:pt x="2555" y="16272"/>
                </a:cubicBezTo>
              </a:path>
              <a:path w="2258" h="5434">
                <a:moveTo>
                  <a:pt x="2282" y="16570"/>
                </a:moveTo>
                <a:cubicBezTo>
                  <a:pt x="2407" y="16581"/>
                  <a:pt x="2444" y="16582"/>
                  <a:pt x="2555" y="16570"/>
                </a:cubicBezTo>
              </a:path>
              <a:path w="2258" h="5434">
                <a:moveTo>
                  <a:pt x="3026" y="16049"/>
                </a:moveTo>
                <a:cubicBezTo>
                  <a:pt x="3019" y="16183"/>
                  <a:pt x="3001" y="16311"/>
                  <a:pt x="3001" y="16446"/>
                </a:cubicBezTo>
                <a:cubicBezTo>
                  <a:pt x="3001" y="16520"/>
                  <a:pt x="3001" y="16595"/>
                  <a:pt x="3001" y="16669"/>
                </a:cubicBezTo>
              </a:path>
              <a:path w="2258" h="5434">
                <a:moveTo>
                  <a:pt x="3076" y="15677"/>
                </a:moveTo>
                <a:cubicBezTo>
                  <a:pt x="3005" y="15687"/>
                  <a:pt x="2983" y="15696"/>
                  <a:pt x="2902" y="15677"/>
                </a:cubicBezTo>
                <a:cubicBezTo>
                  <a:pt x="2813" y="15656"/>
                  <a:pt x="2740" y="15626"/>
                  <a:pt x="2654" y="15602"/>
                </a:cubicBezTo>
                <a:cubicBezTo>
                  <a:pt x="2589" y="15584"/>
                  <a:pt x="2497" y="15562"/>
                  <a:pt x="2431" y="15553"/>
                </a:cubicBezTo>
                <a:cubicBezTo>
                  <a:pt x="2340" y="15541"/>
                  <a:pt x="2248" y="15512"/>
                  <a:pt x="2158" y="15503"/>
                </a:cubicBezTo>
                <a:cubicBezTo>
                  <a:pt x="1991" y="15486"/>
                  <a:pt x="1826" y="15514"/>
                  <a:pt x="1662" y="15528"/>
                </a:cubicBezTo>
                <a:cubicBezTo>
                  <a:pt x="1582" y="15535"/>
                  <a:pt x="1515" y="15534"/>
                  <a:pt x="1439" y="15553"/>
                </a:cubicBezTo>
                <a:cubicBezTo>
                  <a:pt x="1393" y="15564"/>
                  <a:pt x="1351" y="15587"/>
                  <a:pt x="1315" y="15627"/>
                </a:cubicBezTo>
                <a:cubicBezTo>
                  <a:pt x="1240" y="15711"/>
                  <a:pt x="1236" y="15758"/>
                  <a:pt x="1215" y="15875"/>
                </a:cubicBezTo>
                <a:cubicBezTo>
                  <a:pt x="1202" y="15944"/>
                  <a:pt x="1184" y="16029"/>
                  <a:pt x="1166" y="16098"/>
                </a:cubicBezTo>
                <a:cubicBezTo>
                  <a:pt x="1144" y="16180"/>
                  <a:pt x="1137" y="16265"/>
                  <a:pt x="1116" y="16346"/>
                </a:cubicBezTo>
                <a:cubicBezTo>
                  <a:pt x="1091" y="16444"/>
                  <a:pt x="1085" y="16521"/>
                  <a:pt x="1067" y="16619"/>
                </a:cubicBezTo>
                <a:cubicBezTo>
                  <a:pt x="1049" y="16718"/>
                  <a:pt x="1024" y="16816"/>
                  <a:pt x="1017" y="16917"/>
                </a:cubicBezTo>
                <a:cubicBezTo>
                  <a:pt x="1015" y="16953"/>
                  <a:pt x="1012" y="17121"/>
                  <a:pt x="1042" y="17140"/>
                </a:cubicBezTo>
                <a:cubicBezTo>
                  <a:pt x="1106" y="17182"/>
                  <a:pt x="1381" y="17158"/>
                  <a:pt x="1463" y="17165"/>
                </a:cubicBezTo>
                <a:cubicBezTo>
                  <a:pt x="1548" y="17173"/>
                  <a:pt x="1627" y="17187"/>
                  <a:pt x="1712" y="17190"/>
                </a:cubicBezTo>
                <a:cubicBezTo>
                  <a:pt x="1822" y="17194"/>
                  <a:pt x="1926" y="17227"/>
                  <a:pt x="2034" y="17239"/>
                </a:cubicBezTo>
                <a:cubicBezTo>
                  <a:pt x="2149" y="17251"/>
                  <a:pt x="2267" y="17253"/>
                  <a:pt x="2381" y="17264"/>
                </a:cubicBezTo>
                <a:cubicBezTo>
                  <a:pt x="2487" y="17275"/>
                  <a:pt x="2598" y="17286"/>
                  <a:pt x="2704" y="17289"/>
                </a:cubicBezTo>
                <a:cubicBezTo>
                  <a:pt x="2785" y="17291"/>
                  <a:pt x="2850" y="17307"/>
                  <a:pt x="2927" y="17314"/>
                </a:cubicBezTo>
                <a:cubicBezTo>
                  <a:pt x="2977" y="17314"/>
                  <a:pt x="2993" y="17314"/>
                  <a:pt x="3026" y="17314"/>
                </a:cubicBezTo>
                <a:cubicBezTo>
                  <a:pt x="3038" y="17263"/>
                  <a:pt x="3041" y="17200"/>
                  <a:pt x="3051" y="17140"/>
                </a:cubicBezTo>
                <a:cubicBezTo>
                  <a:pt x="3068" y="17043"/>
                  <a:pt x="3092" y="16946"/>
                  <a:pt x="3101" y="16842"/>
                </a:cubicBezTo>
                <a:cubicBezTo>
                  <a:pt x="3111" y="16716"/>
                  <a:pt x="3125" y="16598"/>
                  <a:pt x="3125" y="16470"/>
                </a:cubicBezTo>
                <a:cubicBezTo>
                  <a:pt x="3125" y="16277"/>
                  <a:pt x="3119" y="16090"/>
                  <a:pt x="3101" y="15900"/>
                </a:cubicBezTo>
                <a:cubicBezTo>
                  <a:pt x="3092" y="15805"/>
                  <a:pt x="3080" y="15718"/>
                  <a:pt x="3051" y="15627"/>
                </a:cubicBezTo>
                <a:cubicBezTo>
                  <a:pt x="3023" y="15538"/>
                  <a:pt x="3020" y="15528"/>
                  <a:pt x="2977" y="154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8" name="Ink 7"/>
          <p:cNvSpPr/>
          <p:nvPr/>
        </p:nvSpPr>
        <p:spPr>
          <a:xfrm>
            <a:off x="1768320" y="3857760"/>
            <a:ext cx="714600" cy="795240"/>
          </a:xfrm>
          <a:custGeom>
            <a:avLst/>
            <a:gdLst/>
            <a:ahLst/>
            <a:rect l="l" t="t" r="r" b="b"/>
            <a:pathLst>
              <a:path w="1986" h="2208">
                <a:moveTo>
                  <a:pt x="4911" y="10964"/>
                </a:moveTo>
                <a:cubicBezTo>
                  <a:pt x="4911" y="11057"/>
                  <a:pt x="4929" y="11125"/>
                  <a:pt x="4961" y="11212"/>
                </a:cubicBezTo>
                <a:cubicBezTo>
                  <a:pt x="5011" y="11349"/>
                  <a:pt x="5087" y="11448"/>
                  <a:pt x="5184" y="11559"/>
                </a:cubicBezTo>
                <a:cubicBezTo>
                  <a:pt x="5237" y="11620"/>
                  <a:pt x="5334" y="11727"/>
                  <a:pt x="5407" y="11757"/>
                </a:cubicBezTo>
                <a:cubicBezTo>
                  <a:pt x="5449" y="11757"/>
                  <a:pt x="5457" y="11757"/>
                  <a:pt x="5482" y="11757"/>
                </a:cubicBezTo>
              </a:path>
              <a:path w="1986" h="2208">
                <a:moveTo>
                  <a:pt x="5259" y="10964"/>
                </a:moveTo>
                <a:cubicBezTo>
                  <a:pt x="5178" y="11102"/>
                  <a:pt x="5110" y="11212"/>
                  <a:pt x="5060" y="11361"/>
                </a:cubicBezTo>
                <a:cubicBezTo>
                  <a:pt x="5019" y="11482"/>
                  <a:pt x="4991" y="11551"/>
                  <a:pt x="4986" y="11683"/>
                </a:cubicBezTo>
                <a:cubicBezTo>
                  <a:pt x="4986" y="11724"/>
                  <a:pt x="4986" y="11732"/>
                  <a:pt x="4986" y="11757"/>
                </a:cubicBezTo>
              </a:path>
              <a:path w="1986" h="2208">
                <a:moveTo>
                  <a:pt x="5482" y="10740"/>
                </a:moveTo>
                <a:cubicBezTo>
                  <a:pt x="5527" y="10728"/>
                  <a:pt x="5611" y="10725"/>
                  <a:pt x="5581" y="10815"/>
                </a:cubicBezTo>
                <a:cubicBezTo>
                  <a:pt x="5560" y="10877"/>
                  <a:pt x="5491" y="10891"/>
                  <a:pt x="5457" y="10939"/>
                </a:cubicBezTo>
                <a:cubicBezTo>
                  <a:pt x="5416" y="10996"/>
                  <a:pt x="5380" y="11065"/>
                  <a:pt x="5482" y="11088"/>
                </a:cubicBezTo>
                <a:cubicBezTo>
                  <a:pt x="5539" y="11101"/>
                  <a:pt x="5620" y="11088"/>
                  <a:pt x="5680" y="11088"/>
                </a:cubicBezTo>
              </a:path>
              <a:path w="1986" h="2208">
                <a:moveTo>
                  <a:pt x="5581" y="11286"/>
                </a:moveTo>
                <a:cubicBezTo>
                  <a:pt x="5718" y="11286"/>
                  <a:pt x="5844" y="11288"/>
                  <a:pt x="5978" y="11261"/>
                </a:cubicBezTo>
              </a:path>
              <a:path w="1986" h="2208">
                <a:moveTo>
                  <a:pt x="6350" y="10939"/>
                </a:moveTo>
                <a:cubicBezTo>
                  <a:pt x="6342" y="11003"/>
                  <a:pt x="6339" y="11074"/>
                  <a:pt x="6325" y="11137"/>
                </a:cubicBezTo>
                <a:cubicBezTo>
                  <a:pt x="6306" y="11225"/>
                  <a:pt x="6300" y="11293"/>
                  <a:pt x="6300" y="11385"/>
                </a:cubicBezTo>
                <a:cubicBezTo>
                  <a:pt x="6300" y="11475"/>
                  <a:pt x="6301" y="11573"/>
                  <a:pt x="6325" y="11658"/>
                </a:cubicBezTo>
                <a:cubicBezTo>
                  <a:pt x="6341" y="11713"/>
                  <a:pt x="6363" y="11757"/>
                  <a:pt x="6375" y="11807"/>
                </a:cubicBezTo>
              </a:path>
              <a:path w="1986" h="2208">
                <a:moveTo>
                  <a:pt x="5035" y="12055"/>
                </a:moveTo>
                <a:cubicBezTo>
                  <a:pt x="5044" y="12132"/>
                  <a:pt x="5060" y="12199"/>
                  <a:pt x="5060" y="12278"/>
                </a:cubicBezTo>
                <a:cubicBezTo>
                  <a:pt x="5060" y="12384"/>
                  <a:pt x="5051" y="12477"/>
                  <a:pt x="5035" y="12576"/>
                </a:cubicBezTo>
                <a:cubicBezTo>
                  <a:pt x="5020" y="12671"/>
                  <a:pt x="5047" y="12759"/>
                  <a:pt x="5060" y="12849"/>
                </a:cubicBezTo>
                <a:cubicBezTo>
                  <a:pt x="5060" y="12890"/>
                  <a:pt x="5052" y="12906"/>
                  <a:pt x="5085" y="12898"/>
                </a:cubicBezTo>
              </a:path>
              <a:path w="1986" h="2208">
                <a:moveTo>
                  <a:pt x="5457" y="11956"/>
                </a:moveTo>
                <a:cubicBezTo>
                  <a:pt x="5457" y="12053"/>
                  <a:pt x="5444" y="12140"/>
                  <a:pt x="5432" y="12229"/>
                </a:cubicBezTo>
                <a:cubicBezTo>
                  <a:pt x="5418" y="12337"/>
                  <a:pt x="5453" y="12444"/>
                  <a:pt x="5457" y="12551"/>
                </a:cubicBezTo>
                <a:cubicBezTo>
                  <a:pt x="5460" y="12641"/>
                  <a:pt x="5479" y="12717"/>
                  <a:pt x="5507" y="12799"/>
                </a:cubicBezTo>
                <a:cubicBezTo>
                  <a:pt x="5528" y="12865"/>
                  <a:pt x="5536" y="12880"/>
                  <a:pt x="5531" y="12923"/>
                </a:cubicBezTo>
              </a:path>
              <a:path w="1986" h="2208">
                <a:moveTo>
                  <a:pt x="5110" y="12452"/>
                </a:moveTo>
                <a:cubicBezTo>
                  <a:pt x="5281" y="12465"/>
                  <a:pt x="5421" y="12470"/>
                  <a:pt x="5581" y="12502"/>
                </a:cubicBezTo>
              </a:path>
              <a:path w="1986" h="2208">
                <a:moveTo>
                  <a:pt x="6747" y="10840"/>
                </a:moveTo>
                <a:cubicBezTo>
                  <a:pt x="6854" y="11029"/>
                  <a:pt x="6913" y="11183"/>
                  <a:pt x="6896" y="11410"/>
                </a:cubicBezTo>
                <a:cubicBezTo>
                  <a:pt x="6887" y="11527"/>
                  <a:pt x="6865" y="11720"/>
                  <a:pt x="6772" y="11807"/>
                </a:cubicBezTo>
                <a:cubicBezTo>
                  <a:pt x="6726" y="11850"/>
                  <a:pt x="6654" y="11851"/>
                  <a:pt x="6598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9" name="Ink 8"/>
          <p:cNvSpPr/>
          <p:nvPr/>
        </p:nvSpPr>
        <p:spPr>
          <a:xfrm>
            <a:off x="196920" y="4749840"/>
            <a:ext cx="857160" cy="376200"/>
          </a:xfrm>
          <a:custGeom>
            <a:avLst/>
            <a:gdLst/>
            <a:ahLst/>
            <a:rect l="l" t="t" r="r" b="b"/>
            <a:pathLst>
              <a:path w="2382" h="1043">
                <a:moveTo>
                  <a:pt x="546" y="13519"/>
                </a:moveTo>
                <a:cubicBezTo>
                  <a:pt x="576" y="13568"/>
                  <a:pt x="585" y="13613"/>
                  <a:pt x="620" y="13667"/>
                </a:cubicBezTo>
                <a:cubicBezTo>
                  <a:pt x="675" y="13753"/>
                  <a:pt x="709" y="13834"/>
                  <a:pt x="769" y="13915"/>
                </a:cubicBezTo>
                <a:cubicBezTo>
                  <a:pt x="847" y="14020"/>
                  <a:pt x="965" y="14082"/>
                  <a:pt x="1042" y="14188"/>
                </a:cubicBezTo>
                <a:cubicBezTo>
                  <a:pt x="1085" y="14247"/>
                  <a:pt x="1069" y="14238"/>
                  <a:pt x="1141" y="14238"/>
                </a:cubicBezTo>
              </a:path>
              <a:path w="2382" h="1043">
                <a:moveTo>
                  <a:pt x="868" y="13519"/>
                </a:moveTo>
                <a:cubicBezTo>
                  <a:pt x="842" y="13628"/>
                  <a:pt x="808" y="13712"/>
                  <a:pt x="769" y="13816"/>
                </a:cubicBezTo>
                <a:cubicBezTo>
                  <a:pt x="753" y="13859"/>
                  <a:pt x="631" y="14048"/>
                  <a:pt x="645" y="14089"/>
                </a:cubicBezTo>
                <a:cubicBezTo>
                  <a:pt x="653" y="14081"/>
                  <a:pt x="662" y="14072"/>
                  <a:pt x="670" y="14064"/>
                </a:cubicBezTo>
              </a:path>
              <a:path w="2382" h="1043">
                <a:moveTo>
                  <a:pt x="918" y="13196"/>
                </a:moveTo>
                <a:cubicBezTo>
                  <a:pt x="993" y="13196"/>
                  <a:pt x="1015" y="13193"/>
                  <a:pt x="1067" y="13246"/>
                </a:cubicBezTo>
                <a:cubicBezTo>
                  <a:pt x="1124" y="13304"/>
                  <a:pt x="1088" y="13350"/>
                  <a:pt x="1042" y="13395"/>
                </a:cubicBezTo>
                <a:cubicBezTo>
                  <a:pt x="1004" y="13433"/>
                  <a:pt x="943" y="13495"/>
                  <a:pt x="992" y="13543"/>
                </a:cubicBezTo>
                <a:cubicBezTo>
                  <a:pt x="1032" y="13582"/>
                  <a:pt x="1096" y="13571"/>
                  <a:pt x="1141" y="13593"/>
                </a:cubicBezTo>
              </a:path>
              <a:path w="2382" h="1043">
                <a:moveTo>
                  <a:pt x="1141" y="13791"/>
                </a:moveTo>
                <a:cubicBezTo>
                  <a:pt x="1237" y="13827"/>
                  <a:pt x="1285" y="13814"/>
                  <a:pt x="1389" y="13791"/>
                </a:cubicBezTo>
              </a:path>
              <a:path w="2382" h="1043">
                <a:moveTo>
                  <a:pt x="1612" y="13444"/>
                </a:moveTo>
                <a:cubicBezTo>
                  <a:pt x="1595" y="13536"/>
                  <a:pt x="1568" y="13646"/>
                  <a:pt x="1588" y="13742"/>
                </a:cubicBezTo>
                <a:cubicBezTo>
                  <a:pt x="1603" y="13813"/>
                  <a:pt x="1615" y="13898"/>
                  <a:pt x="1637" y="13965"/>
                </a:cubicBezTo>
                <a:cubicBezTo>
                  <a:pt x="1653" y="14013"/>
                  <a:pt x="1663" y="14049"/>
                  <a:pt x="1687" y="14089"/>
                </a:cubicBezTo>
              </a:path>
              <a:path w="2382" h="1043">
                <a:moveTo>
                  <a:pt x="1860" y="13692"/>
                </a:moveTo>
                <a:cubicBezTo>
                  <a:pt x="1941" y="13670"/>
                  <a:pt x="2000" y="13667"/>
                  <a:pt x="2084" y="13667"/>
                </a:cubicBezTo>
              </a:path>
              <a:path w="2382" h="1043">
                <a:moveTo>
                  <a:pt x="1910" y="13866"/>
                </a:moveTo>
                <a:cubicBezTo>
                  <a:pt x="1954" y="13910"/>
                  <a:pt x="2017" y="13971"/>
                  <a:pt x="2084" y="13965"/>
                </a:cubicBezTo>
                <a:cubicBezTo>
                  <a:pt x="2109" y="13957"/>
                  <a:pt x="2133" y="13948"/>
                  <a:pt x="2158" y="13940"/>
                </a:cubicBezTo>
              </a:path>
              <a:path w="2382" h="1043">
                <a:moveTo>
                  <a:pt x="2555" y="13519"/>
                </a:moveTo>
                <a:cubicBezTo>
                  <a:pt x="2529" y="13602"/>
                  <a:pt x="2500" y="13662"/>
                  <a:pt x="2480" y="13742"/>
                </a:cubicBezTo>
                <a:cubicBezTo>
                  <a:pt x="2458" y="13827"/>
                  <a:pt x="2467" y="13868"/>
                  <a:pt x="2505" y="13940"/>
                </a:cubicBezTo>
                <a:cubicBezTo>
                  <a:pt x="2548" y="14021"/>
                  <a:pt x="2612" y="14028"/>
                  <a:pt x="2679" y="14064"/>
                </a:cubicBezTo>
                <a:cubicBezTo>
                  <a:pt x="2743" y="14098"/>
                  <a:pt x="2769" y="14091"/>
                  <a:pt x="2828" y="14039"/>
                </a:cubicBezTo>
                <a:cubicBezTo>
                  <a:pt x="2865" y="14006"/>
                  <a:pt x="2918" y="13915"/>
                  <a:pt x="2927" y="13866"/>
                </a:cubicBezTo>
                <a:cubicBezTo>
                  <a:pt x="2943" y="13776"/>
                  <a:pt x="2915" y="13720"/>
                  <a:pt x="2877" y="13643"/>
                </a:cubicBezTo>
                <a:cubicBezTo>
                  <a:pt x="2824" y="13537"/>
                  <a:pt x="2778" y="13457"/>
                  <a:pt x="2654" y="13444"/>
                </a:cubicBezTo>
                <a:cubicBezTo>
                  <a:pt x="2601" y="13438"/>
                  <a:pt x="2557" y="13462"/>
                  <a:pt x="2505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0" name="Ink 9"/>
          <p:cNvSpPr/>
          <p:nvPr/>
        </p:nvSpPr>
        <p:spPr>
          <a:xfrm>
            <a:off x="1616040" y="4884840"/>
            <a:ext cx="652320" cy="660240"/>
          </a:xfrm>
          <a:custGeom>
            <a:avLst/>
            <a:gdLst/>
            <a:ahLst/>
            <a:rect l="l" t="t" r="r" b="b"/>
            <a:pathLst>
              <a:path w="1811" h="1837">
                <a:moveTo>
                  <a:pt x="4490" y="13965"/>
                </a:moveTo>
                <a:cubicBezTo>
                  <a:pt x="4526" y="14029"/>
                  <a:pt x="4574" y="14077"/>
                  <a:pt x="4614" y="14139"/>
                </a:cubicBezTo>
                <a:cubicBezTo>
                  <a:pt x="4679" y="14239"/>
                  <a:pt x="4768" y="14314"/>
                  <a:pt x="4837" y="14412"/>
                </a:cubicBezTo>
                <a:cubicBezTo>
                  <a:pt x="4884" y="14478"/>
                  <a:pt x="4928" y="14528"/>
                  <a:pt x="4986" y="14585"/>
                </a:cubicBezTo>
              </a:path>
              <a:path w="1811" h="1837">
                <a:moveTo>
                  <a:pt x="5011" y="13841"/>
                </a:moveTo>
                <a:cubicBezTo>
                  <a:pt x="4981" y="13945"/>
                  <a:pt x="4956" y="14035"/>
                  <a:pt x="4936" y="14139"/>
                </a:cubicBezTo>
                <a:cubicBezTo>
                  <a:pt x="4907" y="14292"/>
                  <a:pt x="4906" y="14432"/>
                  <a:pt x="4887" y="14585"/>
                </a:cubicBezTo>
                <a:cubicBezTo>
                  <a:pt x="4868" y="14732"/>
                  <a:pt x="4882" y="14885"/>
                  <a:pt x="4862" y="15032"/>
                </a:cubicBezTo>
                <a:cubicBezTo>
                  <a:pt x="4849" y="15130"/>
                  <a:pt x="4862" y="15260"/>
                  <a:pt x="4837" y="15354"/>
                </a:cubicBezTo>
                <a:cubicBezTo>
                  <a:pt x="4812" y="15404"/>
                  <a:pt x="4804" y="15421"/>
                  <a:pt x="4837" y="15354"/>
                </a:cubicBezTo>
              </a:path>
              <a:path w="1811" h="1837">
                <a:moveTo>
                  <a:pt x="5209" y="13965"/>
                </a:moveTo>
                <a:cubicBezTo>
                  <a:pt x="5355" y="13930"/>
                  <a:pt x="5394" y="13940"/>
                  <a:pt x="5531" y="13940"/>
                </a:cubicBezTo>
              </a:path>
              <a:path w="1811" h="1837">
                <a:moveTo>
                  <a:pt x="5308" y="14213"/>
                </a:moveTo>
                <a:cubicBezTo>
                  <a:pt x="5371" y="14239"/>
                  <a:pt x="5441" y="14275"/>
                  <a:pt x="5507" y="14288"/>
                </a:cubicBezTo>
              </a:path>
              <a:path w="1811" h="1837">
                <a:moveTo>
                  <a:pt x="5829" y="13742"/>
                </a:moveTo>
                <a:cubicBezTo>
                  <a:pt x="5806" y="13802"/>
                  <a:pt x="5782" y="13853"/>
                  <a:pt x="5779" y="13915"/>
                </a:cubicBezTo>
                <a:cubicBezTo>
                  <a:pt x="5775" y="14008"/>
                  <a:pt x="5774" y="14099"/>
                  <a:pt x="5804" y="14188"/>
                </a:cubicBezTo>
                <a:cubicBezTo>
                  <a:pt x="5838" y="14291"/>
                  <a:pt x="5926" y="14309"/>
                  <a:pt x="6003" y="14362"/>
                </a:cubicBezTo>
                <a:cubicBezTo>
                  <a:pt x="6048" y="14393"/>
                  <a:pt x="6132" y="14414"/>
                  <a:pt x="6176" y="14362"/>
                </a:cubicBezTo>
                <a:cubicBezTo>
                  <a:pt x="6214" y="14316"/>
                  <a:pt x="6254" y="14244"/>
                  <a:pt x="6276" y="14188"/>
                </a:cubicBezTo>
                <a:cubicBezTo>
                  <a:pt x="6305" y="14112"/>
                  <a:pt x="6315" y="13997"/>
                  <a:pt x="6300" y="13915"/>
                </a:cubicBezTo>
                <a:cubicBezTo>
                  <a:pt x="6283" y="13822"/>
                  <a:pt x="6235" y="13737"/>
                  <a:pt x="6176" y="13667"/>
                </a:cubicBezTo>
                <a:cubicBezTo>
                  <a:pt x="6124" y="13604"/>
                  <a:pt x="6057" y="13572"/>
                  <a:pt x="5978" y="13568"/>
                </a:cubicBezTo>
                <a:cubicBezTo>
                  <a:pt x="5881" y="13563"/>
                  <a:pt x="5851" y="13580"/>
                  <a:pt x="5779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1" name="Ink 10"/>
          <p:cNvSpPr/>
          <p:nvPr/>
        </p:nvSpPr>
        <p:spPr>
          <a:xfrm>
            <a:off x="3697200" y="5133960"/>
            <a:ext cx="669960" cy="457200"/>
          </a:xfrm>
          <a:custGeom>
            <a:avLst/>
            <a:gdLst/>
            <a:ahLst/>
            <a:rect l="l" t="t" r="r" b="b"/>
            <a:pathLst>
              <a:path w="1861" h="1266">
                <a:moveTo>
                  <a:pt x="10294" y="14734"/>
                </a:moveTo>
                <a:cubicBezTo>
                  <a:pt x="10340" y="14780"/>
                  <a:pt x="10362" y="14829"/>
                  <a:pt x="10393" y="14883"/>
                </a:cubicBezTo>
                <a:cubicBezTo>
                  <a:pt x="10416" y="14924"/>
                  <a:pt x="10457" y="15015"/>
                  <a:pt x="10468" y="15056"/>
                </a:cubicBezTo>
                <a:cubicBezTo>
                  <a:pt x="10484" y="15115"/>
                  <a:pt x="10485" y="15194"/>
                  <a:pt x="10492" y="15255"/>
                </a:cubicBezTo>
              </a:path>
              <a:path w="1861" h="1266">
                <a:moveTo>
                  <a:pt x="10641" y="14635"/>
                </a:moveTo>
                <a:cubicBezTo>
                  <a:pt x="10602" y="14742"/>
                  <a:pt x="10540" y="14831"/>
                  <a:pt x="10492" y="14932"/>
                </a:cubicBezTo>
                <a:cubicBezTo>
                  <a:pt x="10423" y="15078"/>
                  <a:pt x="10368" y="15226"/>
                  <a:pt x="10319" y="15379"/>
                </a:cubicBezTo>
                <a:cubicBezTo>
                  <a:pt x="10302" y="15429"/>
                  <a:pt x="10286" y="15478"/>
                  <a:pt x="10269" y="15528"/>
                </a:cubicBezTo>
              </a:path>
              <a:path w="1861" h="1266">
                <a:moveTo>
                  <a:pt x="10840" y="14858"/>
                </a:moveTo>
                <a:cubicBezTo>
                  <a:pt x="10939" y="14818"/>
                  <a:pt x="10962" y="14808"/>
                  <a:pt x="11063" y="14808"/>
                </a:cubicBezTo>
              </a:path>
              <a:path w="1861" h="1266">
                <a:moveTo>
                  <a:pt x="10914" y="15056"/>
                </a:moveTo>
                <a:cubicBezTo>
                  <a:pt x="10983" y="15091"/>
                  <a:pt x="11015" y="15071"/>
                  <a:pt x="11088" y="15056"/>
                </a:cubicBezTo>
              </a:path>
              <a:path w="1861" h="1266">
                <a:moveTo>
                  <a:pt x="11485" y="14263"/>
                </a:moveTo>
                <a:cubicBezTo>
                  <a:pt x="11485" y="14355"/>
                  <a:pt x="11464" y="14422"/>
                  <a:pt x="11460" y="14511"/>
                </a:cubicBezTo>
                <a:cubicBezTo>
                  <a:pt x="11458" y="14562"/>
                  <a:pt x="11446" y="14567"/>
                  <a:pt x="11435" y="14610"/>
                </a:cubicBezTo>
              </a:path>
              <a:path w="1861" h="1266">
                <a:moveTo>
                  <a:pt x="11336" y="14486"/>
                </a:moveTo>
                <a:cubicBezTo>
                  <a:pt x="11393" y="14428"/>
                  <a:pt x="11442" y="14441"/>
                  <a:pt x="11509" y="14412"/>
                </a:cubicBezTo>
                <a:cubicBezTo>
                  <a:pt x="11555" y="14392"/>
                  <a:pt x="11563" y="14405"/>
                  <a:pt x="11609" y="14387"/>
                </a:cubicBezTo>
              </a:path>
              <a:path w="1861" h="1266">
                <a:moveTo>
                  <a:pt x="11435" y="14784"/>
                </a:moveTo>
                <a:cubicBezTo>
                  <a:pt x="11493" y="14784"/>
                  <a:pt x="11551" y="14784"/>
                  <a:pt x="11609" y="14784"/>
                </a:cubicBezTo>
              </a:path>
              <a:path w="1861" h="1266">
                <a:moveTo>
                  <a:pt x="11832" y="14436"/>
                </a:moveTo>
                <a:cubicBezTo>
                  <a:pt x="11806" y="14528"/>
                  <a:pt x="11785" y="14626"/>
                  <a:pt x="11757" y="14709"/>
                </a:cubicBezTo>
                <a:cubicBezTo>
                  <a:pt x="11730" y="14787"/>
                  <a:pt x="11715" y="14839"/>
                  <a:pt x="11807" y="14808"/>
                </a:cubicBezTo>
                <a:cubicBezTo>
                  <a:pt x="11883" y="14782"/>
                  <a:pt x="11903" y="14762"/>
                  <a:pt x="11956" y="14709"/>
                </a:cubicBezTo>
              </a:path>
              <a:path w="1861" h="1266">
                <a:moveTo>
                  <a:pt x="12129" y="14312"/>
                </a:moveTo>
                <a:cubicBezTo>
                  <a:pt x="12090" y="14478"/>
                  <a:pt x="12061" y="14639"/>
                  <a:pt x="12030" y="14808"/>
                </a:cubicBezTo>
                <a:cubicBezTo>
                  <a:pt x="11995" y="14998"/>
                  <a:pt x="11965" y="15186"/>
                  <a:pt x="11956" y="153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2" name="Ink 11"/>
          <p:cNvSpPr/>
          <p:nvPr/>
        </p:nvSpPr>
        <p:spPr>
          <a:xfrm>
            <a:off x="3483000" y="4037040"/>
            <a:ext cx="1027080" cy="1079640"/>
          </a:xfrm>
          <a:custGeom>
            <a:avLst/>
            <a:gdLst/>
            <a:ahLst/>
            <a:rect l="l" t="t" r="r" b="b"/>
            <a:pathLst>
              <a:path w="2853" h="3002">
                <a:moveTo>
                  <a:pt x="11410" y="11361"/>
                </a:moveTo>
                <a:cubicBezTo>
                  <a:pt x="11444" y="11416"/>
                  <a:pt x="11456" y="11489"/>
                  <a:pt x="11460" y="11559"/>
                </a:cubicBezTo>
                <a:cubicBezTo>
                  <a:pt x="11465" y="11655"/>
                  <a:pt x="11455" y="11737"/>
                  <a:pt x="11485" y="11832"/>
                </a:cubicBezTo>
                <a:cubicBezTo>
                  <a:pt x="11509" y="11907"/>
                  <a:pt x="11527" y="11980"/>
                  <a:pt x="11559" y="12055"/>
                </a:cubicBezTo>
                <a:cubicBezTo>
                  <a:pt x="11588" y="12121"/>
                  <a:pt x="11588" y="12188"/>
                  <a:pt x="11609" y="12254"/>
                </a:cubicBezTo>
                <a:cubicBezTo>
                  <a:pt x="11627" y="12309"/>
                  <a:pt x="11635" y="12381"/>
                  <a:pt x="11658" y="12427"/>
                </a:cubicBezTo>
                <a:cubicBezTo>
                  <a:pt x="11683" y="12452"/>
                  <a:pt x="11691" y="12460"/>
                  <a:pt x="11708" y="12477"/>
                </a:cubicBezTo>
                <a:cubicBezTo>
                  <a:pt x="11781" y="12418"/>
                  <a:pt x="11785" y="12392"/>
                  <a:pt x="11832" y="12303"/>
                </a:cubicBezTo>
                <a:cubicBezTo>
                  <a:pt x="11870" y="12231"/>
                  <a:pt x="11903" y="12155"/>
                  <a:pt x="11931" y="12080"/>
                </a:cubicBezTo>
                <a:cubicBezTo>
                  <a:pt x="11996" y="11909"/>
                  <a:pt x="12041" y="11733"/>
                  <a:pt x="12080" y="11559"/>
                </a:cubicBezTo>
                <a:cubicBezTo>
                  <a:pt x="12096" y="11487"/>
                  <a:pt x="12125" y="11402"/>
                  <a:pt x="12154" y="11336"/>
                </a:cubicBezTo>
                <a:cubicBezTo>
                  <a:pt x="12175" y="11289"/>
                  <a:pt x="12197" y="11251"/>
                  <a:pt x="12229" y="11212"/>
                </a:cubicBezTo>
              </a:path>
              <a:path w="2853" h="3002">
                <a:moveTo>
                  <a:pt x="9674" y="13295"/>
                </a:moveTo>
                <a:cubicBezTo>
                  <a:pt x="9703" y="13343"/>
                  <a:pt x="9718" y="13388"/>
                  <a:pt x="9748" y="13444"/>
                </a:cubicBezTo>
                <a:cubicBezTo>
                  <a:pt x="9786" y="13515"/>
                  <a:pt x="9812" y="13588"/>
                  <a:pt x="9823" y="13667"/>
                </a:cubicBezTo>
                <a:cubicBezTo>
                  <a:pt x="9836" y="13756"/>
                  <a:pt x="9843" y="13851"/>
                  <a:pt x="9847" y="13940"/>
                </a:cubicBezTo>
                <a:cubicBezTo>
                  <a:pt x="9850" y="14002"/>
                  <a:pt x="9831" y="14062"/>
                  <a:pt x="9872" y="14089"/>
                </a:cubicBezTo>
              </a:path>
              <a:path w="2853" h="3002">
                <a:moveTo>
                  <a:pt x="9922" y="13221"/>
                </a:moveTo>
                <a:cubicBezTo>
                  <a:pt x="9913" y="13338"/>
                  <a:pt x="9878" y="13431"/>
                  <a:pt x="9847" y="13543"/>
                </a:cubicBezTo>
                <a:cubicBezTo>
                  <a:pt x="9815" y="13659"/>
                  <a:pt x="9782" y="13775"/>
                  <a:pt x="9748" y="13891"/>
                </a:cubicBezTo>
                <a:cubicBezTo>
                  <a:pt x="9716" y="14000"/>
                  <a:pt x="9688" y="14105"/>
                  <a:pt x="9674" y="14213"/>
                </a:cubicBezTo>
              </a:path>
              <a:path w="2853" h="3002">
                <a:moveTo>
                  <a:pt x="9996" y="13097"/>
                </a:moveTo>
                <a:cubicBezTo>
                  <a:pt x="10024" y="13062"/>
                  <a:pt x="10093" y="12963"/>
                  <a:pt x="10145" y="12948"/>
                </a:cubicBezTo>
                <a:cubicBezTo>
                  <a:pt x="10223" y="12926"/>
                  <a:pt x="10266" y="12947"/>
                  <a:pt x="10269" y="13022"/>
                </a:cubicBezTo>
                <a:cubicBezTo>
                  <a:pt x="10273" y="13118"/>
                  <a:pt x="10233" y="13208"/>
                  <a:pt x="10195" y="13295"/>
                </a:cubicBezTo>
                <a:cubicBezTo>
                  <a:pt x="10179" y="13332"/>
                  <a:pt x="10096" y="13441"/>
                  <a:pt x="10170" y="13469"/>
                </a:cubicBezTo>
                <a:cubicBezTo>
                  <a:pt x="10203" y="13482"/>
                  <a:pt x="10260" y="13449"/>
                  <a:pt x="10294" y="13444"/>
                </a:cubicBezTo>
              </a:path>
              <a:path w="2853" h="3002">
                <a:moveTo>
                  <a:pt x="10468" y="13593"/>
                </a:moveTo>
                <a:cubicBezTo>
                  <a:pt x="10532" y="13560"/>
                  <a:pt x="10569" y="13543"/>
                  <a:pt x="10641" y="13543"/>
                </a:cubicBezTo>
              </a:path>
              <a:path w="2853" h="3002">
                <a:moveTo>
                  <a:pt x="10964" y="13221"/>
                </a:moveTo>
                <a:cubicBezTo>
                  <a:pt x="10939" y="13360"/>
                  <a:pt x="10908" y="13485"/>
                  <a:pt x="10864" y="13618"/>
                </a:cubicBezTo>
                <a:cubicBezTo>
                  <a:pt x="10838" y="13698"/>
                  <a:pt x="10829" y="13784"/>
                  <a:pt x="10815" y="13866"/>
                </a:cubicBezTo>
              </a:path>
              <a:path w="2853" h="3002">
                <a:moveTo>
                  <a:pt x="11261" y="13047"/>
                </a:moveTo>
                <a:cubicBezTo>
                  <a:pt x="11261" y="13162"/>
                  <a:pt x="11227" y="13234"/>
                  <a:pt x="11212" y="13345"/>
                </a:cubicBezTo>
                <a:cubicBezTo>
                  <a:pt x="11194" y="13473"/>
                  <a:pt x="11162" y="13585"/>
                  <a:pt x="11162" y="13717"/>
                </a:cubicBezTo>
                <a:cubicBezTo>
                  <a:pt x="11162" y="13742"/>
                  <a:pt x="11162" y="13766"/>
                  <a:pt x="11162" y="13791"/>
                </a:cubicBezTo>
                <a:cubicBezTo>
                  <a:pt x="11223" y="13784"/>
                  <a:pt x="11274" y="13774"/>
                  <a:pt x="11311" y="13717"/>
                </a:cubicBezTo>
                <a:cubicBezTo>
                  <a:pt x="11345" y="13664"/>
                  <a:pt x="11432" y="13564"/>
                  <a:pt x="11410" y="13494"/>
                </a:cubicBezTo>
                <a:cubicBezTo>
                  <a:pt x="11402" y="13486"/>
                  <a:pt x="11393" y="13477"/>
                  <a:pt x="11385" y="13469"/>
                </a:cubicBezTo>
                <a:cubicBezTo>
                  <a:pt x="11337" y="13508"/>
                  <a:pt x="11273" y="13547"/>
                  <a:pt x="11237" y="13593"/>
                </a:cubicBezTo>
                <a:cubicBezTo>
                  <a:pt x="11210" y="13627"/>
                  <a:pt x="11156" y="13752"/>
                  <a:pt x="11162" y="13791"/>
                </a:cubicBezTo>
                <a:cubicBezTo>
                  <a:pt x="11187" y="13816"/>
                  <a:pt x="11195" y="13824"/>
                  <a:pt x="11212" y="13841"/>
                </a:cubicBezTo>
              </a:path>
              <a:path w="2853" h="3002">
                <a:moveTo>
                  <a:pt x="11658" y="13271"/>
                </a:moveTo>
                <a:cubicBezTo>
                  <a:pt x="11752" y="13231"/>
                  <a:pt x="11747" y="13221"/>
                  <a:pt x="11832" y="13221"/>
                </a:cubicBezTo>
              </a:path>
              <a:path w="2853" h="3002">
                <a:moveTo>
                  <a:pt x="11683" y="13444"/>
                </a:moveTo>
                <a:cubicBezTo>
                  <a:pt x="11766" y="13444"/>
                  <a:pt x="11807" y="13432"/>
                  <a:pt x="11881" y="13395"/>
                </a:cubicBezTo>
              </a:path>
              <a:path w="2853" h="3002">
                <a:moveTo>
                  <a:pt x="12204" y="12973"/>
                </a:moveTo>
                <a:cubicBezTo>
                  <a:pt x="12204" y="13064"/>
                  <a:pt x="12171" y="13109"/>
                  <a:pt x="12154" y="13196"/>
                </a:cubicBezTo>
                <a:cubicBezTo>
                  <a:pt x="12138" y="13279"/>
                  <a:pt x="12129" y="13358"/>
                  <a:pt x="12129" y="13444"/>
                </a:cubicBezTo>
                <a:cubicBezTo>
                  <a:pt x="12129" y="13499"/>
                  <a:pt x="12130" y="13622"/>
                  <a:pt x="12204" y="13643"/>
                </a:cubicBezTo>
                <a:cubicBezTo>
                  <a:pt x="12276" y="13664"/>
                  <a:pt x="12333" y="13613"/>
                  <a:pt x="12378" y="13568"/>
                </a:cubicBezTo>
                <a:cubicBezTo>
                  <a:pt x="12445" y="13501"/>
                  <a:pt x="12455" y="13454"/>
                  <a:pt x="12477" y="13370"/>
                </a:cubicBezTo>
                <a:cubicBezTo>
                  <a:pt x="12503" y="13271"/>
                  <a:pt x="12526" y="13201"/>
                  <a:pt x="12526" y="13097"/>
                </a:cubicBezTo>
                <a:cubicBezTo>
                  <a:pt x="12526" y="13010"/>
                  <a:pt x="12487" y="12917"/>
                  <a:pt x="12402" y="12874"/>
                </a:cubicBezTo>
                <a:cubicBezTo>
                  <a:pt x="12353" y="12849"/>
                  <a:pt x="12248" y="12879"/>
                  <a:pt x="12204" y="12898"/>
                </a:cubicBezTo>
                <a:cubicBezTo>
                  <a:pt x="12140" y="12930"/>
                  <a:pt x="12109" y="12942"/>
                  <a:pt x="12055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3" name="Ink 12"/>
          <p:cNvSpPr/>
          <p:nvPr/>
        </p:nvSpPr>
        <p:spPr>
          <a:xfrm>
            <a:off x="5099040" y="4000680"/>
            <a:ext cx="847800" cy="1482480"/>
          </a:xfrm>
          <a:custGeom>
            <a:avLst/>
            <a:gdLst/>
            <a:ahLst/>
            <a:rect l="l" t="t" r="r" b="b"/>
            <a:pathLst>
              <a:path w="2358" h="4119">
                <a:moveTo>
                  <a:pt x="14635" y="11261"/>
                </a:moveTo>
                <a:cubicBezTo>
                  <a:pt x="14606" y="11358"/>
                  <a:pt x="14604" y="11458"/>
                  <a:pt x="14585" y="11559"/>
                </a:cubicBezTo>
                <a:cubicBezTo>
                  <a:pt x="14560" y="11691"/>
                  <a:pt x="14545" y="11827"/>
                  <a:pt x="14511" y="11956"/>
                </a:cubicBezTo>
                <a:cubicBezTo>
                  <a:pt x="14485" y="12054"/>
                  <a:pt x="14465" y="12152"/>
                  <a:pt x="14461" y="12254"/>
                </a:cubicBezTo>
                <a:cubicBezTo>
                  <a:pt x="14459" y="12319"/>
                  <a:pt x="14455" y="12371"/>
                  <a:pt x="14486" y="12402"/>
                </a:cubicBezTo>
              </a:path>
              <a:path w="2358" h="4119">
                <a:moveTo>
                  <a:pt x="14982" y="11137"/>
                </a:moveTo>
                <a:cubicBezTo>
                  <a:pt x="14999" y="11129"/>
                  <a:pt x="15015" y="11120"/>
                  <a:pt x="15032" y="11112"/>
                </a:cubicBezTo>
                <a:cubicBezTo>
                  <a:pt x="15062" y="11196"/>
                  <a:pt x="15056" y="11270"/>
                  <a:pt x="15056" y="11361"/>
                </a:cubicBezTo>
                <a:cubicBezTo>
                  <a:pt x="15056" y="11522"/>
                  <a:pt x="15045" y="11675"/>
                  <a:pt x="15032" y="11832"/>
                </a:cubicBezTo>
                <a:cubicBezTo>
                  <a:pt x="15022" y="11950"/>
                  <a:pt x="14994" y="12063"/>
                  <a:pt x="14982" y="12179"/>
                </a:cubicBezTo>
                <a:cubicBezTo>
                  <a:pt x="14974" y="12256"/>
                  <a:pt x="14984" y="12282"/>
                  <a:pt x="14957" y="12353"/>
                </a:cubicBezTo>
              </a:path>
              <a:path w="2358" h="4119">
                <a:moveTo>
                  <a:pt x="14536" y="11782"/>
                </a:moveTo>
                <a:cubicBezTo>
                  <a:pt x="14619" y="11782"/>
                  <a:pt x="14683" y="11770"/>
                  <a:pt x="14759" y="11757"/>
                </a:cubicBezTo>
                <a:cubicBezTo>
                  <a:pt x="14839" y="11743"/>
                  <a:pt x="14929" y="11754"/>
                  <a:pt x="15007" y="11733"/>
                </a:cubicBezTo>
                <a:cubicBezTo>
                  <a:pt x="15079" y="11696"/>
                  <a:pt x="15120" y="11678"/>
                  <a:pt x="15180" y="11658"/>
                </a:cubicBezTo>
              </a:path>
              <a:path w="2358" h="4119">
                <a:moveTo>
                  <a:pt x="14163" y="13246"/>
                </a:moveTo>
                <a:cubicBezTo>
                  <a:pt x="14172" y="13314"/>
                  <a:pt x="14204" y="13378"/>
                  <a:pt x="14213" y="13444"/>
                </a:cubicBezTo>
                <a:cubicBezTo>
                  <a:pt x="14227" y="13550"/>
                  <a:pt x="14254" y="13639"/>
                  <a:pt x="14288" y="13742"/>
                </a:cubicBezTo>
                <a:cubicBezTo>
                  <a:pt x="14320" y="13838"/>
                  <a:pt x="14351" y="13940"/>
                  <a:pt x="14362" y="14039"/>
                </a:cubicBezTo>
                <a:cubicBezTo>
                  <a:pt x="14372" y="14125"/>
                  <a:pt x="14373" y="14206"/>
                  <a:pt x="14387" y="14288"/>
                </a:cubicBezTo>
                <a:cubicBezTo>
                  <a:pt x="14387" y="14332"/>
                  <a:pt x="14384" y="14346"/>
                  <a:pt x="14412" y="14362"/>
                </a:cubicBezTo>
              </a:path>
              <a:path w="2358" h="4119">
                <a:moveTo>
                  <a:pt x="14560" y="13519"/>
                </a:moveTo>
                <a:cubicBezTo>
                  <a:pt x="14512" y="13693"/>
                  <a:pt x="14470" y="13862"/>
                  <a:pt x="14436" y="14039"/>
                </a:cubicBezTo>
                <a:cubicBezTo>
                  <a:pt x="14401" y="14224"/>
                  <a:pt x="14349" y="14401"/>
                  <a:pt x="14312" y="14585"/>
                </a:cubicBezTo>
                <a:cubicBezTo>
                  <a:pt x="14274" y="14775"/>
                  <a:pt x="14204" y="14984"/>
                  <a:pt x="14238" y="15180"/>
                </a:cubicBezTo>
                <a:cubicBezTo>
                  <a:pt x="14246" y="15197"/>
                  <a:pt x="14255" y="15213"/>
                  <a:pt x="14263" y="15230"/>
                </a:cubicBezTo>
              </a:path>
              <a:path w="2358" h="4119">
                <a:moveTo>
                  <a:pt x="14858" y="13667"/>
                </a:moveTo>
                <a:cubicBezTo>
                  <a:pt x="14619" y="13441"/>
                  <a:pt x="14393" y="13208"/>
                  <a:pt x="14163" y="12973"/>
                </a:cubicBezTo>
                <a:cubicBezTo>
                  <a:pt x="15652" y="14382"/>
                  <a:pt x="14546" y="13381"/>
                  <a:pt x="14288" y="12998"/>
                </a:cubicBezTo>
                <a:cubicBezTo>
                  <a:pt x="14263" y="12948"/>
                  <a:pt x="14238" y="12899"/>
                  <a:pt x="14213" y="12849"/>
                </a:cubicBezTo>
                <a:cubicBezTo>
                  <a:pt x="14310" y="12953"/>
                  <a:pt x="15175" y="14078"/>
                  <a:pt x="14908" y="13419"/>
                </a:cubicBezTo>
                <a:cubicBezTo>
                  <a:pt x="14770" y="13080"/>
                  <a:pt x="14472" y="12693"/>
                  <a:pt x="15056" y="13593"/>
                </a:cubicBezTo>
                <a:cubicBezTo>
                  <a:pt x="15134" y="13713"/>
                  <a:pt x="15035" y="13469"/>
                  <a:pt x="15106" y="13593"/>
                </a:cubicBezTo>
              </a:path>
              <a:path w="2358" h="4119">
                <a:moveTo>
                  <a:pt x="14833" y="13990"/>
                </a:moveTo>
                <a:cubicBezTo>
                  <a:pt x="14898" y="13982"/>
                  <a:pt x="14953" y="13969"/>
                  <a:pt x="15007" y="13940"/>
                </a:cubicBezTo>
                <a:cubicBezTo>
                  <a:pt x="15063" y="13911"/>
                  <a:pt x="15087" y="13901"/>
                  <a:pt x="15131" y="13891"/>
                </a:cubicBezTo>
              </a:path>
              <a:path w="2358" h="4119">
                <a:moveTo>
                  <a:pt x="14709" y="13444"/>
                </a:moveTo>
                <a:cubicBezTo>
                  <a:pt x="14775" y="13510"/>
                  <a:pt x="14774" y="13483"/>
                  <a:pt x="14858" y="13469"/>
                </a:cubicBezTo>
                <a:cubicBezTo>
                  <a:pt x="14923" y="13458"/>
                  <a:pt x="15020" y="13466"/>
                  <a:pt x="15081" y="13444"/>
                </a:cubicBezTo>
                <a:cubicBezTo>
                  <a:pt x="15121" y="13429"/>
                  <a:pt x="15154" y="13429"/>
                  <a:pt x="15180" y="13469"/>
                </a:cubicBezTo>
              </a:path>
              <a:path w="2358" h="4119">
                <a:moveTo>
                  <a:pt x="14883" y="13816"/>
                </a:moveTo>
                <a:cubicBezTo>
                  <a:pt x="14965" y="13806"/>
                  <a:pt x="15000" y="13811"/>
                  <a:pt x="15081" y="13816"/>
                </a:cubicBezTo>
                <a:cubicBezTo>
                  <a:pt x="15137" y="13819"/>
                  <a:pt x="15150" y="13833"/>
                  <a:pt x="15205" y="13841"/>
                </a:cubicBezTo>
              </a:path>
              <a:path w="2358" h="4119">
                <a:moveTo>
                  <a:pt x="15627" y="12973"/>
                </a:moveTo>
                <a:cubicBezTo>
                  <a:pt x="15660" y="12912"/>
                  <a:pt x="15699" y="12820"/>
                  <a:pt x="15776" y="12799"/>
                </a:cubicBezTo>
                <a:cubicBezTo>
                  <a:pt x="15831" y="12784"/>
                  <a:pt x="15911" y="12754"/>
                  <a:pt x="15974" y="12774"/>
                </a:cubicBezTo>
                <a:cubicBezTo>
                  <a:pt x="15994" y="12780"/>
                  <a:pt x="16091" y="12858"/>
                  <a:pt x="16098" y="12874"/>
                </a:cubicBezTo>
                <a:cubicBezTo>
                  <a:pt x="16134" y="12960"/>
                  <a:pt x="16123" y="13055"/>
                  <a:pt x="16123" y="13146"/>
                </a:cubicBezTo>
                <a:cubicBezTo>
                  <a:pt x="16123" y="13245"/>
                  <a:pt x="16101" y="13349"/>
                  <a:pt x="16073" y="13444"/>
                </a:cubicBezTo>
                <a:cubicBezTo>
                  <a:pt x="16044" y="13544"/>
                  <a:pt x="15990" y="13624"/>
                  <a:pt x="15949" y="13717"/>
                </a:cubicBezTo>
                <a:cubicBezTo>
                  <a:pt x="15911" y="13804"/>
                  <a:pt x="15869" y="13880"/>
                  <a:pt x="15825" y="13965"/>
                </a:cubicBezTo>
                <a:cubicBezTo>
                  <a:pt x="15798" y="14018"/>
                  <a:pt x="15768" y="14047"/>
                  <a:pt x="15726" y="14089"/>
                </a:cubicBezTo>
                <a:cubicBezTo>
                  <a:pt x="15696" y="14119"/>
                  <a:pt x="15682" y="14130"/>
                  <a:pt x="15652" y="14139"/>
                </a:cubicBezTo>
                <a:cubicBezTo>
                  <a:pt x="15597" y="14070"/>
                  <a:pt x="15603" y="14001"/>
                  <a:pt x="15627" y="13915"/>
                </a:cubicBezTo>
                <a:cubicBezTo>
                  <a:pt x="15641" y="13866"/>
                  <a:pt x="15673" y="13778"/>
                  <a:pt x="15701" y="13742"/>
                </a:cubicBezTo>
                <a:cubicBezTo>
                  <a:pt x="15739" y="13694"/>
                  <a:pt x="15766" y="13671"/>
                  <a:pt x="15825" y="13667"/>
                </a:cubicBezTo>
                <a:cubicBezTo>
                  <a:pt x="15892" y="13663"/>
                  <a:pt x="15990" y="13664"/>
                  <a:pt x="16049" y="13692"/>
                </a:cubicBezTo>
                <a:cubicBezTo>
                  <a:pt x="16096" y="13714"/>
                  <a:pt x="16155" y="13746"/>
                  <a:pt x="16197" y="13767"/>
                </a:cubicBezTo>
                <a:cubicBezTo>
                  <a:pt x="16263" y="13799"/>
                  <a:pt x="16326" y="13836"/>
                  <a:pt x="16396" y="13866"/>
                </a:cubicBezTo>
                <a:cubicBezTo>
                  <a:pt x="16478" y="13901"/>
                  <a:pt x="16507" y="13873"/>
                  <a:pt x="16520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4" name="Ink 13"/>
          <p:cNvSpPr/>
          <p:nvPr/>
        </p:nvSpPr>
        <p:spPr>
          <a:xfrm>
            <a:off x="4741920" y="3510000"/>
            <a:ext cx="849240" cy="428760"/>
          </a:xfrm>
          <a:custGeom>
            <a:avLst/>
            <a:gdLst/>
            <a:ahLst/>
            <a:rect l="l" t="t" r="r" b="b"/>
            <a:pathLst>
              <a:path w="2358" h="1192">
                <a:moveTo>
                  <a:pt x="13246" y="10046"/>
                </a:moveTo>
                <a:cubicBezTo>
                  <a:pt x="13254" y="10119"/>
                  <a:pt x="13260" y="10151"/>
                  <a:pt x="13295" y="10220"/>
                </a:cubicBezTo>
                <a:cubicBezTo>
                  <a:pt x="13340" y="10310"/>
                  <a:pt x="13368" y="10421"/>
                  <a:pt x="13444" y="10492"/>
                </a:cubicBezTo>
                <a:cubicBezTo>
                  <a:pt x="13517" y="10560"/>
                  <a:pt x="13575" y="10637"/>
                  <a:pt x="13643" y="10716"/>
                </a:cubicBezTo>
                <a:cubicBezTo>
                  <a:pt x="13675" y="10753"/>
                  <a:pt x="13752" y="10874"/>
                  <a:pt x="13791" y="10889"/>
                </a:cubicBezTo>
                <a:cubicBezTo>
                  <a:pt x="13791" y="10881"/>
                  <a:pt x="13791" y="10872"/>
                  <a:pt x="13791" y="10864"/>
                </a:cubicBezTo>
              </a:path>
              <a:path w="2358" h="1192">
                <a:moveTo>
                  <a:pt x="13593" y="10046"/>
                </a:moveTo>
                <a:cubicBezTo>
                  <a:pt x="13610" y="10046"/>
                  <a:pt x="13626" y="10046"/>
                  <a:pt x="13643" y="10046"/>
                </a:cubicBezTo>
                <a:cubicBezTo>
                  <a:pt x="13602" y="10169"/>
                  <a:pt x="13569" y="10178"/>
                  <a:pt x="13494" y="10269"/>
                </a:cubicBezTo>
                <a:cubicBezTo>
                  <a:pt x="13401" y="10383"/>
                  <a:pt x="13352" y="10522"/>
                  <a:pt x="13271" y="10641"/>
                </a:cubicBezTo>
                <a:cubicBezTo>
                  <a:pt x="13231" y="10700"/>
                  <a:pt x="13184" y="10749"/>
                  <a:pt x="13171" y="10815"/>
                </a:cubicBezTo>
                <a:cubicBezTo>
                  <a:pt x="13171" y="10831"/>
                  <a:pt x="13171" y="10848"/>
                  <a:pt x="13171" y="10864"/>
                </a:cubicBezTo>
              </a:path>
              <a:path w="2358" h="1192">
                <a:moveTo>
                  <a:pt x="13816" y="9823"/>
                </a:moveTo>
                <a:cubicBezTo>
                  <a:pt x="13895" y="9763"/>
                  <a:pt x="13904" y="9738"/>
                  <a:pt x="13965" y="9748"/>
                </a:cubicBezTo>
                <a:cubicBezTo>
                  <a:pt x="14008" y="9820"/>
                  <a:pt x="14005" y="9901"/>
                  <a:pt x="13940" y="9971"/>
                </a:cubicBezTo>
                <a:cubicBezTo>
                  <a:pt x="13897" y="10017"/>
                  <a:pt x="13788" y="10038"/>
                  <a:pt x="13816" y="10120"/>
                </a:cubicBezTo>
                <a:cubicBezTo>
                  <a:pt x="13823" y="10141"/>
                  <a:pt x="13984" y="10154"/>
                  <a:pt x="14015" y="10145"/>
                </a:cubicBezTo>
                <a:cubicBezTo>
                  <a:pt x="14031" y="10137"/>
                  <a:pt x="14048" y="10128"/>
                  <a:pt x="14064" y="10120"/>
                </a:cubicBezTo>
              </a:path>
              <a:path w="2358" h="1192">
                <a:moveTo>
                  <a:pt x="14064" y="10418"/>
                </a:moveTo>
                <a:cubicBezTo>
                  <a:pt x="14180" y="10418"/>
                  <a:pt x="14296" y="10418"/>
                  <a:pt x="14412" y="10418"/>
                </a:cubicBezTo>
              </a:path>
              <a:path w="2358" h="1192">
                <a:moveTo>
                  <a:pt x="14759" y="9922"/>
                </a:moveTo>
                <a:cubicBezTo>
                  <a:pt x="14759" y="10067"/>
                  <a:pt x="14738" y="10200"/>
                  <a:pt x="14734" y="10344"/>
                </a:cubicBezTo>
                <a:cubicBezTo>
                  <a:pt x="14731" y="10447"/>
                  <a:pt x="14775" y="10541"/>
                  <a:pt x="14784" y="10641"/>
                </a:cubicBezTo>
                <a:cubicBezTo>
                  <a:pt x="14800" y="10806"/>
                  <a:pt x="14815" y="10731"/>
                  <a:pt x="14833" y="10641"/>
                </a:cubicBezTo>
              </a:path>
              <a:path w="2358" h="1192">
                <a:moveTo>
                  <a:pt x="15032" y="9996"/>
                </a:moveTo>
                <a:cubicBezTo>
                  <a:pt x="15025" y="10124"/>
                  <a:pt x="15007" y="10239"/>
                  <a:pt x="15007" y="10368"/>
                </a:cubicBezTo>
                <a:cubicBezTo>
                  <a:pt x="15007" y="10488"/>
                  <a:pt x="15055" y="10552"/>
                  <a:pt x="15131" y="10641"/>
                </a:cubicBezTo>
                <a:cubicBezTo>
                  <a:pt x="15181" y="10700"/>
                  <a:pt x="15271" y="10757"/>
                  <a:pt x="15354" y="10740"/>
                </a:cubicBezTo>
                <a:cubicBezTo>
                  <a:pt x="15443" y="10722"/>
                  <a:pt x="15508" y="10651"/>
                  <a:pt x="15528" y="10567"/>
                </a:cubicBezTo>
                <a:cubicBezTo>
                  <a:pt x="15546" y="10493"/>
                  <a:pt x="15521" y="10451"/>
                  <a:pt x="15453" y="10443"/>
                </a:cubicBezTo>
                <a:cubicBezTo>
                  <a:pt x="15373" y="10434"/>
                  <a:pt x="15266" y="10580"/>
                  <a:pt x="15230" y="10641"/>
                </a:cubicBezTo>
                <a:cubicBezTo>
                  <a:pt x="15175" y="10734"/>
                  <a:pt x="15185" y="10837"/>
                  <a:pt x="15180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5" name="Ink 14"/>
          <p:cNvSpPr/>
          <p:nvPr/>
        </p:nvSpPr>
        <p:spPr>
          <a:xfrm>
            <a:off x="561960" y="357120"/>
            <a:ext cx="46080" cy="830160"/>
          </a:xfrm>
          <a:custGeom>
            <a:avLst/>
            <a:gdLst/>
            <a:ahLst/>
            <a:rect l="l" t="t" r="r" b="b"/>
            <a:pathLst>
              <a:path w="125" h="2308">
                <a:moveTo>
                  <a:pt x="1662" y="992"/>
                </a:moveTo>
                <a:cubicBezTo>
                  <a:pt x="1662" y="1058"/>
                  <a:pt x="1662" y="1075"/>
                  <a:pt x="1662" y="1116"/>
                </a:cubicBezTo>
              </a:path>
              <a:path w="125" h="2308">
                <a:moveTo>
                  <a:pt x="1612" y="1339"/>
                </a:moveTo>
                <a:cubicBezTo>
                  <a:pt x="1612" y="1397"/>
                  <a:pt x="1612" y="1455"/>
                  <a:pt x="1612" y="1513"/>
                </a:cubicBezTo>
              </a:path>
              <a:path w="125" h="2308">
                <a:moveTo>
                  <a:pt x="1588" y="1662"/>
                </a:moveTo>
                <a:cubicBezTo>
                  <a:pt x="1581" y="1735"/>
                  <a:pt x="1572" y="1745"/>
                  <a:pt x="1563" y="1811"/>
                </a:cubicBezTo>
              </a:path>
              <a:path w="125" h="2308">
                <a:moveTo>
                  <a:pt x="1588" y="1935"/>
                </a:moveTo>
                <a:cubicBezTo>
                  <a:pt x="1582" y="1981"/>
                  <a:pt x="1572" y="2015"/>
                  <a:pt x="1563" y="2059"/>
                </a:cubicBezTo>
              </a:path>
              <a:path w="125" h="2308">
                <a:moveTo>
                  <a:pt x="1662" y="2208"/>
                </a:moveTo>
                <a:cubicBezTo>
                  <a:pt x="1662" y="2241"/>
                  <a:pt x="1662" y="2274"/>
                  <a:pt x="1662" y="2307"/>
                </a:cubicBezTo>
              </a:path>
              <a:path w="125" h="2308">
                <a:moveTo>
                  <a:pt x="1637" y="2431"/>
                </a:moveTo>
                <a:cubicBezTo>
                  <a:pt x="1619" y="2522"/>
                  <a:pt x="1610" y="2529"/>
                  <a:pt x="1612" y="2580"/>
                </a:cubicBezTo>
              </a:path>
              <a:path w="125" h="2308">
                <a:moveTo>
                  <a:pt x="1637" y="2753"/>
                </a:moveTo>
                <a:cubicBezTo>
                  <a:pt x="1637" y="2811"/>
                  <a:pt x="1637" y="2869"/>
                  <a:pt x="1637" y="2927"/>
                </a:cubicBezTo>
              </a:path>
              <a:path w="125" h="2308">
                <a:moveTo>
                  <a:pt x="1687" y="3101"/>
                </a:moveTo>
                <a:cubicBezTo>
                  <a:pt x="1687" y="3167"/>
                  <a:pt x="1687" y="3233"/>
                  <a:pt x="1687" y="32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6" name="Ink 15"/>
          <p:cNvSpPr/>
          <p:nvPr/>
        </p:nvSpPr>
        <p:spPr>
          <a:xfrm>
            <a:off x="571680" y="1312920"/>
            <a:ext cx="26640" cy="206280"/>
          </a:xfrm>
          <a:custGeom>
            <a:avLst/>
            <a:gdLst/>
            <a:ahLst/>
            <a:rect l="l" t="t" r="r" b="b"/>
            <a:pathLst>
              <a:path w="75" h="572">
                <a:moveTo>
                  <a:pt x="1662" y="3646"/>
                </a:moveTo>
                <a:cubicBezTo>
                  <a:pt x="1621" y="3727"/>
                  <a:pt x="1605" y="3740"/>
                  <a:pt x="1612" y="3795"/>
                </a:cubicBezTo>
              </a:path>
              <a:path w="75" h="572">
                <a:moveTo>
                  <a:pt x="1637" y="4018"/>
                </a:moveTo>
                <a:cubicBezTo>
                  <a:pt x="1617" y="4090"/>
                  <a:pt x="1596" y="4147"/>
                  <a:pt x="1588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7" name="Ink 16"/>
          <p:cNvSpPr/>
          <p:nvPr/>
        </p:nvSpPr>
        <p:spPr>
          <a:xfrm>
            <a:off x="6010200" y="973080"/>
            <a:ext cx="2089080" cy="1805040"/>
          </a:xfrm>
          <a:custGeom>
            <a:avLst/>
            <a:gdLst/>
            <a:ahLst/>
            <a:rect l="l" t="t" r="r" b="b"/>
            <a:pathLst>
              <a:path w="5805" h="5011">
                <a:moveTo>
                  <a:pt x="16694" y="4812"/>
                </a:moveTo>
                <a:cubicBezTo>
                  <a:pt x="16694" y="5002"/>
                  <a:pt x="16694" y="5193"/>
                  <a:pt x="16694" y="5383"/>
                </a:cubicBezTo>
              </a:path>
              <a:path w="5805" h="5011">
                <a:moveTo>
                  <a:pt x="17289" y="4738"/>
                </a:moveTo>
                <a:cubicBezTo>
                  <a:pt x="17339" y="4748"/>
                  <a:pt x="17406" y="4773"/>
                  <a:pt x="17462" y="4787"/>
                </a:cubicBezTo>
                <a:cubicBezTo>
                  <a:pt x="17538" y="4806"/>
                  <a:pt x="17608" y="4840"/>
                  <a:pt x="17686" y="4862"/>
                </a:cubicBezTo>
                <a:cubicBezTo>
                  <a:pt x="17798" y="4893"/>
                  <a:pt x="17924" y="4895"/>
                  <a:pt x="18033" y="4936"/>
                </a:cubicBezTo>
                <a:cubicBezTo>
                  <a:pt x="18161" y="4984"/>
                  <a:pt x="18245" y="5012"/>
                  <a:pt x="18380" y="5035"/>
                </a:cubicBezTo>
                <a:cubicBezTo>
                  <a:pt x="18529" y="5060"/>
                  <a:pt x="18675" y="5082"/>
                  <a:pt x="18827" y="5085"/>
                </a:cubicBezTo>
                <a:cubicBezTo>
                  <a:pt x="19439" y="5097"/>
                  <a:pt x="20052" y="5084"/>
                  <a:pt x="20662" y="5110"/>
                </a:cubicBezTo>
                <a:cubicBezTo>
                  <a:pt x="20897" y="5120"/>
                  <a:pt x="21123" y="5143"/>
                  <a:pt x="21357" y="5159"/>
                </a:cubicBezTo>
                <a:cubicBezTo>
                  <a:pt x="21549" y="5172"/>
                  <a:pt x="21735" y="5218"/>
                  <a:pt x="21927" y="5234"/>
                </a:cubicBezTo>
                <a:cubicBezTo>
                  <a:pt x="22069" y="5246"/>
                  <a:pt x="22206" y="5256"/>
                  <a:pt x="22349" y="5259"/>
                </a:cubicBezTo>
                <a:cubicBezTo>
                  <a:pt x="22432" y="5259"/>
                  <a:pt x="22448" y="5259"/>
                  <a:pt x="22498" y="5259"/>
                </a:cubicBezTo>
              </a:path>
              <a:path w="5805" h="5011">
                <a:moveTo>
                  <a:pt x="19720" y="2704"/>
                </a:moveTo>
                <a:cubicBezTo>
                  <a:pt x="19723" y="2766"/>
                  <a:pt x="19731" y="2869"/>
                  <a:pt x="19745" y="2952"/>
                </a:cubicBezTo>
                <a:cubicBezTo>
                  <a:pt x="19775" y="3129"/>
                  <a:pt x="19834" y="3299"/>
                  <a:pt x="19869" y="3473"/>
                </a:cubicBezTo>
                <a:cubicBezTo>
                  <a:pt x="19917" y="3711"/>
                  <a:pt x="19914" y="3952"/>
                  <a:pt x="19943" y="4192"/>
                </a:cubicBezTo>
                <a:cubicBezTo>
                  <a:pt x="19996" y="4623"/>
                  <a:pt x="20047" y="5048"/>
                  <a:pt x="20067" y="5482"/>
                </a:cubicBezTo>
                <a:cubicBezTo>
                  <a:pt x="20084" y="5853"/>
                  <a:pt x="20101" y="6230"/>
                  <a:pt x="20141" y="6598"/>
                </a:cubicBezTo>
                <a:cubicBezTo>
                  <a:pt x="20181" y="6965"/>
                  <a:pt x="20261" y="7326"/>
                  <a:pt x="20315" y="7689"/>
                </a:cubicBezTo>
                <a:cubicBezTo>
                  <a:pt x="20315" y="7697"/>
                  <a:pt x="20315" y="7706"/>
                  <a:pt x="20315" y="7714"/>
                </a:cubicBezTo>
              </a:path>
              <a:path w="5805" h="5011">
                <a:moveTo>
                  <a:pt x="19621" y="4490"/>
                </a:moveTo>
                <a:cubicBezTo>
                  <a:pt x="19709" y="4465"/>
                  <a:pt x="19803" y="4425"/>
                  <a:pt x="19893" y="4415"/>
                </a:cubicBezTo>
                <a:cubicBezTo>
                  <a:pt x="20037" y="4398"/>
                  <a:pt x="20194" y="4415"/>
                  <a:pt x="20340" y="4415"/>
                </a:cubicBezTo>
              </a:path>
              <a:path w="5805" h="5011">
                <a:moveTo>
                  <a:pt x="19621" y="3919"/>
                </a:moveTo>
                <a:cubicBezTo>
                  <a:pt x="19759" y="3885"/>
                  <a:pt x="19834" y="3880"/>
                  <a:pt x="19968" y="3894"/>
                </a:cubicBezTo>
                <a:cubicBezTo>
                  <a:pt x="20041" y="3902"/>
                  <a:pt x="20118" y="3894"/>
                  <a:pt x="20191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8" name="Ink 17"/>
          <p:cNvSpPr/>
          <p:nvPr/>
        </p:nvSpPr>
        <p:spPr>
          <a:xfrm>
            <a:off x="6224760" y="1374840"/>
            <a:ext cx="79200" cy="27000"/>
          </a:xfrm>
          <a:custGeom>
            <a:avLst/>
            <a:gdLst/>
            <a:ahLst/>
            <a:rect l="l" t="t" r="r" b="b"/>
            <a:pathLst>
              <a:path w="224" h="75">
                <a:moveTo>
                  <a:pt x="17289" y="3894"/>
                </a:moveTo>
                <a:cubicBezTo>
                  <a:pt x="17339" y="3845"/>
                  <a:pt x="17388" y="3831"/>
                  <a:pt x="17462" y="3820"/>
                </a:cubicBezTo>
                <a:cubicBezTo>
                  <a:pt x="17479" y="3820"/>
                  <a:pt x="17495" y="3820"/>
                  <a:pt x="17512" y="38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39" name="Ink 18"/>
          <p:cNvSpPr/>
          <p:nvPr/>
        </p:nvSpPr>
        <p:spPr>
          <a:xfrm>
            <a:off x="6535800" y="1393920"/>
            <a:ext cx="3636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18157" y="3870"/>
                </a:moveTo>
                <a:cubicBezTo>
                  <a:pt x="18190" y="3870"/>
                  <a:pt x="18223" y="3870"/>
                  <a:pt x="18256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0" name="Ink 19"/>
          <p:cNvSpPr/>
          <p:nvPr/>
        </p:nvSpPr>
        <p:spPr>
          <a:xfrm>
            <a:off x="6670800" y="139392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8529" y="3870"/>
                </a:moveTo>
                <a:cubicBezTo>
                  <a:pt x="18606" y="3908"/>
                  <a:pt x="18621" y="3907"/>
                  <a:pt x="18653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1" name="Ink 20"/>
          <p:cNvSpPr/>
          <p:nvPr/>
        </p:nvSpPr>
        <p:spPr>
          <a:xfrm>
            <a:off x="6858000" y="1419120"/>
            <a:ext cx="6336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19050" y="3944"/>
                </a:moveTo>
                <a:cubicBezTo>
                  <a:pt x="19149" y="3944"/>
                  <a:pt x="19166" y="3944"/>
                  <a:pt x="19224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2" name="Ink 21"/>
          <p:cNvSpPr/>
          <p:nvPr/>
        </p:nvSpPr>
        <p:spPr>
          <a:xfrm>
            <a:off x="7062840" y="1411200"/>
            <a:ext cx="54000" cy="97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19621" y="3919"/>
                </a:moveTo>
                <a:cubicBezTo>
                  <a:pt x="19682" y="3936"/>
                  <a:pt x="19709" y="3944"/>
                  <a:pt x="19769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3" name="Ink 22"/>
          <p:cNvSpPr/>
          <p:nvPr/>
        </p:nvSpPr>
        <p:spPr>
          <a:xfrm>
            <a:off x="7250040" y="1401840"/>
            <a:ext cx="1000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20141" y="3894"/>
                </a:moveTo>
                <a:cubicBezTo>
                  <a:pt x="20240" y="3900"/>
                  <a:pt x="20317" y="3919"/>
                  <a:pt x="20414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4" name="Ink 23"/>
          <p:cNvSpPr/>
          <p:nvPr/>
        </p:nvSpPr>
        <p:spPr>
          <a:xfrm>
            <a:off x="7527960" y="1411200"/>
            <a:ext cx="1080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20910" y="3919"/>
                </a:moveTo>
                <a:cubicBezTo>
                  <a:pt x="21025" y="3934"/>
                  <a:pt x="21099" y="3944"/>
                  <a:pt x="21208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5" name="Ink 24"/>
          <p:cNvSpPr/>
          <p:nvPr/>
        </p:nvSpPr>
        <p:spPr>
          <a:xfrm>
            <a:off x="7732800" y="1411200"/>
            <a:ext cx="135000" cy="17640"/>
          </a:xfrm>
          <a:custGeom>
            <a:avLst/>
            <a:gdLst/>
            <a:ahLst/>
            <a:rect l="l" t="t" r="r" b="b"/>
            <a:pathLst>
              <a:path w="373" h="51">
                <a:moveTo>
                  <a:pt x="21481" y="3919"/>
                </a:moveTo>
                <a:cubicBezTo>
                  <a:pt x="21610" y="3926"/>
                  <a:pt x="21683" y="3952"/>
                  <a:pt x="21803" y="3969"/>
                </a:cubicBezTo>
                <a:cubicBezTo>
                  <a:pt x="21820" y="3969"/>
                  <a:pt x="21836" y="3969"/>
                  <a:pt x="21853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6" name="Ink 25"/>
          <p:cNvSpPr/>
          <p:nvPr/>
        </p:nvSpPr>
        <p:spPr>
          <a:xfrm>
            <a:off x="8072280" y="1419120"/>
            <a:ext cx="81000" cy="97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22423" y="3944"/>
                </a:moveTo>
                <a:cubicBezTo>
                  <a:pt x="22512" y="3951"/>
                  <a:pt x="22559" y="3969"/>
                  <a:pt x="22647" y="39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7" name="Ink 26"/>
          <p:cNvSpPr/>
          <p:nvPr/>
        </p:nvSpPr>
        <p:spPr>
          <a:xfrm>
            <a:off x="1374840" y="4187880"/>
            <a:ext cx="189000" cy="2428920"/>
          </a:xfrm>
          <a:custGeom>
            <a:avLst/>
            <a:gdLst/>
            <a:ahLst/>
            <a:rect l="l" t="t" r="r" b="b"/>
            <a:pathLst>
              <a:path w="522" h="6748">
                <a:moveTo>
                  <a:pt x="3820" y="11633"/>
                </a:moveTo>
                <a:cubicBezTo>
                  <a:pt x="3829" y="11697"/>
                  <a:pt x="3840" y="11737"/>
                  <a:pt x="3845" y="11807"/>
                </a:cubicBezTo>
                <a:cubicBezTo>
                  <a:pt x="3853" y="11924"/>
                  <a:pt x="3858" y="12043"/>
                  <a:pt x="3870" y="12154"/>
                </a:cubicBezTo>
                <a:cubicBezTo>
                  <a:pt x="3884" y="12277"/>
                  <a:pt x="3881" y="12403"/>
                  <a:pt x="3894" y="12526"/>
                </a:cubicBezTo>
                <a:cubicBezTo>
                  <a:pt x="3908" y="12664"/>
                  <a:pt x="3926" y="12809"/>
                  <a:pt x="3944" y="12948"/>
                </a:cubicBezTo>
                <a:cubicBezTo>
                  <a:pt x="3959" y="13069"/>
                  <a:pt x="3987" y="13199"/>
                  <a:pt x="3994" y="13320"/>
                </a:cubicBezTo>
                <a:cubicBezTo>
                  <a:pt x="4005" y="13516"/>
                  <a:pt x="4012" y="13722"/>
                  <a:pt x="4018" y="13915"/>
                </a:cubicBezTo>
                <a:cubicBezTo>
                  <a:pt x="4027" y="14238"/>
                  <a:pt x="4027" y="14563"/>
                  <a:pt x="4043" y="14883"/>
                </a:cubicBezTo>
                <a:cubicBezTo>
                  <a:pt x="4054" y="15114"/>
                  <a:pt x="4056" y="15349"/>
                  <a:pt x="4068" y="15577"/>
                </a:cubicBezTo>
                <a:cubicBezTo>
                  <a:pt x="4076" y="15736"/>
                  <a:pt x="4073" y="15892"/>
                  <a:pt x="4093" y="16049"/>
                </a:cubicBezTo>
                <a:cubicBezTo>
                  <a:pt x="4115" y="16215"/>
                  <a:pt x="4138" y="16381"/>
                  <a:pt x="4167" y="16545"/>
                </a:cubicBezTo>
                <a:cubicBezTo>
                  <a:pt x="4194" y="16694"/>
                  <a:pt x="4196" y="16843"/>
                  <a:pt x="4217" y="16991"/>
                </a:cubicBezTo>
                <a:cubicBezTo>
                  <a:pt x="4241" y="17154"/>
                  <a:pt x="4281" y="17323"/>
                  <a:pt x="4291" y="17487"/>
                </a:cubicBezTo>
                <a:cubicBezTo>
                  <a:pt x="4300" y="17637"/>
                  <a:pt x="4309" y="17785"/>
                  <a:pt x="4316" y="17934"/>
                </a:cubicBezTo>
                <a:cubicBezTo>
                  <a:pt x="4321" y="18045"/>
                  <a:pt x="4334" y="18147"/>
                  <a:pt x="4341" y="18256"/>
                </a:cubicBezTo>
                <a:cubicBezTo>
                  <a:pt x="4341" y="18322"/>
                  <a:pt x="4341" y="18339"/>
                  <a:pt x="4341" y="183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8" name="Ink 27"/>
          <p:cNvSpPr/>
          <p:nvPr/>
        </p:nvSpPr>
        <p:spPr>
          <a:xfrm>
            <a:off x="347760" y="4724280"/>
            <a:ext cx="2411280" cy="79560"/>
          </a:xfrm>
          <a:custGeom>
            <a:avLst/>
            <a:gdLst/>
            <a:ahLst/>
            <a:rect l="l" t="t" r="r" b="b"/>
            <a:pathLst>
              <a:path w="6699" h="224">
                <a:moveTo>
                  <a:pt x="967" y="13122"/>
                </a:moveTo>
                <a:cubicBezTo>
                  <a:pt x="1152" y="13122"/>
                  <a:pt x="1330" y="13142"/>
                  <a:pt x="1513" y="13146"/>
                </a:cubicBezTo>
                <a:cubicBezTo>
                  <a:pt x="1665" y="13149"/>
                  <a:pt x="1837" y="13176"/>
                  <a:pt x="1984" y="13171"/>
                </a:cubicBezTo>
                <a:cubicBezTo>
                  <a:pt x="2106" y="13167"/>
                  <a:pt x="2230" y="13148"/>
                  <a:pt x="2356" y="13146"/>
                </a:cubicBezTo>
                <a:cubicBezTo>
                  <a:pt x="2582" y="13143"/>
                  <a:pt x="2803" y="13157"/>
                  <a:pt x="3026" y="13171"/>
                </a:cubicBezTo>
                <a:cubicBezTo>
                  <a:pt x="3232" y="13184"/>
                  <a:pt x="3441" y="13192"/>
                  <a:pt x="3646" y="13196"/>
                </a:cubicBezTo>
                <a:cubicBezTo>
                  <a:pt x="3829" y="13200"/>
                  <a:pt x="4011" y="13218"/>
                  <a:pt x="4192" y="13246"/>
                </a:cubicBezTo>
                <a:cubicBezTo>
                  <a:pt x="4411" y="13279"/>
                  <a:pt x="4641" y="13291"/>
                  <a:pt x="4862" y="13295"/>
                </a:cubicBezTo>
                <a:cubicBezTo>
                  <a:pt x="5491" y="13307"/>
                  <a:pt x="6122" y="13278"/>
                  <a:pt x="6747" y="13320"/>
                </a:cubicBezTo>
                <a:cubicBezTo>
                  <a:pt x="6897" y="13330"/>
                  <a:pt x="7045" y="13338"/>
                  <a:pt x="7193" y="13345"/>
                </a:cubicBezTo>
                <a:cubicBezTo>
                  <a:pt x="7315" y="13351"/>
                  <a:pt x="7485" y="13368"/>
                  <a:pt x="7590" y="13320"/>
                </a:cubicBezTo>
                <a:cubicBezTo>
                  <a:pt x="7701" y="13269"/>
                  <a:pt x="7632" y="13308"/>
                  <a:pt x="7640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49" name="Ink 28"/>
          <p:cNvSpPr/>
          <p:nvPr/>
        </p:nvSpPr>
        <p:spPr>
          <a:xfrm>
            <a:off x="2990880" y="4205160"/>
            <a:ext cx="108000" cy="2216160"/>
          </a:xfrm>
          <a:custGeom>
            <a:avLst/>
            <a:gdLst/>
            <a:ahLst/>
            <a:rect l="l" t="t" r="r" b="b"/>
            <a:pathLst>
              <a:path w="298" h="6153">
                <a:moveTo>
                  <a:pt x="8607" y="11683"/>
                </a:moveTo>
                <a:cubicBezTo>
                  <a:pt x="8580" y="11998"/>
                  <a:pt x="8582" y="12309"/>
                  <a:pt x="8582" y="12626"/>
                </a:cubicBezTo>
                <a:cubicBezTo>
                  <a:pt x="8582" y="13519"/>
                  <a:pt x="8578" y="14412"/>
                  <a:pt x="8558" y="15304"/>
                </a:cubicBezTo>
                <a:cubicBezTo>
                  <a:pt x="8547" y="15803"/>
                  <a:pt x="8512" y="16296"/>
                  <a:pt x="8458" y="16793"/>
                </a:cubicBezTo>
                <a:cubicBezTo>
                  <a:pt x="8420" y="17142"/>
                  <a:pt x="8364" y="17489"/>
                  <a:pt x="8310" y="178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0" name="Ink 29"/>
          <p:cNvSpPr/>
          <p:nvPr/>
        </p:nvSpPr>
        <p:spPr>
          <a:xfrm>
            <a:off x="3071880" y="3384720"/>
            <a:ext cx="44280" cy="1849320"/>
          </a:xfrm>
          <a:custGeom>
            <a:avLst/>
            <a:gdLst/>
            <a:ahLst/>
            <a:rect l="l" t="t" r="r" b="b"/>
            <a:pathLst>
              <a:path w="125" h="5136">
                <a:moveTo>
                  <a:pt x="8632" y="9401"/>
                </a:moveTo>
                <a:cubicBezTo>
                  <a:pt x="8638" y="9494"/>
                  <a:pt x="8651" y="9581"/>
                  <a:pt x="8657" y="9674"/>
                </a:cubicBezTo>
                <a:cubicBezTo>
                  <a:pt x="8666" y="9811"/>
                  <a:pt x="8646" y="9982"/>
                  <a:pt x="8632" y="10120"/>
                </a:cubicBezTo>
                <a:cubicBezTo>
                  <a:pt x="8610" y="10336"/>
                  <a:pt x="8624" y="10549"/>
                  <a:pt x="8607" y="10765"/>
                </a:cubicBezTo>
                <a:cubicBezTo>
                  <a:pt x="8588" y="11014"/>
                  <a:pt x="8582" y="11258"/>
                  <a:pt x="8582" y="11509"/>
                </a:cubicBezTo>
                <a:cubicBezTo>
                  <a:pt x="8582" y="11799"/>
                  <a:pt x="8605" y="12090"/>
                  <a:pt x="8632" y="12378"/>
                </a:cubicBezTo>
                <a:cubicBezTo>
                  <a:pt x="8662" y="12701"/>
                  <a:pt x="8657" y="13021"/>
                  <a:pt x="8657" y="13345"/>
                </a:cubicBezTo>
                <a:cubicBezTo>
                  <a:pt x="8657" y="13638"/>
                  <a:pt x="8623" y="13923"/>
                  <a:pt x="8582" y="14213"/>
                </a:cubicBezTo>
                <a:cubicBezTo>
                  <a:pt x="8566" y="14321"/>
                  <a:pt x="8549" y="14428"/>
                  <a:pt x="8533" y="145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1" name="Ink 30"/>
          <p:cNvSpPr/>
          <p:nvPr/>
        </p:nvSpPr>
        <p:spPr>
          <a:xfrm>
            <a:off x="187200" y="928800"/>
            <a:ext cx="1544760" cy="152280"/>
          </a:xfrm>
          <a:custGeom>
            <a:avLst/>
            <a:gdLst/>
            <a:ahLst/>
            <a:rect l="l" t="t" r="r" b="b"/>
            <a:pathLst>
              <a:path w="4292" h="422">
                <a:moveTo>
                  <a:pt x="521" y="3001"/>
                </a:moveTo>
                <a:cubicBezTo>
                  <a:pt x="642" y="3001"/>
                  <a:pt x="751" y="2989"/>
                  <a:pt x="868" y="2977"/>
                </a:cubicBezTo>
                <a:cubicBezTo>
                  <a:pt x="1000" y="2963"/>
                  <a:pt x="1133" y="2939"/>
                  <a:pt x="1265" y="2927"/>
                </a:cubicBezTo>
                <a:cubicBezTo>
                  <a:pt x="1447" y="2910"/>
                  <a:pt x="1629" y="2866"/>
                  <a:pt x="1811" y="2853"/>
                </a:cubicBezTo>
                <a:cubicBezTo>
                  <a:pt x="2034" y="2837"/>
                  <a:pt x="2257" y="2792"/>
                  <a:pt x="2480" y="2778"/>
                </a:cubicBezTo>
                <a:cubicBezTo>
                  <a:pt x="2735" y="2762"/>
                  <a:pt x="2993" y="2739"/>
                  <a:pt x="3249" y="2729"/>
                </a:cubicBezTo>
                <a:cubicBezTo>
                  <a:pt x="3522" y="2718"/>
                  <a:pt x="3796" y="2729"/>
                  <a:pt x="4068" y="2704"/>
                </a:cubicBezTo>
                <a:cubicBezTo>
                  <a:pt x="4296" y="2683"/>
                  <a:pt x="4634" y="2612"/>
                  <a:pt x="4812" y="25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2" name="Ink 31"/>
          <p:cNvSpPr/>
          <p:nvPr/>
        </p:nvSpPr>
        <p:spPr>
          <a:xfrm>
            <a:off x="785880" y="339840"/>
            <a:ext cx="108000" cy="1214280"/>
          </a:xfrm>
          <a:custGeom>
            <a:avLst/>
            <a:gdLst/>
            <a:ahLst/>
            <a:rect l="l" t="t" r="r" b="b"/>
            <a:pathLst>
              <a:path w="298" h="3374">
                <a:moveTo>
                  <a:pt x="2232" y="943"/>
                </a:moveTo>
                <a:cubicBezTo>
                  <a:pt x="2209" y="1009"/>
                  <a:pt x="2186" y="1062"/>
                  <a:pt x="2183" y="1141"/>
                </a:cubicBezTo>
                <a:cubicBezTo>
                  <a:pt x="2177" y="1302"/>
                  <a:pt x="2196" y="1455"/>
                  <a:pt x="2208" y="1612"/>
                </a:cubicBezTo>
                <a:cubicBezTo>
                  <a:pt x="2223" y="1817"/>
                  <a:pt x="2220" y="2028"/>
                  <a:pt x="2232" y="2232"/>
                </a:cubicBezTo>
                <a:cubicBezTo>
                  <a:pt x="2247" y="2482"/>
                  <a:pt x="2216" y="2729"/>
                  <a:pt x="2257" y="2977"/>
                </a:cubicBezTo>
                <a:cubicBezTo>
                  <a:pt x="2287" y="3161"/>
                  <a:pt x="2305" y="3340"/>
                  <a:pt x="2332" y="3522"/>
                </a:cubicBezTo>
                <a:cubicBezTo>
                  <a:pt x="2359" y="3702"/>
                  <a:pt x="2396" y="3892"/>
                  <a:pt x="2431" y="4068"/>
                </a:cubicBezTo>
                <a:cubicBezTo>
                  <a:pt x="2448" y="4154"/>
                  <a:pt x="2476" y="4203"/>
                  <a:pt x="2480" y="4291"/>
                </a:cubicBezTo>
                <a:cubicBezTo>
                  <a:pt x="2480" y="4299"/>
                  <a:pt x="2480" y="4308"/>
                  <a:pt x="2480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3" name="Ink 32"/>
          <p:cNvSpPr/>
          <p:nvPr/>
        </p:nvSpPr>
        <p:spPr>
          <a:xfrm>
            <a:off x="1000080" y="30312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778" y="843"/>
                </a:moveTo>
                <a:cubicBezTo>
                  <a:pt x="2778" y="860"/>
                  <a:pt x="2778" y="876"/>
                  <a:pt x="2778" y="8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4" name="Ink 33"/>
          <p:cNvSpPr/>
          <p:nvPr/>
        </p:nvSpPr>
        <p:spPr>
          <a:xfrm>
            <a:off x="982800" y="347760"/>
            <a:ext cx="17280" cy="63360"/>
          </a:xfrm>
          <a:custGeom>
            <a:avLst/>
            <a:gdLst/>
            <a:ahLst/>
            <a:rect l="l" t="t" r="r" b="b"/>
            <a:pathLst>
              <a:path w="50" h="175">
                <a:moveTo>
                  <a:pt x="2778" y="967"/>
                </a:moveTo>
                <a:cubicBezTo>
                  <a:pt x="2758" y="1068"/>
                  <a:pt x="2760" y="1088"/>
                  <a:pt x="2729" y="11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5" name="Ink 34"/>
          <p:cNvSpPr/>
          <p:nvPr/>
        </p:nvSpPr>
        <p:spPr>
          <a:xfrm>
            <a:off x="982800" y="465120"/>
            <a:ext cx="9360" cy="71280"/>
          </a:xfrm>
          <a:custGeom>
            <a:avLst/>
            <a:gdLst/>
            <a:ahLst/>
            <a:rect l="l" t="t" r="r" b="b"/>
            <a:pathLst>
              <a:path w="25" h="199">
                <a:moveTo>
                  <a:pt x="2753" y="1290"/>
                </a:moveTo>
                <a:cubicBezTo>
                  <a:pt x="2742" y="1369"/>
                  <a:pt x="2725" y="1403"/>
                  <a:pt x="2753" y="14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6" name="Ink 35"/>
          <p:cNvSpPr/>
          <p:nvPr/>
        </p:nvSpPr>
        <p:spPr>
          <a:xfrm>
            <a:off x="1000080" y="561960"/>
            <a:ext cx="9720" cy="730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2803" y="1563"/>
                </a:moveTo>
                <a:cubicBezTo>
                  <a:pt x="2803" y="1636"/>
                  <a:pt x="2787" y="1691"/>
                  <a:pt x="2778" y="17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7" name="Ink 36"/>
          <p:cNvSpPr/>
          <p:nvPr/>
        </p:nvSpPr>
        <p:spPr>
          <a:xfrm>
            <a:off x="990720" y="677880"/>
            <a:ext cx="19080" cy="81000"/>
          </a:xfrm>
          <a:custGeom>
            <a:avLst/>
            <a:gdLst/>
            <a:ahLst/>
            <a:rect l="l" t="t" r="r" b="b"/>
            <a:pathLst>
              <a:path w="51" h="224">
                <a:moveTo>
                  <a:pt x="2803" y="1885"/>
                </a:moveTo>
                <a:cubicBezTo>
                  <a:pt x="2796" y="1932"/>
                  <a:pt x="2796" y="2013"/>
                  <a:pt x="2778" y="2059"/>
                </a:cubicBezTo>
                <a:cubicBezTo>
                  <a:pt x="2753" y="2084"/>
                  <a:pt x="2745" y="2092"/>
                  <a:pt x="2778" y="21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8" name="Ink 37"/>
          <p:cNvSpPr/>
          <p:nvPr/>
        </p:nvSpPr>
        <p:spPr>
          <a:xfrm>
            <a:off x="990720" y="795240"/>
            <a:ext cx="28440" cy="54000"/>
          </a:xfrm>
          <a:custGeom>
            <a:avLst/>
            <a:gdLst/>
            <a:ahLst/>
            <a:rect l="l" t="t" r="r" b="b"/>
            <a:pathLst>
              <a:path w="76" h="149">
                <a:moveTo>
                  <a:pt x="2828" y="2208"/>
                </a:moveTo>
                <a:cubicBezTo>
                  <a:pt x="2803" y="2273"/>
                  <a:pt x="2803" y="2307"/>
                  <a:pt x="2753" y="23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59" name="Ink 38"/>
          <p:cNvSpPr/>
          <p:nvPr/>
        </p:nvSpPr>
        <p:spPr>
          <a:xfrm>
            <a:off x="1000080" y="919080"/>
            <a:ext cx="972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2803" y="2555"/>
                </a:moveTo>
                <a:cubicBezTo>
                  <a:pt x="2795" y="2613"/>
                  <a:pt x="2786" y="2671"/>
                  <a:pt x="2778" y="27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0" name="Ink 39"/>
          <p:cNvSpPr/>
          <p:nvPr/>
        </p:nvSpPr>
        <p:spPr>
          <a:xfrm>
            <a:off x="1035000" y="1054080"/>
            <a:ext cx="97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2877" y="2927"/>
                </a:moveTo>
                <a:cubicBezTo>
                  <a:pt x="2897" y="3006"/>
                  <a:pt x="2902" y="3068"/>
                  <a:pt x="2902" y="31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1" name="Ink 40"/>
          <p:cNvSpPr/>
          <p:nvPr/>
        </p:nvSpPr>
        <p:spPr>
          <a:xfrm>
            <a:off x="1062000" y="1204920"/>
            <a:ext cx="19080" cy="81000"/>
          </a:xfrm>
          <a:custGeom>
            <a:avLst/>
            <a:gdLst/>
            <a:ahLst/>
            <a:rect l="l" t="t" r="r" b="b"/>
            <a:pathLst>
              <a:path w="50" h="224">
                <a:moveTo>
                  <a:pt x="3001" y="3349"/>
                </a:moveTo>
                <a:cubicBezTo>
                  <a:pt x="2993" y="3411"/>
                  <a:pt x="2962" y="3470"/>
                  <a:pt x="2952" y="3522"/>
                </a:cubicBezTo>
                <a:cubicBezTo>
                  <a:pt x="2952" y="3539"/>
                  <a:pt x="2952" y="3555"/>
                  <a:pt x="2952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2" name="Ink 41"/>
          <p:cNvSpPr/>
          <p:nvPr/>
        </p:nvSpPr>
        <p:spPr>
          <a:xfrm>
            <a:off x="1081080" y="1357200"/>
            <a:ext cx="792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3026" y="3770"/>
                </a:moveTo>
                <a:cubicBezTo>
                  <a:pt x="3026" y="3837"/>
                  <a:pt x="3013" y="3882"/>
                  <a:pt x="3001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3" name="Ink 42"/>
          <p:cNvSpPr/>
          <p:nvPr/>
        </p:nvSpPr>
        <p:spPr>
          <a:xfrm>
            <a:off x="1089000" y="1473120"/>
            <a:ext cx="9720" cy="63720"/>
          </a:xfrm>
          <a:custGeom>
            <a:avLst/>
            <a:gdLst/>
            <a:ahLst/>
            <a:rect l="l" t="t" r="r" b="b"/>
            <a:pathLst>
              <a:path w="26" h="174">
                <a:moveTo>
                  <a:pt x="3026" y="4093"/>
                </a:moveTo>
                <a:cubicBezTo>
                  <a:pt x="3043" y="4159"/>
                  <a:pt x="3051" y="4197"/>
                  <a:pt x="3051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4" name="Ink 43"/>
          <p:cNvSpPr/>
          <p:nvPr/>
        </p:nvSpPr>
        <p:spPr>
          <a:xfrm>
            <a:off x="177840" y="1044720"/>
            <a:ext cx="730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496" y="2927"/>
                </a:moveTo>
                <a:cubicBezTo>
                  <a:pt x="579" y="2927"/>
                  <a:pt x="622" y="2912"/>
                  <a:pt x="695" y="29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5" name="Ink 44"/>
          <p:cNvSpPr/>
          <p:nvPr/>
        </p:nvSpPr>
        <p:spPr>
          <a:xfrm>
            <a:off x="357120" y="1044720"/>
            <a:ext cx="7164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992" y="2902"/>
                </a:moveTo>
                <a:cubicBezTo>
                  <a:pt x="1058" y="2902"/>
                  <a:pt x="1125" y="2902"/>
                  <a:pt x="1191" y="29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6" name="Ink 45"/>
          <p:cNvSpPr/>
          <p:nvPr/>
        </p:nvSpPr>
        <p:spPr>
          <a:xfrm>
            <a:off x="544680" y="1035000"/>
            <a:ext cx="4428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513" y="2877"/>
                </a:moveTo>
                <a:cubicBezTo>
                  <a:pt x="1564" y="2896"/>
                  <a:pt x="1583" y="2902"/>
                  <a:pt x="1637" y="29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7" name="Ink 46"/>
          <p:cNvSpPr/>
          <p:nvPr/>
        </p:nvSpPr>
        <p:spPr>
          <a:xfrm>
            <a:off x="704880" y="1027080"/>
            <a:ext cx="54000" cy="9720"/>
          </a:xfrm>
          <a:custGeom>
            <a:avLst/>
            <a:gdLst/>
            <a:ahLst/>
            <a:rect l="l" t="t" r="r" b="b"/>
            <a:pathLst>
              <a:path w="149" h="25">
                <a:moveTo>
                  <a:pt x="1960" y="2853"/>
                </a:moveTo>
                <a:cubicBezTo>
                  <a:pt x="2020" y="2869"/>
                  <a:pt x="2048" y="2877"/>
                  <a:pt x="2108" y="28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8" name="Ink 47"/>
          <p:cNvSpPr/>
          <p:nvPr/>
        </p:nvSpPr>
        <p:spPr>
          <a:xfrm>
            <a:off x="911160" y="101772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530" y="2828"/>
                </a:moveTo>
                <a:cubicBezTo>
                  <a:pt x="2637" y="2857"/>
                  <a:pt x="2639" y="2853"/>
                  <a:pt x="2753" y="28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69" name="Ink 48"/>
          <p:cNvSpPr/>
          <p:nvPr/>
        </p:nvSpPr>
        <p:spPr>
          <a:xfrm>
            <a:off x="1089000" y="100980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3026" y="2803"/>
                </a:moveTo>
                <a:cubicBezTo>
                  <a:pt x="3067" y="2803"/>
                  <a:pt x="3109" y="2803"/>
                  <a:pt x="3150" y="28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0" name="Ink 49"/>
          <p:cNvSpPr/>
          <p:nvPr/>
        </p:nvSpPr>
        <p:spPr>
          <a:xfrm>
            <a:off x="1258920" y="973080"/>
            <a:ext cx="27000" cy="9720"/>
          </a:xfrm>
          <a:custGeom>
            <a:avLst/>
            <a:gdLst/>
            <a:ahLst/>
            <a:rect l="l" t="t" r="r" b="b"/>
            <a:pathLst>
              <a:path w="76" h="26">
                <a:moveTo>
                  <a:pt x="3497" y="2704"/>
                </a:moveTo>
                <a:cubicBezTo>
                  <a:pt x="3538" y="2724"/>
                  <a:pt x="3544" y="2733"/>
                  <a:pt x="3572" y="27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1" name="Ink 50"/>
          <p:cNvSpPr/>
          <p:nvPr/>
        </p:nvSpPr>
        <p:spPr>
          <a:xfrm>
            <a:off x="1401840" y="965160"/>
            <a:ext cx="81000" cy="7920"/>
          </a:xfrm>
          <a:custGeom>
            <a:avLst/>
            <a:gdLst/>
            <a:ahLst/>
            <a:rect l="l" t="t" r="r" b="b"/>
            <a:pathLst>
              <a:path w="225" h="26">
                <a:moveTo>
                  <a:pt x="3894" y="2679"/>
                </a:moveTo>
                <a:cubicBezTo>
                  <a:pt x="3983" y="2686"/>
                  <a:pt x="4030" y="2704"/>
                  <a:pt x="4118" y="27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2" name="Ink 51"/>
          <p:cNvSpPr/>
          <p:nvPr/>
        </p:nvSpPr>
        <p:spPr>
          <a:xfrm>
            <a:off x="1562040" y="973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341" y="2704"/>
                </a:moveTo>
                <a:lnTo>
                  <a:pt x="4341" y="270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3" name="Ink 52"/>
          <p:cNvSpPr/>
          <p:nvPr/>
        </p:nvSpPr>
        <p:spPr>
          <a:xfrm>
            <a:off x="81000" y="1143000"/>
            <a:ext cx="392040" cy="446040"/>
          </a:xfrm>
          <a:custGeom>
            <a:avLst/>
            <a:gdLst/>
            <a:ahLst/>
            <a:rect l="l" t="t" r="r" b="b"/>
            <a:pathLst>
              <a:path w="1093" h="1241">
                <a:moveTo>
                  <a:pt x="223" y="3324"/>
                </a:moveTo>
                <a:cubicBezTo>
                  <a:pt x="256" y="3304"/>
                  <a:pt x="329" y="3256"/>
                  <a:pt x="372" y="3249"/>
                </a:cubicBezTo>
                <a:cubicBezTo>
                  <a:pt x="438" y="3238"/>
                  <a:pt x="489" y="3212"/>
                  <a:pt x="546" y="3200"/>
                </a:cubicBezTo>
                <a:cubicBezTo>
                  <a:pt x="629" y="3183"/>
                  <a:pt x="707" y="3175"/>
                  <a:pt x="794" y="3175"/>
                </a:cubicBezTo>
                <a:cubicBezTo>
                  <a:pt x="887" y="3175"/>
                  <a:pt x="989" y="3161"/>
                  <a:pt x="1067" y="3200"/>
                </a:cubicBezTo>
                <a:cubicBezTo>
                  <a:pt x="1115" y="3224"/>
                  <a:pt x="1205" y="3257"/>
                  <a:pt x="1240" y="3299"/>
                </a:cubicBezTo>
                <a:cubicBezTo>
                  <a:pt x="1296" y="3365"/>
                  <a:pt x="1290" y="3442"/>
                  <a:pt x="1290" y="3522"/>
                </a:cubicBezTo>
                <a:cubicBezTo>
                  <a:pt x="1290" y="3600"/>
                  <a:pt x="1315" y="3640"/>
                  <a:pt x="1315" y="3721"/>
                </a:cubicBezTo>
                <a:cubicBezTo>
                  <a:pt x="1315" y="3850"/>
                  <a:pt x="1311" y="3971"/>
                  <a:pt x="1290" y="4093"/>
                </a:cubicBezTo>
                <a:cubicBezTo>
                  <a:pt x="1273" y="4194"/>
                  <a:pt x="1290" y="4312"/>
                  <a:pt x="1290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4" name="Ink 53"/>
          <p:cNvSpPr/>
          <p:nvPr/>
        </p:nvSpPr>
        <p:spPr>
          <a:xfrm>
            <a:off x="446040" y="1535040"/>
            <a:ext cx="108000" cy="63720"/>
          </a:xfrm>
          <a:custGeom>
            <a:avLst/>
            <a:gdLst/>
            <a:ahLst/>
            <a:rect l="l" t="t" r="r" b="b"/>
            <a:pathLst>
              <a:path w="299" h="175">
                <a:moveTo>
                  <a:pt x="1240" y="4266"/>
                </a:moveTo>
                <a:cubicBezTo>
                  <a:pt x="1265" y="4333"/>
                  <a:pt x="1269" y="4383"/>
                  <a:pt x="1315" y="4440"/>
                </a:cubicBezTo>
                <a:cubicBezTo>
                  <a:pt x="1393" y="4400"/>
                  <a:pt x="1434" y="4377"/>
                  <a:pt x="1488" y="4316"/>
                </a:cubicBezTo>
                <a:cubicBezTo>
                  <a:pt x="1505" y="4299"/>
                  <a:pt x="1521" y="4283"/>
                  <a:pt x="1538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5" name="Ink 54"/>
          <p:cNvSpPr/>
          <p:nvPr/>
        </p:nvSpPr>
        <p:spPr>
          <a:xfrm>
            <a:off x="98280" y="1143000"/>
            <a:ext cx="108000" cy="15228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273" y="3597"/>
                </a:moveTo>
                <a:cubicBezTo>
                  <a:pt x="313" y="3537"/>
                  <a:pt x="338" y="3465"/>
                  <a:pt x="372" y="3398"/>
                </a:cubicBezTo>
                <a:cubicBezTo>
                  <a:pt x="399" y="3345"/>
                  <a:pt x="428" y="3240"/>
                  <a:pt x="471" y="3200"/>
                </a:cubicBezTo>
                <a:cubicBezTo>
                  <a:pt x="519" y="3176"/>
                  <a:pt x="534" y="3168"/>
                  <a:pt x="571" y="31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6" name="Ink 55"/>
          <p:cNvSpPr/>
          <p:nvPr/>
        </p:nvSpPr>
        <p:spPr>
          <a:xfrm>
            <a:off x="696960" y="347760"/>
            <a:ext cx="276120" cy="1179360"/>
          </a:xfrm>
          <a:custGeom>
            <a:avLst/>
            <a:gdLst/>
            <a:ahLst/>
            <a:rect l="l" t="t" r="r" b="b"/>
            <a:pathLst>
              <a:path w="770" h="3276">
                <a:moveTo>
                  <a:pt x="1960" y="967"/>
                </a:moveTo>
                <a:cubicBezTo>
                  <a:pt x="1973" y="1070"/>
                  <a:pt x="1948" y="1108"/>
                  <a:pt x="1935" y="1215"/>
                </a:cubicBezTo>
                <a:cubicBezTo>
                  <a:pt x="1920" y="1335"/>
                  <a:pt x="1952" y="1452"/>
                  <a:pt x="1960" y="1563"/>
                </a:cubicBezTo>
                <a:cubicBezTo>
                  <a:pt x="1967" y="1663"/>
                  <a:pt x="1968" y="1762"/>
                  <a:pt x="1984" y="1860"/>
                </a:cubicBezTo>
                <a:cubicBezTo>
                  <a:pt x="1995" y="1930"/>
                  <a:pt x="2015" y="2014"/>
                  <a:pt x="2034" y="2084"/>
                </a:cubicBezTo>
                <a:cubicBezTo>
                  <a:pt x="2059" y="2175"/>
                  <a:pt x="2114" y="2252"/>
                  <a:pt x="2158" y="2332"/>
                </a:cubicBezTo>
                <a:cubicBezTo>
                  <a:pt x="2205" y="2416"/>
                  <a:pt x="2246" y="2491"/>
                  <a:pt x="2282" y="2580"/>
                </a:cubicBezTo>
                <a:cubicBezTo>
                  <a:pt x="2316" y="2662"/>
                  <a:pt x="2349" y="2745"/>
                  <a:pt x="2381" y="2828"/>
                </a:cubicBezTo>
                <a:cubicBezTo>
                  <a:pt x="2422" y="2934"/>
                  <a:pt x="2459" y="3046"/>
                  <a:pt x="2505" y="3150"/>
                </a:cubicBezTo>
                <a:cubicBezTo>
                  <a:pt x="2542" y="3233"/>
                  <a:pt x="2572" y="3313"/>
                  <a:pt x="2604" y="3398"/>
                </a:cubicBezTo>
                <a:cubicBezTo>
                  <a:pt x="2635" y="3479"/>
                  <a:pt x="2667" y="3560"/>
                  <a:pt x="2679" y="3646"/>
                </a:cubicBezTo>
                <a:cubicBezTo>
                  <a:pt x="2695" y="3764"/>
                  <a:pt x="2694" y="3904"/>
                  <a:pt x="2704" y="4018"/>
                </a:cubicBezTo>
                <a:cubicBezTo>
                  <a:pt x="2709" y="4071"/>
                  <a:pt x="2676" y="4159"/>
                  <a:pt x="2679" y="4192"/>
                </a:cubicBezTo>
                <a:cubicBezTo>
                  <a:pt x="2679" y="4234"/>
                  <a:pt x="2671" y="4250"/>
                  <a:pt x="2704" y="42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7" name="Ink 56"/>
          <p:cNvSpPr/>
          <p:nvPr/>
        </p:nvSpPr>
        <p:spPr>
          <a:xfrm>
            <a:off x="938160" y="1401840"/>
            <a:ext cx="8100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2604" y="4167"/>
                </a:moveTo>
                <a:cubicBezTo>
                  <a:pt x="2614" y="4239"/>
                  <a:pt x="2637" y="4298"/>
                  <a:pt x="2729" y="4242"/>
                </a:cubicBezTo>
                <a:cubicBezTo>
                  <a:pt x="2798" y="4200"/>
                  <a:pt x="2819" y="4117"/>
                  <a:pt x="2828" y="4043"/>
                </a:cubicBezTo>
                <a:cubicBezTo>
                  <a:pt x="2828" y="3969"/>
                  <a:pt x="2828" y="3944"/>
                  <a:pt x="2828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8" name="Ink 57"/>
          <p:cNvSpPr/>
          <p:nvPr/>
        </p:nvSpPr>
        <p:spPr>
          <a:xfrm>
            <a:off x="687240" y="42876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910" y="1588"/>
                </a:moveTo>
                <a:cubicBezTo>
                  <a:pt x="1940" y="1497"/>
                  <a:pt x="1935" y="1413"/>
                  <a:pt x="1935" y="1315"/>
                </a:cubicBezTo>
                <a:cubicBezTo>
                  <a:pt x="1935" y="1253"/>
                  <a:pt x="1953" y="1173"/>
                  <a:pt x="2034" y="1191"/>
                </a:cubicBezTo>
                <a:cubicBezTo>
                  <a:pt x="2106" y="1207"/>
                  <a:pt x="2186" y="1264"/>
                  <a:pt x="2257" y="12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79" name="Ink 58"/>
          <p:cNvSpPr/>
          <p:nvPr/>
        </p:nvSpPr>
        <p:spPr>
          <a:xfrm>
            <a:off x="1081080" y="268200"/>
            <a:ext cx="482760" cy="633600"/>
          </a:xfrm>
          <a:custGeom>
            <a:avLst/>
            <a:gdLst/>
            <a:ahLst/>
            <a:rect l="l" t="t" r="r" b="b"/>
            <a:pathLst>
              <a:path w="1341" h="1762">
                <a:moveTo>
                  <a:pt x="3175" y="744"/>
                </a:moveTo>
                <a:cubicBezTo>
                  <a:pt x="3155" y="798"/>
                  <a:pt x="3130" y="859"/>
                  <a:pt x="3101" y="918"/>
                </a:cubicBezTo>
                <a:cubicBezTo>
                  <a:pt x="3064" y="993"/>
                  <a:pt x="3046" y="1065"/>
                  <a:pt x="3026" y="1141"/>
                </a:cubicBezTo>
                <a:cubicBezTo>
                  <a:pt x="3003" y="1229"/>
                  <a:pt x="3001" y="1297"/>
                  <a:pt x="3001" y="1389"/>
                </a:cubicBezTo>
                <a:cubicBezTo>
                  <a:pt x="3001" y="1471"/>
                  <a:pt x="3022" y="1532"/>
                  <a:pt x="3026" y="1612"/>
                </a:cubicBezTo>
                <a:cubicBezTo>
                  <a:pt x="3029" y="1678"/>
                  <a:pt x="3063" y="1834"/>
                  <a:pt x="3101" y="1885"/>
                </a:cubicBezTo>
                <a:cubicBezTo>
                  <a:pt x="3145" y="1944"/>
                  <a:pt x="3199" y="1988"/>
                  <a:pt x="3249" y="2034"/>
                </a:cubicBezTo>
                <a:cubicBezTo>
                  <a:pt x="3316" y="2095"/>
                  <a:pt x="3383" y="2180"/>
                  <a:pt x="3448" y="2232"/>
                </a:cubicBezTo>
                <a:cubicBezTo>
                  <a:pt x="3515" y="2285"/>
                  <a:pt x="3595" y="2278"/>
                  <a:pt x="3671" y="2307"/>
                </a:cubicBezTo>
                <a:cubicBezTo>
                  <a:pt x="3746" y="2336"/>
                  <a:pt x="3820" y="2350"/>
                  <a:pt x="3894" y="2381"/>
                </a:cubicBezTo>
                <a:cubicBezTo>
                  <a:pt x="3989" y="2421"/>
                  <a:pt x="4071" y="2455"/>
                  <a:pt x="4167" y="2480"/>
                </a:cubicBezTo>
                <a:cubicBezTo>
                  <a:pt x="4273" y="2508"/>
                  <a:pt x="4282" y="2515"/>
                  <a:pt x="4341" y="24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0" name="Ink 59"/>
          <p:cNvSpPr/>
          <p:nvPr/>
        </p:nvSpPr>
        <p:spPr>
          <a:xfrm>
            <a:off x="1490760" y="768240"/>
            <a:ext cx="18864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4142" y="2133"/>
                </a:moveTo>
                <a:cubicBezTo>
                  <a:pt x="4262" y="2141"/>
                  <a:pt x="4351" y="2170"/>
                  <a:pt x="4465" y="2208"/>
                </a:cubicBezTo>
                <a:cubicBezTo>
                  <a:pt x="4540" y="2233"/>
                  <a:pt x="4602" y="2258"/>
                  <a:pt x="4663" y="2307"/>
                </a:cubicBezTo>
                <a:cubicBezTo>
                  <a:pt x="4626" y="2372"/>
                  <a:pt x="4615" y="2401"/>
                  <a:pt x="4539" y="2406"/>
                </a:cubicBezTo>
                <a:cubicBezTo>
                  <a:pt x="4490" y="2409"/>
                  <a:pt x="4439" y="2406"/>
                  <a:pt x="4390" y="24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1" name="Ink 60"/>
          <p:cNvSpPr/>
          <p:nvPr/>
        </p:nvSpPr>
        <p:spPr>
          <a:xfrm>
            <a:off x="1089000" y="303120"/>
            <a:ext cx="19692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3051" y="1389"/>
                </a:moveTo>
                <a:cubicBezTo>
                  <a:pt x="3051" y="1299"/>
                  <a:pt x="3030" y="1228"/>
                  <a:pt x="3026" y="1141"/>
                </a:cubicBezTo>
                <a:cubicBezTo>
                  <a:pt x="3022" y="1058"/>
                  <a:pt x="3006" y="941"/>
                  <a:pt x="3051" y="868"/>
                </a:cubicBezTo>
                <a:cubicBezTo>
                  <a:pt x="3085" y="812"/>
                  <a:pt x="3205" y="846"/>
                  <a:pt x="3249" y="868"/>
                </a:cubicBezTo>
                <a:cubicBezTo>
                  <a:pt x="3369" y="928"/>
                  <a:pt x="3473" y="1001"/>
                  <a:pt x="3572" y="10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2" name="Ink 61"/>
          <p:cNvSpPr/>
          <p:nvPr/>
        </p:nvSpPr>
        <p:spPr>
          <a:xfrm>
            <a:off x="3786120" y="4518000"/>
            <a:ext cx="2187720" cy="108000"/>
          </a:xfrm>
          <a:custGeom>
            <a:avLst/>
            <a:gdLst/>
            <a:ahLst/>
            <a:rect l="l" t="t" r="r" b="b"/>
            <a:pathLst>
              <a:path w="6078" h="299">
                <a:moveTo>
                  <a:pt x="10517" y="12601"/>
                </a:moveTo>
                <a:cubicBezTo>
                  <a:pt x="10591" y="12618"/>
                  <a:pt x="10665" y="12633"/>
                  <a:pt x="10740" y="12650"/>
                </a:cubicBezTo>
                <a:cubicBezTo>
                  <a:pt x="10859" y="12677"/>
                  <a:pt x="10967" y="12675"/>
                  <a:pt x="11088" y="12675"/>
                </a:cubicBezTo>
                <a:cubicBezTo>
                  <a:pt x="11232" y="12675"/>
                  <a:pt x="11368" y="12662"/>
                  <a:pt x="11509" y="12650"/>
                </a:cubicBezTo>
                <a:cubicBezTo>
                  <a:pt x="11768" y="12628"/>
                  <a:pt x="12044" y="12631"/>
                  <a:pt x="12303" y="12626"/>
                </a:cubicBezTo>
                <a:cubicBezTo>
                  <a:pt x="12487" y="12622"/>
                  <a:pt x="12667" y="12612"/>
                  <a:pt x="12849" y="12601"/>
                </a:cubicBezTo>
                <a:cubicBezTo>
                  <a:pt x="13063" y="12588"/>
                  <a:pt x="13280" y="12580"/>
                  <a:pt x="13494" y="12576"/>
                </a:cubicBezTo>
                <a:cubicBezTo>
                  <a:pt x="13718" y="12572"/>
                  <a:pt x="13938" y="12551"/>
                  <a:pt x="14163" y="12551"/>
                </a:cubicBezTo>
                <a:cubicBezTo>
                  <a:pt x="14373" y="12551"/>
                  <a:pt x="14576" y="12564"/>
                  <a:pt x="14784" y="12576"/>
                </a:cubicBezTo>
                <a:cubicBezTo>
                  <a:pt x="14983" y="12587"/>
                  <a:pt x="15180" y="12614"/>
                  <a:pt x="15379" y="12626"/>
                </a:cubicBezTo>
                <a:cubicBezTo>
                  <a:pt x="15554" y="12637"/>
                  <a:pt x="15724" y="12650"/>
                  <a:pt x="15900" y="12650"/>
                </a:cubicBezTo>
                <a:cubicBezTo>
                  <a:pt x="15971" y="12650"/>
                  <a:pt x="16100" y="12736"/>
                  <a:pt x="16197" y="12725"/>
                </a:cubicBezTo>
                <a:cubicBezTo>
                  <a:pt x="16217" y="12723"/>
                  <a:pt x="16385" y="12762"/>
                  <a:pt x="16545" y="12849"/>
                </a:cubicBezTo>
                <a:cubicBezTo>
                  <a:pt x="16395" y="12762"/>
                  <a:pt x="16268" y="12658"/>
                  <a:pt x="16396" y="12774"/>
                </a:cubicBezTo>
                <a:cubicBezTo>
                  <a:pt x="16574" y="12935"/>
                  <a:pt x="16406" y="12741"/>
                  <a:pt x="16396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83" name="Ink 62"/>
          <p:cNvSpPr/>
          <p:nvPr/>
        </p:nvSpPr>
        <p:spPr>
          <a:xfrm>
            <a:off x="4680000" y="3963960"/>
            <a:ext cx="79200" cy="2305080"/>
          </a:xfrm>
          <a:custGeom>
            <a:avLst/>
            <a:gdLst/>
            <a:ahLst/>
            <a:rect l="l" t="t" r="r" b="b"/>
            <a:pathLst>
              <a:path w="224" h="6401">
                <a:moveTo>
                  <a:pt x="13196" y="11013"/>
                </a:moveTo>
                <a:cubicBezTo>
                  <a:pt x="13209" y="11101"/>
                  <a:pt x="13219" y="11169"/>
                  <a:pt x="13221" y="11261"/>
                </a:cubicBezTo>
                <a:cubicBezTo>
                  <a:pt x="13224" y="11396"/>
                  <a:pt x="13207" y="11547"/>
                  <a:pt x="13196" y="11683"/>
                </a:cubicBezTo>
                <a:cubicBezTo>
                  <a:pt x="13177" y="11907"/>
                  <a:pt x="13150" y="12129"/>
                  <a:pt x="13146" y="12353"/>
                </a:cubicBezTo>
                <a:cubicBezTo>
                  <a:pt x="13141" y="12627"/>
                  <a:pt x="13135" y="12898"/>
                  <a:pt x="13122" y="13171"/>
                </a:cubicBezTo>
                <a:cubicBezTo>
                  <a:pt x="13110" y="13428"/>
                  <a:pt x="13111" y="13684"/>
                  <a:pt x="13097" y="13940"/>
                </a:cubicBezTo>
                <a:cubicBezTo>
                  <a:pt x="13079" y="14278"/>
                  <a:pt x="13071" y="14620"/>
                  <a:pt x="13047" y="14957"/>
                </a:cubicBezTo>
                <a:cubicBezTo>
                  <a:pt x="13023" y="15295"/>
                  <a:pt x="13002" y="15634"/>
                  <a:pt x="12998" y="15974"/>
                </a:cubicBezTo>
                <a:cubicBezTo>
                  <a:pt x="12995" y="16224"/>
                  <a:pt x="13011" y="16470"/>
                  <a:pt x="13022" y="16718"/>
                </a:cubicBezTo>
                <a:cubicBezTo>
                  <a:pt x="13031" y="16917"/>
                  <a:pt x="13019" y="17118"/>
                  <a:pt x="13047" y="17314"/>
                </a:cubicBezTo>
                <a:cubicBezTo>
                  <a:pt x="13055" y="17347"/>
                  <a:pt x="13064" y="17380"/>
                  <a:pt x="13072" y="174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Page 195</a:t>
            </a:r>
            <a:br>
              <a:rPr sz="7500"/>
            </a:b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#13-17</a:t>
            </a:r>
            <a:br>
              <a:rPr sz="7500"/>
            </a:b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(part b only)</a:t>
            </a:r>
            <a:endParaRPr b="0" lang="en-US" sz="7500" spc="-1" strike="noStrike">
              <a:solidFill>
                <a:srgbClr val="d3d2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d2a6"/>
                </a:solidFill>
                <a:latin typeface="Arial"/>
              </a:rPr>
              <a:t>Questions from Thursday’s HW</a:t>
            </a:r>
            <a:br>
              <a:rPr sz="4000"/>
            </a:br>
            <a:r>
              <a:rPr b="0" lang="en-US" sz="4000" spc="-1" strike="noStrike">
                <a:solidFill>
                  <a:srgbClr val="d3d2a6"/>
                </a:solidFill>
                <a:latin typeface="Arial"/>
              </a:rPr>
              <a:t>(Pg 187 #17,19,29,31)</a:t>
            </a:r>
            <a:endParaRPr b="0" lang="en-US" sz="40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14" name="Ink 3"/>
          <p:cNvSpPr/>
          <p:nvPr/>
        </p:nvSpPr>
        <p:spPr>
          <a:xfrm>
            <a:off x="411120" y="4116240"/>
            <a:ext cx="625680" cy="669960"/>
          </a:xfrm>
          <a:custGeom>
            <a:avLst/>
            <a:gdLst/>
            <a:ahLst/>
            <a:rect l="l" t="t" r="r" b="b"/>
            <a:pathLst>
              <a:path w="1737" h="1861">
                <a:moveTo>
                  <a:pt x="2853" y="12129"/>
                </a:moveTo>
                <a:cubicBezTo>
                  <a:pt x="2780" y="11950"/>
                  <a:pt x="2735" y="11844"/>
                  <a:pt x="2604" y="11708"/>
                </a:cubicBezTo>
                <a:cubicBezTo>
                  <a:pt x="2517" y="11617"/>
                  <a:pt x="2375" y="11532"/>
                  <a:pt x="2257" y="11485"/>
                </a:cubicBezTo>
                <a:cubicBezTo>
                  <a:pt x="2144" y="11441"/>
                  <a:pt x="2006" y="11421"/>
                  <a:pt x="1885" y="11435"/>
                </a:cubicBezTo>
                <a:cubicBezTo>
                  <a:pt x="1662" y="11460"/>
                  <a:pt x="1481" y="11558"/>
                  <a:pt x="1339" y="11733"/>
                </a:cubicBezTo>
                <a:cubicBezTo>
                  <a:pt x="1266" y="11822"/>
                  <a:pt x="1182" y="11965"/>
                  <a:pt x="1166" y="12080"/>
                </a:cubicBezTo>
                <a:cubicBezTo>
                  <a:pt x="1145" y="12226"/>
                  <a:pt x="1138" y="12358"/>
                  <a:pt x="1166" y="12502"/>
                </a:cubicBezTo>
                <a:cubicBezTo>
                  <a:pt x="1199" y="12668"/>
                  <a:pt x="1274" y="12798"/>
                  <a:pt x="1389" y="12923"/>
                </a:cubicBezTo>
                <a:cubicBezTo>
                  <a:pt x="1526" y="13072"/>
                  <a:pt x="1692" y="13202"/>
                  <a:pt x="1885" y="13271"/>
                </a:cubicBezTo>
                <a:cubicBezTo>
                  <a:pt x="1995" y="13310"/>
                  <a:pt x="2194" y="13322"/>
                  <a:pt x="2307" y="13295"/>
                </a:cubicBezTo>
                <a:cubicBezTo>
                  <a:pt x="2459" y="13259"/>
                  <a:pt x="2581" y="13164"/>
                  <a:pt x="2679" y="13047"/>
                </a:cubicBezTo>
                <a:cubicBezTo>
                  <a:pt x="2788" y="12917"/>
                  <a:pt x="2814" y="12812"/>
                  <a:pt x="2853" y="12650"/>
                </a:cubicBezTo>
                <a:cubicBezTo>
                  <a:pt x="2880" y="12537"/>
                  <a:pt x="2896" y="12408"/>
                  <a:pt x="2828" y="12303"/>
                </a:cubicBezTo>
                <a:cubicBezTo>
                  <a:pt x="2794" y="12249"/>
                  <a:pt x="2746" y="12209"/>
                  <a:pt x="2704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5" name="Ink 4"/>
          <p:cNvSpPr/>
          <p:nvPr/>
        </p:nvSpPr>
        <p:spPr>
          <a:xfrm>
            <a:off x="1312920" y="4786200"/>
            <a:ext cx="706320" cy="928800"/>
          </a:xfrm>
          <a:custGeom>
            <a:avLst/>
            <a:gdLst/>
            <a:ahLst/>
            <a:rect l="l" t="t" r="r" b="b"/>
            <a:pathLst>
              <a:path w="1961" h="2581">
                <a:moveTo>
                  <a:pt x="5556" y="15205"/>
                </a:moveTo>
                <a:cubicBezTo>
                  <a:pt x="5573" y="15205"/>
                  <a:pt x="5589" y="15205"/>
                  <a:pt x="5606" y="15205"/>
                </a:cubicBezTo>
              </a:path>
              <a:path w="1961" h="2581">
                <a:moveTo>
                  <a:pt x="3969" y="13295"/>
                </a:moveTo>
                <a:cubicBezTo>
                  <a:pt x="4002" y="13350"/>
                  <a:pt x="4015" y="13424"/>
                  <a:pt x="4018" y="13494"/>
                </a:cubicBezTo>
                <a:cubicBezTo>
                  <a:pt x="4023" y="13630"/>
                  <a:pt x="4031" y="13760"/>
                  <a:pt x="4043" y="13891"/>
                </a:cubicBezTo>
                <a:cubicBezTo>
                  <a:pt x="4053" y="14001"/>
                  <a:pt x="4068" y="14101"/>
                  <a:pt x="4068" y="14213"/>
                </a:cubicBezTo>
                <a:cubicBezTo>
                  <a:pt x="4068" y="14263"/>
                  <a:pt x="4068" y="14279"/>
                  <a:pt x="4068" y="14312"/>
                </a:cubicBezTo>
              </a:path>
              <a:path w="1961" h="2581">
                <a:moveTo>
                  <a:pt x="3646" y="13717"/>
                </a:moveTo>
                <a:cubicBezTo>
                  <a:pt x="3681" y="13787"/>
                  <a:pt x="3736" y="13850"/>
                  <a:pt x="3770" y="13915"/>
                </a:cubicBezTo>
                <a:cubicBezTo>
                  <a:pt x="3815" y="14001"/>
                  <a:pt x="3826" y="14066"/>
                  <a:pt x="3894" y="14139"/>
                </a:cubicBezTo>
                <a:cubicBezTo>
                  <a:pt x="3947" y="14197"/>
                  <a:pt x="3970" y="14243"/>
                  <a:pt x="4043" y="14213"/>
                </a:cubicBezTo>
                <a:cubicBezTo>
                  <a:pt x="4106" y="14187"/>
                  <a:pt x="4143" y="14113"/>
                  <a:pt x="4192" y="14064"/>
                </a:cubicBezTo>
                <a:cubicBezTo>
                  <a:pt x="4258" y="13999"/>
                  <a:pt x="4329" y="13937"/>
                  <a:pt x="4390" y="13866"/>
                </a:cubicBezTo>
                <a:cubicBezTo>
                  <a:pt x="4415" y="13833"/>
                  <a:pt x="4440" y="13800"/>
                  <a:pt x="4465" y="13767"/>
                </a:cubicBezTo>
              </a:path>
              <a:path w="1961" h="2581">
                <a:moveTo>
                  <a:pt x="4167" y="14908"/>
                </a:moveTo>
                <a:cubicBezTo>
                  <a:pt x="4178" y="15070"/>
                  <a:pt x="4192" y="15209"/>
                  <a:pt x="4192" y="15379"/>
                </a:cubicBezTo>
                <a:cubicBezTo>
                  <a:pt x="4192" y="15481"/>
                  <a:pt x="4217" y="15573"/>
                  <a:pt x="4217" y="15677"/>
                </a:cubicBezTo>
                <a:cubicBezTo>
                  <a:pt x="4217" y="15685"/>
                  <a:pt x="4242" y="15967"/>
                  <a:pt x="4242" y="158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6" name="Ink 5"/>
          <p:cNvSpPr/>
          <p:nvPr/>
        </p:nvSpPr>
        <p:spPr>
          <a:xfrm>
            <a:off x="223920" y="509760"/>
            <a:ext cx="1865160" cy="955440"/>
          </a:xfrm>
          <a:custGeom>
            <a:avLst/>
            <a:gdLst/>
            <a:ahLst/>
            <a:rect l="l" t="t" r="r" b="b"/>
            <a:pathLst>
              <a:path w="5185" h="2655">
                <a:moveTo>
                  <a:pt x="620" y="3101"/>
                </a:moveTo>
                <a:cubicBezTo>
                  <a:pt x="846" y="3101"/>
                  <a:pt x="1068" y="3092"/>
                  <a:pt x="1290" y="3076"/>
                </a:cubicBezTo>
                <a:cubicBezTo>
                  <a:pt x="1479" y="3062"/>
                  <a:pt x="1672" y="3069"/>
                  <a:pt x="1860" y="3051"/>
                </a:cubicBezTo>
                <a:cubicBezTo>
                  <a:pt x="2107" y="3028"/>
                  <a:pt x="2358" y="3030"/>
                  <a:pt x="2604" y="3001"/>
                </a:cubicBezTo>
                <a:cubicBezTo>
                  <a:pt x="2753" y="2983"/>
                  <a:pt x="2903" y="2967"/>
                  <a:pt x="3051" y="2952"/>
                </a:cubicBezTo>
                <a:cubicBezTo>
                  <a:pt x="3145" y="2943"/>
                  <a:pt x="3232" y="2933"/>
                  <a:pt x="3324" y="2927"/>
                </a:cubicBezTo>
                <a:cubicBezTo>
                  <a:pt x="3332" y="2927"/>
                  <a:pt x="3341" y="2927"/>
                  <a:pt x="3349" y="2927"/>
                </a:cubicBezTo>
              </a:path>
              <a:path w="5185" h="2655">
                <a:moveTo>
                  <a:pt x="1662" y="1860"/>
                </a:moveTo>
                <a:cubicBezTo>
                  <a:pt x="1598" y="2088"/>
                  <a:pt x="1566" y="2297"/>
                  <a:pt x="1538" y="2530"/>
                </a:cubicBezTo>
                <a:cubicBezTo>
                  <a:pt x="1509" y="2773"/>
                  <a:pt x="1503" y="3009"/>
                  <a:pt x="1513" y="3249"/>
                </a:cubicBezTo>
                <a:cubicBezTo>
                  <a:pt x="1522" y="3463"/>
                  <a:pt x="1584" y="3621"/>
                  <a:pt x="1637" y="3820"/>
                </a:cubicBezTo>
                <a:cubicBezTo>
                  <a:pt x="1637" y="3872"/>
                  <a:pt x="1638" y="3890"/>
                  <a:pt x="1662" y="3919"/>
                </a:cubicBezTo>
              </a:path>
              <a:path w="5185" h="2655">
                <a:moveTo>
                  <a:pt x="2059" y="2902"/>
                </a:moveTo>
                <a:cubicBezTo>
                  <a:pt x="2047" y="3041"/>
                  <a:pt x="1997" y="3148"/>
                  <a:pt x="2059" y="3249"/>
                </a:cubicBezTo>
              </a:path>
              <a:path w="5185" h="2655">
                <a:moveTo>
                  <a:pt x="2381" y="2729"/>
                </a:moveTo>
                <a:cubicBezTo>
                  <a:pt x="2397" y="2854"/>
                  <a:pt x="2412" y="2982"/>
                  <a:pt x="2431" y="3101"/>
                </a:cubicBezTo>
                <a:cubicBezTo>
                  <a:pt x="2431" y="3150"/>
                  <a:pt x="2431" y="3167"/>
                  <a:pt x="2431" y="3200"/>
                </a:cubicBezTo>
              </a:path>
              <a:path w="5185" h="2655">
                <a:moveTo>
                  <a:pt x="1910" y="1463"/>
                </a:moveTo>
                <a:cubicBezTo>
                  <a:pt x="1902" y="1447"/>
                  <a:pt x="1893" y="1430"/>
                  <a:pt x="1885" y="1414"/>
                </a:cubicBezTo>
                <a:cubicBezTo>
                  <a:pt x="1898" y="1473"/>
                  <a:pt x="1900" y="1543"/>
                  <a:pt x="1910" y="1612"/>
                </a:cubicBezTo>
                <a:cubicBezTo>
                  <a:pt x="1920" y="1678"/>
                  <a:pt x="1922" y="1745"/>
                  <a:pt x="1935" y="1811"/>
                </a:cubicBezTo>
                <a:cubicBezTo>
                  <a:pt x="1950" y="1889"/>
                  <a:pt x="1963" y="1964"/>
                  <a:pt x="1984" y="2034"/>
                </a:cubicBezTo>
                <a:cubicBezTo>
                  <a:pt x="1995" y="2070"/>
                  <a:pt x="2016" y="2149"/>
                  <a:pt x="2034" y="2183"/>
                </a:cubicBezTo>
                <a:cubicBezTo>
                  <a:pt x="2063" y="2239"/>
                  <a:pt x="2103" y="2297"/>
                  <a:pt x="2133" y="2356"/>
                </a:cubicBezTo>
                <a:cubicBezTo>
                  <a:pt x="2164" y="2416"/>
                  <a:pt x="2201" y="2473"/>
                  <a:pt x="2232" y="2530"/>
                </a:cubicBezTo>
                <a:cubicBezTo>
                  <a:pt x="2261" y="2583"/>
                  <a:pt x="2306" y="2629"/>
                  <a:pt x="2332" y="2679"/>
                </a:cubicBezTo>
                <a:cubicBezTo>
                  <a:pt x="2358" y="2728"/>
                  <a:pt x="2381" y="2772"/>
                  <a:pt x="2406" y="2828"/>
                </a:cubicBezTo>
                <a:cubicBezTo>
                  <a:pt x="2429" y="2878"/>
                  <a:pt x="2447" y="2924"/>
                  <a:pt x="2480" y="2977"/>
                </a:cubicBezTo>
                <a:cubicBezTo>
                  <a:pt x="2515" y="3032"/>
                  <a:pt x="2528" y="3102"/>
                  <a:pt x="2555" y="3150"/>
                </a:cubicBezTo>
                <a:cubicBezTo>
                  <a:pt x="2579" y="3191"/>
                  <a:pt x="2624" y="3237"/>
                  <a:pt x="2654" y="3274"/>
                </a:cubicBezTo>
                <a:cubicBezTo>
                  <a:pt x="2704" y="3334"/>
                  <a:pt x="2774" y="3423"/>
                  <a:pt x="2828" y="3473"/>
                </a:cubicBezTo>
                <a:cubicBezTo>
                  <a:pt x="2910" y="3548"/>
                  <a:pt x="3034" y="3585"/>
                  <a:pt x="3125" y="3646"/>
                </a:cubicBezTo>
                <a:cubicBezTo>
                  <a:pt x="3234" y="3719"/>
                  <a:pt x="3361" y="3752"/>
                  <a:pt x="3473" y="3820"/>
                </a:cubicBezTo>
                <a:cubicBezTo>
                  <a:pt x="3549" y="3866"/>
                  <a:pt x="3621" y="3883"/>
                  <a:pt x="3696" y="3919"/>
                </a:cubicBezTo>
                <a:cubicBezTo>
                  <a:pt x="3752" y="3946"/>
                  <a:pt x="3821" y="3969"/>
                  <a:pt x="3870" y="3994"/>
                </a:cubicBezTo>
                <a:cubicBezTo>
                  <a:pt x="3915" y="4016"/>
                  <a:pt x="3904" y="4037"/>
                  <a:pt x="3944" y="4068"/>
                </a:cubicBezTo>
              </a:path>
              <a:path w="5185" h="2655">
                <a:moveTo>
                  <a:pt x="4638" y="2257"/>
                </a:moveTo>
                <a:cubicBezTo>
                  <a:pt x="4666" y="2229"/>
                  <a:pt x="4675" y="2216"/>
                  <a:pt x="4663" y="2183"/>
                </a:cubicBezTo>
                <a:cubicBezTo>
                  <a:pt x="4601" y="2236"/>
                  <a:pt x="4577" y="2336"/>
                  <a:pt x="4564" y="2431"/>
                </a:cubicBezTo>
                <a:cubicBezTo>
                  <a:pt x="4549" y="2545"/>
                  <a:pt x="4556" y="2665"/>
                  <a:pt x="4539" y="2778"/>
                </a:cubicBezTo>
                <a:cubicBezTo>
                  <a:pt x="4516" y="2925"/>
                  <a:pt x="4494" y="3076"/>
                  <a:pt x="4490" y="3225"/>
                </a:cubicBezTo>
                <a:cubicBezTo>
                  <a:pt x="4487" y="3328"/>
                  <a:pt x="4514" y="3418"/>
                  <a:pt x="4514" y="3522"/>
                </a:cubicBezTo>
                <a:cubicBezTo>
                  <a:pt x="4514" y="3623"/>
                  <a:pt x="4521" y="3619"/>
                  <a:pt x="4440" y="3597"/>
                </a:cubicBezTo>
              </a:path>
              <a:path w="5185" h="2655">
                <a:moveTo>
                  <a:pt x="3448" y="3150"/>
                </a:moveTo>
                <a:cubicBezTo>
                  <a:pt x="3431" y="3142"/>
                  <a:pt x="3415" y="3133"/>
                  <a:pt x="3398" y="3125"/>
                </a:cubicBezTo>
                <a:cubicBezTo>
                  <a:pt x="3473" y="3102"/>
                  <a:pt x="3560" y="3090"/>
                  <a:pt x="3646" y="3076"/>
                </a:cubicBezTo>
                <a:cubicBezTo>
                  <a:pt x="3820" y="3048"/>
                  <a:pt x="3991" y="3011"/>
                  <a:pt x="4167" y="3001"/>
                </a:cubicBezTo>
                <a:cubicBezTo>
                  <a:pt x="4372" y="2989"/>
                  <a:pt x="4582" y="2995"/>
                  <a:pt x="4787" y="2977"/>
                </a:cubicBezTo>
                <a:cubicBezTo>
                  <a:pt x="5039" y="2955"/>
                  <a:pt x="5310" y="2901"/>
                  <a:pt x="5556" y="2853"/>
                </a:cubicBezTo>
                <a:cubicBezTo>
                  <a:pt x="5621" y="2831"/>
                  <a:pt x="5636" y="2823"/>
                  <a:pt x="5680" y="2828"/>
                </a:cubicBezTo>
              </a:path>
              <a:path w="5185" h="2655">
                <a:moveTo>
                  <a:pt x="4837" y="2704"/>
                </a:moveTo>
                <a:cubicBezTo>
                  <a:pt x="4821" y="2812"/>
                  <a:pt x="4812" y="2895"/>
                  <a:pt x="4812" y="3001"/>
                </a:cubicBezTo>
                <a:cubicBezTo>
                  <a:pt x="4812" y="3043"/>
                  <a:pt x="4804" y="3059"/>
                  <a:pt x="4837" y="3051"/>
                </a:cubicBezTo>
              </a:path>
              <a:path w="5185" h="2655">
                <a:moveTo>
                  <a:pt x="5060" y="2778"/>
                </a:moveTo>
                <a:cubicBezTo>
                  <a:pt x="5076" y="2891"/>
                  <a:pt x="5085" y="2988"/>
                  <a:pt x="5085" y="3101"/>
                </a:cubicBezTo>
                <a:cubicBezTo>
                  <a:pt x="5085" y="3109"/>
                  <a:pt x="5085" y="3117"/>
                  <a:pt x="5085" y="3125"/>
                </a:cubicBezTo>
              </a:path>
              <a:path w="5185" h="2655">
                <a:moveTo>
                  <a:pt x="4465" y="2059"/>
                </a:moveTo>
                <a:cubicBezTo>
                  <a:pt x="4454" y="2134"/>
                  <a:pt x="4461" y="2152"/>
                  <a:pt x="4465" y="2232"/>
                </a:cubicBezTo>
                <a:cubicBezTo>
                  <a:pt x="4468" y="2279"/>
                  <a:pt x="4495" y="2364"/>
                  <a:pt x="4514" y="2406"/>
                </a:cubicBezTo>
                <a:cubicBezTo>
                  <a:pt x="4537" y="2455"/>
                  <a:pt x="4600" y="2501"/>
                  <a:pt x="4614" y="2555"/>
                </a:cubicBezTo>
                <a:cubicBezTo>
                  <a:pt x="4632" y="2625"/>
                  <a:pt x="4650" y="2620"/>
                  <a:pt x="4688" y="2679"/>
                </a:cubicBezTo>
                <a:cubicBezTo>
                  <a:pt x="4720" y="2728"/>
                  <a:pt x="4745" y="2761"/>
                  <a:pt x="4787" y="2803"/>
                </a:cubicBezTo>
                <a:cubicBezTo>
                  <a:pt x="4823" y="2840"/>
                  <a:pt x="4866" y="2868"/>
                  <a:pt x="4911" y="2877"/>
                </a:cubicBezTo>
                <a:cubicBezTo>
                  <a:pt x="4965" y="2887"/>
                  <a:pt x="5025" y="2919"/>
                  <a:pt x="5085" y="2902"/>
                </a:cubicBezTo>
                <a:cubicBezTo>
                  <a:pt x="5153" y="2883"/>
                  <a:pt x="5179" y="2864"/>
                  <a:pt x="5234" y="2828"/>
                </a:cubicBezTo>
                <a:cubicBezTo>
                  <a:pt x="5317" y="2774"/>
                  <a:pt x="5388" y="2724"/>
                  <a:pt x="5457" y="2654"/>
                </a:cubicBezTo>
                <a:cubicBezTo>
                  <a:pt x="5513" y="2597"/>
                  <a:pt x="5545" y="2551"/>
                  <a:pt x="5581" y="2480"/>
                </a:cubicBezTo>
                <a:cubicBezTo>
                  <a:pt x="5620" y="2403"/>
                  <a:pt x="5661" y="2329"/>
                  <a:pt x="5705" y="2257"/>
                </a:cubicBezTo>
                <a:cubicBezTo>
                  <a:pt x="5754" y="2177"/>
                  <a:pt x="5824" y="2087"/>
                  <a:pt x="5755" y="20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7" name="Ink 6"/>
          <p:cNvSpPr/>
          <p:nvPr/>
        </p:nvSpPr>
        <p:spPr>
          <a:xfrm>
            <a:off x="490680" y="1589040"/>
            <a:ext cx="501480" cy="546120"/>
          </a:xfrm>
          <a:custGeom>
            <a:avLst/>
            <a:gdLst/>
            <a:ahLst/>
            <a:rect l="l" t="t" r="r" b="b"/>
            <a:pathLst>
              <a:path w="1390" h="1514">
                <a:moveTo>
                  <a:pt x="1364" y="5035"/>
                </a:moveTo>
                <a:cubicBezTo>
                  <a:pt x="1420" y="4967"/>
                  <a:pt x="1431" y="4905"/>
                  <a:pt x="1513" y="4862"/>
                </a:cubicBezTo>
                <a:cubicBezTo>
                  <a:pt x="1577" y="4828"/>
                  <a:pt x="1640" y="4777"/>
                  <a:pt x="1712" y="4762"/>
                </a:cubicBezTo>
                <a:cubicBezTo>
                  <a:pt x="1812" y="4741"/>
                  <a:pt x="1818" y="4808"/>
                  <a:pt x="1811" y="4862"/>
                </a:cubicBezTo>
                <a:cubicBezTo>
                  <a:pt x="1800" y="4946"/>
                  <a:pt x="1792" y="4959"/>
                  <a:pt x="1761" y="5035"/>
                </a:cubicBezTo>
                <a:cubicBezTo>
                  <a:pt x="1729" y="5112"/>
                  <a:pt x="1700" y="5185"/>
                  <a:pt x="1662" y="5259"/>
                </a:cubicBezTo>
                <a:cubicBezTo>
                  <a:pt x="1625" y="5333"/>
                  <a:pt x="1596" y="5406"/>
                  <a:pt x="1563" y="5482"/>
                </a:cubicBezTo>
                <a:cubicBezTo>
                  <a:pt x="1537" y="5542"/>
                  <a:pt x="1501" y="5604"/>
                  <a:pt x="1463" y="5655"/>
                </a:cubicBezTo>
                <a:cubicBezTo>
                  <a:pt x="1434" y="5685"/>
                  <a:pt x="1423" y="5700"/>
                  <a:pt x="1414" y="5730"/>
                </a:cubicBezTo>
                <a:cubicBezTo>
                  <a:pt x="1447" y="5697"/>
                  <a:pt x="1515" y="5648"/>
                  <a:pt x="1563" y="5655"/>
                </a:cubicBezTo>
                <a:cubicBezTo>
                  <a:pt x="1626" y="5665"/>
                  <a:pt x="1713" y="5717"/>
                  <a:pt x="1786" y="5730"/>
                </a:cubicBezTo>
                <a:cubicBezTo>
                  <a:pt x="1852" y="5742"/>
                  <a:pt x="1875" y="5766"/>
                  <a:pt x="1935" y="5730"/>
                </a:cubicBezTo>
              </a:path>
              <a:path w="1390" h="1514">
                <a:moveTo>
                  <a:pt x="2431" y="5060"/>
                </a:moveTo>
                <a:cubicBezTo>
                  <a:pt x="2431" y="4997"/>
                  <a:pt x="2445" y="4935"/>
                  <a:pt x="2406" y="4887"/>
                </a:cubicBezTo>
                <a:cubicBezTo>
                  <a:pt x="2374" y="4847"/>
                  <a:pt x="2349" y="4778"/>
                  <a:pt x="2282" y="4812"/>
                </a:cubicBezTo>
                <a:cubicBezTo>
                  <a:pt x="2230" y="4838"/>
                  <a:pt x="2184" y="4913"/>
                  <a:pt x="2158" y="4961"/>
                </a:cubicBezTo>
                <a:cubicBezTo>
                  <a:pt x="2110" y="5048"/>
                  <a:pt x="2063" y="5124"/>
                  <a:pt x="2108" y="5209"/>
                </a:cubicBezTo>
                <a:cubicBezTo>
                  <a:pt x="2142" y="5274"/>
                  <a:pt x="2184" y="5277"/>
                  <a:pt x="2232" y="5259"/>
                </a:cubicBezTo>
                <a:cubicBezTo>
                  <a:pt x="2326" y="5225"/>
                  <a:pt x="2372" y="5193"/>
                  <a:pt x="2381" y="5085"/>
                </a:cubicBezTo>
                <a:cubicBezTo>
                  <a:pt x="2386" y="5028"/>
                  <a:pt x="2381" y="4968"/>
                  <a:pt x="2381" y="4911"/>
                </a:cubicBezTo>
                <a:cubicBezTo>
                  <a:pt x="2381" y="4993"/>
                  <a:pt x="2359" y="5038"/>
                  <a:pt x="2356" y="5110"/>
                </a:cubicBezTo>
                <a:cubicBezTo>
                  <a:pt x="2352" y="5191"/>
                  <a:pt x="2336" y="5256"/>
                  <a:pt x="2332" y="5333"/>
                </a:cubicBezTo>
                <a:cubicBezTo>
                  <a:pt x="2331" y="5347"/>
                  <a:pt x="2308" y="5545"/>
                  <a:pt x="2332" y="5457"/>
                </a:cubicBezTo>
                <a:cubicBezTo>
                  <a:pt x="2332" y="5440"/>
                  <a:pt x="2332" y="5424"/>
                  <a:pt x="2332" y="5407"/>
                </a:cubicBezTo>
              </a:path>
              <a:path w="1390" h="1514">
                <a:moveTo>
                  <a:pt x="2282" y="4415"/>
                </a:moveTo>
                <a:cubicBezTo>
                  <a:pt x="2361" y="4425"/>
                  <a:pt x="2426" y="4448"/>
                  <a:pt x="2480" y="4514"/>
                </a:cubicBezTo>
                <a:cubicBezTo>
                  <a:pt x="2586" y="4644"/>
                  <a:pt x="2651" y="4804"/>
                  <a:pt x="2704" y="4961"/>
                </a:cubicBezTo>
                <a:cubicBezTo>
                  <a:pt x="2745" y="5083"/>
                  <a:pt x="2773" y="5229"/>
                  <a:pt x="2753" y="5358"/>
                </a:cubicBezTo>
                <a:cubicBezTo>
                  <a:pt x="2739" y="5449"/>
                  <a:pt x="2660" y="5583"/>
                  <a:pt x="2604" y="5655"/>
                </a:cubicBezTo>
                <a:cubicBezTo>
                  <a:pt x="2528" y="5754"/>
                  <a:pt x="2415" y="5867"/>
                  <a:pt x="2307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8" name="Ink 7"/>
          <p:cNvSpPr/>
          <p:nvPr/>
        </p:nvSpPr>
        <p:spPr>
          <a:xfrm>
            <a:off x="1214280" y="1677960"/>
            <a:ext cx="920880" cy="679320"/>
          </a:xfrm>
          <a:custGeom>
            <a:avLst/>
            <a:gdLst/>
            <a:ahLst/>
            <a:rect l="l" t="t" r="r" b="b"/>
            <a:pathLst>
              <a:path w="2556" h="1886">
                <a:moveTo>
                  <a:pt x="3994" y="4961"/>
                </a:moveTo>
                <a:cubicBezTo>
                  <a:pt x="3985" y="4891"/>
                  <a:pt x="3968" y="4841"/>
                  <a:pt x="3919" y="4787"/>
                </a:cubicBezTo>
                <a:cubicBezTo>
                  <a:pt x="3881" y="4745"/>
                  <a:pt x="3826" y="4701"/>
                  <a:pt x="3770" y="4688"/>
                </a:cubicBezTo>
                <a:cubicBezTo>
                  <a:pt x="3669" y="4665"/>
                  <a:pt x="3656" y="4798"/>
                  <a:pt x="3646" y="4862"/>
                </a:cubicBezTo>
                <a:cubicBezTo>
                  <a:pt x="3637" y="4920"/>
                  <a:pt x="3660" y="5050"/>
                  <a:pt x="3671" y="5110"/>
                </a:cubicBezTo>
                <a:cubicBezTo>
                  <a:pt x="3691" y="5217"/>
                  <a:pt x="3717" y="5322"/>
                  <a:pt x="3721" y="5432"/>
                </a:cubicBezTo>
                <a:cubicBezTo>
                  <a:pt x="3723" y="5481"/>
                  <a:pt x="3688" y="5783"/>
                  <a:pt x="3746" y="5804"/>
                </a:cubicBezTo>
                <a:cubicBezTo>
                  <a:pt x="3746" y="5746"/>
                  <a:pt x="3746" y="5721"/>
                  <a:pt x="3746" y="5680"/>
                </a:cubicBezTo>
              </a:path>
              <a:path w="2556" h="1886">
                <a:moveTo>
                  <a:pt x="3621" y="5432"/>
                </a:moveTo>
                <a:cubicBezTo>
                  <a:pt x="3712" y="5432"/>
                  <a:pt x="3786" y="5421"/>
                  <a:pt x="3870" y="5407"/>
                </a:cubicBezTo>
                <a:cubicBezTo>
                  <a:pt x="3921" y="5407"/>
                  <a:pt x="3939" y="5406"/>
                  <a:pt x="3969" y="5383"/>
                </a:cubicBezTo>
              </a:path>
              <a:path w="2556" h="1886">
                <a:moveTo>
                  <a:pt x="4440" y="4787"/>
                </a:moveTo>
                <a:cubicBezTo>
                  <a:pt x="4426" y="4914"/>
                  <a:pt x="4368" y="4989"/>
                  <a:pt x="4316" y="5110"/>
                </a:cubicBezTo>
                <a:cubicBezTo>
                  <a:pt x="4272" y="5213"/>
                  <a:pt x="4291" y="5326"/>
                  <a:pt x="4266" y="5432"/>
                </a:cubicBezTo>
                <a:cubicBezTo>
                  <a:pt x="4247" y="5512"/>
                  <a:pt x="4239" y="5574"/>
                  <a:pt x="4266" y="5655"/>
                </a:cubicBezTo>
                <a:cubicBezTo>
                  <a:pt x="4291" y="5729"/>
                  <a:pt x="4320" y="5788"/>
                  <a:pt x="4390" y="5755"/>
                </a:cubicBezTo>
                <a:cubicBezTo>
                  <a:pt x="4440" y="5730"/>
                  <a:pt x="4457" y="5722"/>
                  <a:pt x="4465" y="5680"/>
                </a:cubicBezTo>
              </a:path>
              <a:path w="2556" h="1886">
                <a:moveTo>
                  <a:pt x="4589" y="5234"/>
                </a:moveTo>
                <a:cubicBezTo>
                  <a:pt x="4651" y="5340"/>
                  <a:pt x="4707" y="5446"/>
                  <a:pt x="4762" y="5556"/>
                </a:cubicBezTo>
                <a:cubicBezTo>
                  <a:pt x="4804" y="5640"/>
                  <a:pt x="4846" y="5622"/>
                  <a:pt x="4911" y="5655"/>
                </a:cubicBezTo>
                <a:cubicBezTo>
                  <a:pt x="4960" y="5680"/>
                  <a:pt x="5028" y="5703"/>
                  <a:pt x="5060" y="5631"/>
                </a:cubicBezTo>
                <a:cubicBezTo>
                  <a:pt x="5060" y="5623"/>
                  <a:pt x="5060" y="5614"/>
                  <a:pt x="5060" y="5606"/>
                </a:cubicBezTo>
              </a:path>
              <a:path w="2556" h="1886">
                <a:moveTo>
                  <a:pt x="4936" y="5184"/>
                </a:moveTo>
                <a:cubicBezTo>
                  <a:pt x="4867" y="5297"/>
                  <a:pt x="4791" y="5411"/>
                  <a:pt x="4738" y="5531"/>
                </a:cubicBezTo>
                <a:cubicBezTo>
                  <a:pt x="4705" y="5606"/>
                  <a:pt x="4675" y="5681"/>
                  <a:pt x="4638" y="5755"/>
                </a:cubicBezTo>
                <a:cubicBezTo>
                  <a:pt x="4570" y="5893"/>
                  <a:pt x="4607" y="5777"/>
                  <a:pt x="4638" y="5705"/>
                </a:cubicBezTo>
              </a:path>
              <a:path w="2556" h="1886">
                <a:moveTo>
                  <a:pt x="5110" y="4663"/>
                </a:moveTo>
                <a:cubicBezTo>
                  <a:pt x="5172" y="4771"/>
                  <a:pt x="5176" y="4844"/>
                  <a:pt x="5209" y="4961"/>
                </a:cubicBezTo>
                <a:cubicBezTo>
                  <a:pt x="5242" y="5081"/>
                  <a:pt x="5299" y="5205"/>
                  <a:pt x="5283" y="5333"/>
                </a:cubicBezTo>
                <a:cubicBezTo>
                  <a:pt x="5269" y="5445"/>
                  <a:pt x="5235" y="5554"/>
                  <a:pt x="5184" y="5655"/>
                </a:cubicBezTo>
                <a:cubicBezTo>
                  <a:pt x="5154" y="5715"/>
                  <a:pt x="5132" y="5757"/>
                  <a:pt x="5085" y="5804"/>
                </a:cubicBezTo>
                <a:cubicBezTo>
                  <a:pt x="5062" y="5827"/>
                  <a:pt x="5054" y="5838"/>
                  <a:pt x="5060" y="5804"/>
                </a:cubicBezTo>
              </a:path>
              <a:path w="2556" h="1886">
                <a:moveTo>
                  <a:pt x="5556" y="5333"/>
                </a:moveTo>
                <a:cubicBezTo>
                  <a:pt x="5641" y="5333"/>
                  <a:pt x="5735" y="5320"/>
                  <a:pt x="5804" y="5308"/>
                </a:cubicBezTo>
                <a:cubicBezTo>
                  <a:pt x="5858" y="5299"/>
                  <a:pt x="5884" y="5303"/>
                  <a:pt x="5904" y="5333"/>
                </a:cubicBezTo>
              </a:path>
              <a:path w="2556" h="1886">
                <a:moveTo>
                  <a:pt x="5531" y="5482"/>
                </a:moveTo>
                <a:cubicBezTo>
                  <a:pt x="5591" y="5518"/>
                  <a:pt x="5656" y="5507"/>
                  <a:pt x="5730" y="5507"/>
                </a:cubicBezTo>
                <a:cubicBezTo>
                  <a:pt x="5767" y="5507"/>
                  <a:pt x="5949" y="5507"/>
                  <a:pt x="5904" y="5507"/>
                </a:cubicBezTo>
              </a:path>
              <a:path w="2556" h="1886">
                <a:moveTo>
                  <a:pt x="4018" y="5060"/>
                </a:moveTo>
                <a:cubicBezTo>
                  <a:pt x="3996" y="4999"/>
                  <a:pt x="3997" y="4954"/>
                  <a:pt x="3944" y="4911"/>
                </a:cubicBezTo>
                <a:cubicBezTo>
                  <a:pt x="3890" y="4868"/>
                  <a:pt x="3808" y="4830"/>
                  <a:pt x="3746" y="4887"/>
                </a:cubicBezTo>
                <a:cubicBezTo>
                  <a:pt x="3694" y="4935"/>
                  <a:pt x="3614" y="5068"/>
                  <a:pt x="3597" y="5135"/>
                </a:cubicBezTo>
                <a:cubicBezTo>
                  <a:pt x="3574" y="5223"/>
                  <a:pt x="3545" y="5391"/>
                  <a:pt x="3572" y="5482"/>
                </a:cubicBezTo>
                <a:cubicBezTo>
                  <a:pt x="3589" y="5539"/>
                  <a:pt x="3675" y="5648"/>
                  <a:pt x="3746" y="5655"/>
                </a:cubicBezTo>
                <a:cubicBezTo>
                  <a:pt x="3809" y="5661"/>
                  <a:pt x="3897" y="5586"/>
                  <a:pt x="3919" y="5531"/>
                </a:cubicBezTo>
                <a:cubicBezTo>
                  <a:pt x="3961" y="5426"/>
                  <a:pt x="3969" y="5320"/>
                  <a:pt x="3969" y="5209"/>
                </a:cubicBezTo>
                <a:cubicBezTo>
                  <a:pt x="3969" y="5154"/>
                  <a:pt x="3951" y="5114"/>
                  <a:pt x="3944" y="5060"/>
                </a:cubicBezTo>
                <a:cubicBezTo>
                  <a:pt x="3944" y="5143"/>
                  <a:pt x="3944" y="5203"/>
                  <a:pt x="3969" y="5283"/>
                </a:cubicBezTo>
                <a:cubicBezTo>
                  <a:pt x="4007" y="5407"/>
                  <a:pt x="4038" y="5529"/>
                  <a:pt x="4068" y="5655"/>
                </a:cubicBezTo>
                <a:cubicBezTo>
                  <a:pt x="4101" y="5795"/>
                  <a:pt x="4093" y="5933"/>
                  <a:pt x="4093" y="6077"/>
                </a:cubicBezTo>
                <a:cubicBezTo>
                  <a:pt x="4093" y="6205"/>
                  <a:pt x="4067" y="6331"/>
                  <a:pt x="3969" y="6424"/>
                </a:cubicBezTo>
                <a:cubicBezTo>
                  <a:pt x="3904" y="6486"/>
                  <a:pt x="3760" y="6535"/>
                  <a:pt x="3671" y="6548"/>
                </a:cubicBezTo>
                <a:cubicBezTo>
                  <a:pt x="3605" y="6558"/>
                  <a:pt x="3498" y="6552"/>
                  <a:pt x="3448" y="6499"/>
                </a:cubicBezTo>
                <a:cubicBezTo>
                  <a:pt x="3389" y="6436"/>
                  <a:pt x="3381" y="6382"/>
                  <a:pt x="3373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9" name="Ink 8"/>
          <p:cNvSpPr/>
          <p:nvPr/>
        </p:nvSpPr>
        <p:spPr>
          <a:xfrm>
            <a:off x="2367000" y="1544760"/>
            <a:ext cx="3946320" cy="482400"/>
          </a:xfrm>
          <a:custGeom>
            <a:avLst/>
            <a:gdLst/>
            <a:ahLst/>
            <a:rect l="l" t="t" r="r" b="b"/>
            <a:pathLst>
              <a:path w="10965" h="1341">
                <a:moveTo>
                  <a:pt x="6648" y="4911"/>
                </a:moveTo>
                <a:cubicBezTo>
                  <a:pt x="6696" y="4973"/>
                  <a:pt x="6721" y="5036"/>
                  <a:pt x="6747" y="5110"/>
                </a:cubicBezTo>
                <a:cubicBezTo>
                  <a:pt x="6779" y="5202"/>
                  <a:pt x="6815" y="5291"/>
                  <a:pt x="6846" y="5383"/>
                </a:cubicBezTo>
                <a:cubicBezTo>
                  <a:pt x="6872" y="5459"/>
                  <a:pt x="6905" y="5514"/>
                  <a:pt x="6945" y="5581"/>
                </a:cubicBezTo>
                <a:cubicBezTo>
                  <a:pt x="7006" y="5683"/>
                  <a:pt x="7007" y="5595"/>
                  <a:pt x="7020" y="5531"/>
                </a:cubicBezTo>
              </a:path>
              <a:path w="10965" h="1341">
                <a:moveTo>
                  <a:pt x="6995" y="4911"/>
                </a:moveTo>
                <a:cubicBezTo>
                  <a:pt x="6906" y="5034"/>
                  <a:pt x="6850" y="5142"/>
                  <a:pt x="6796" y="5283"/>
                </a:cubicBezTo>
                <a:cubicBezTo>
                  <a:pt x="6768" y="5356"/>
                  <a:pt x="6722" y="5443"/>
                  <a:pt x="6672" y="5507"/>
                </a:cubicBezTo>
                <a:cubicBezTo>
                  <a:pt x="6645" y="5542"/>
                  <a:pt x="6605" y="5574"/>
                  <a:pt x="6573" y="5606"/>
                </a:cubicBezTo>
                <a:cubicBezTo>
                  <a:pt x="6613" y="5507"/>
                  <a:pt x="6646" y="5430"/>
                  <a:pt x="6697" y="5333"/>
                </a:cubicBezTo>
              </a:path>
              <a:path w="10965" h="1341">
                <a:moveTo>
                  <a:pt x="7317" y="4514"/>
                </a:moveTo>
                <a:cubicBezTo>
                  <a:pt x="7309" y="4575"/>
                  <a:pt x="7281" y="4633"/>
                  <a:pt x="7243" y="4688"/>
                </a:cubicBezTo>
                <a:cubicBezTo>
                  <a:pt x="7197" y="4754"/>
                  <a:pt x="7214" y="4782"/>
                  <a:pt x="7293" y="4787"/>
                </a:cubicBezTo>
                <a:cubicBezTo>
                  <a:pt x="7352" y="4791"/>
                  <a:pt x="7389" y="4764"/>
                  <a:pt x="7441" y="4738"/>
                </a:cubicBezTo>
              </a:path>
              <a:path w="10965" h="1341">
                <a:moveTo>
                  <a:pt x="7491" y="4366"/>
                </a:moveTo>
                <a:cubicBezTo>
                  <a:pt x="7467" y="4488"/>
                  <a:pt x="7430" y="4616"/>
                  <a:pt x="7417" y="4738"/>
                </a:cubicBezTo>
                <a:cubicBezTo>
                  <a:pt x="7408" y="4826"/>
                  <a:pt x="7392" y="4895"/>
                  <a:pt x="7392" y="4986"/>
                </a:cubicBezTo>
                <a:cubicBezTo>
                  <a:pt x="7392" y="5027"/>
                  <a:pt x="7392" y="5035"/>
                  <a:pt x="7392" y="5060"/>
                </a:cubicBezTo>
              </a:path>
              <a:path w="10965" h="1341">
                <a:moveTo>
                  <a:pt x="7541" y="5135"/>
                </a:moveTo>
                <a:cubicBezTo>
                  <a:pt x="7611" y="5108"/>
                  <a:pt x="7670" y="5129"/>
                  <a:pt x="7739" y="5110"/>
                </a:cubicBezTo>
                <a:cubicBezTo>
                  <a:pt x="7798" y="5094"/>
                  <a:pt x="7824" y="5085"/>
                  <a:pt x="7888" y="5085"/>
                </a:cubicBezTo>
              </a:path>
              <a:path w="10965" h="1341">
                <a:moveTo>
                  <a:pt x="8285" y="4812"/>
                </a:moveTo>
                <a:cubicBezTo>
                  <a:pt x="8254" y="4864"/>
                  <a:pt x="8255" y="4905"/>
                  <a:pt x="8235" y="4961"/>
                </a:cubicBezTo>
                <a:cubicBezTo>
                  <a:pt x="8214" y="5021"/>
                  <a:pt x="8167" y="5036"/>
                  <a:pt x="8136" y="5085"/>
                </a:cubicBezTo>
                <a:cubicBezTo>
                  <a:pt x="8128" y="5102"/>
                  <a:pt x="8119" y="5118"/>
                  <a:pt x="8111" y="5135"/>
                </a:cubicBezTo>
                <a:cubicBezTo>
                  <a:pt x="8177" y="5167"/>
                  <a:pt x="8307" y="5152"/>
                  <a:pt x="8384" y="5135"/>
                </a:cubicBezTo>
                <a:cubicBezTo>
                  <a:pt x="8453" y="5120"/>
                  <a:pt x="8517" y="5093"/>
                  <a:pt x="8582" y="5060"/>
                </a:cubicBezTo>
              </a:path>
              <a:path w="10965" h="1341">
                <a:moveTo>
                  <a:pt x="8582" y="4589"/>
                </a:moveTo>
                <a:cubicBezTo>
                  <a:pt x="8547" y="4696"/>
                  <a:pt x="8533" y="4774"/>
                  <a:pt x="8533" y="4887"/>
                </a:cubicBezTo>
                <a:cubicBezTo>
                  <a:pt x="8533" y="5016"/>
                  <a:pt x="8498" y="5133"/>
                  <a:pt x="8483" y="5259"/>
                </a:cubicBezTo>
                <a:cubicBezTo>
                  <a:pt x="8474" y="5335"/>
                  <a:pt x="8462" y="5409"/>
                  <a:pt x="8458" y="5482"/>
                </a:cubicBezTo>
                <a:cubicBezTo>
                  <a:pt x="8458" y="5531"/>
                  <a:pt x="8458" y="5547"/>
                  <a:pt x="8458" y="5482"/>
                </a:cubicBezTo>
              </a:path>
              <a:path w="10965" h="1341">
                <a:moveTo>
                  <a:pt x="8781" y="5035"/>
                </a:moveTo>
                <a:cubicBezTo>
                  <a:pt x="8812" y="5127"/>
                  <a:pt x="8830" y="5220"/>
                  <a:pt x="8855" y="5308"/>
                </a:cubicBezTo>
                <a:cubicBezTo>
                  <a:pt x="8869" y="5356"/>
                  <a:pt x="8913" y="5452"/>
                  <a:pt x="8954" y="5482"/>
                </a:cubicBezTo>
                <a:cubicBezTo>
                  <a:pt x="9017" y="5527"/>
                  <a:pt x="9104" y="5563"/>
                  <a:pt x="9178" y="5507"/>
                </a:cubicBezTo>
                <a:cubicBezTo>
                  <a:pt x="9186" y="5490"/>
                  <a:pt x="9195" y="5474"/>
                  <a:pt x="9203" y="5457"/>
                </a:cubicBezTo>
              </a:path>
              <a:path w="10965" h="1341">
                <a:moveTo>
                  <a:pt x="9054" y="5060"/>
                </a:moveTo>
                <a:cubicBezTo>
                  <a:pt x="8983" y="5165"/>
                  <a:pt x="8924" y="5264"/>
                  <a:pt x="8880" y="5383"/>
                </a:cubicBezTo>
                <a:cubicBezTo>
                  <a:pt x="8856" y="5447"/>
                  <a:pt x="8733" y="5604"/>
                  <a:pt x="8781" y="5556"/>
                </a:cubicBezTo>
                <a:cubicBezTo>
                  <a:pt x="8824" y="5513"/>
                  <a:pt x="8843" y="5483"/>
                  <a:pt x="8855" y="5432"/>
                </a:cubicBezTo>
              </a:path>
              <a:path w="10965" h="1341">
                <a:moveTo>
                  <a:pt x="9327" y="4390"/>
                </a:moveTo>
                <a:cubicBezTo>
                  <a:pt x="9397" y="4375"/>
                  <a:pt x="9501" y="4346"/>
                  <a:pt x="9575" y="4366"/>
                </a:cubicBezTo>
                <a:cubicBezTo>
                  <a:pt x="9641" y="4384"/>
                  <a:pt x="9652" y="4466"/>
                  <a:pt x="9624" y="4514"/>
                </a:cubicBezTo>
                <a:cubicBezTo>
                  <a:pt x="9589" y="4573"/>
                  <a:pt x="9561" y="4606"/>
                  <a:pt x="9500" y="4638"/>
                </a:cubicBezTo>
                <a:cubicBezTo>
                  <a:pt x="9484" y="4646"/>
                  <a:pt x="9467" y="4655"/>
                  <a:pt x="9451" y="4663"/>
                </a:cubicBezTo>
                <a:cubicBezTo>
                  <a:pt x="9529" y="4698"/>
                  <a:pt x="9666" y="4724"/>
                  <a:pt x="9649" y="4837"/>
                </a:cubicBezTo>
                <a:cubicBezTo>
                  <a:pt x="9643" y="4877"/>
                  <a:pt x="9530" y="4929"/>
                  <a:pt x="9500" y="4936"/>
                </a:cubicBezTo>
                <a:cubicBezTo>
                  <a:pt x="9424" y="4953"/>
                  <a:pt x="9358" y="4961"/>
                  <a:pt x="9277" y="4961"/>
                </a:cubicBezTo>
              </a:path>
              <a:path w="10965" h="1341">
                <a:moveTo>
                  <a:pt x="9971" y="4887"/>
                </a:moveTo>
                <a:cubicBezTo>
                  <a:pt x="9971" y="5013"/>
                  <a:pt x="10000" y="5222"/>
                  <a:pt x="9947" y="5333"/>
                </a:cubicBezTo>
              </a:path>
              <a:path w="10965" h="1341">
                <a:moveTo>
                  <a:pt x="9699" y="5159"/>
                </a:moveTo>
                <a:cubicBezTo>
                  <a:pt x="9768" y="5151"/>
                  <a:pt x="9831" y="5119"/>
                  <a:pt x="9897" y="5110"/>
                </a:cubicBezTo>
                <a:cubicBezTo>
                  <a:pt x="9996" y="5097"/>
                  <a:pt x="10097" y="5093"/>
                  <a:pt x="10195" y="5085"/>
                </a:cubicBezTo>
              </a:path>
              <a:path w="10965" h="1341">
                <a:moveTo>
                  <a:pt x="11038" y="4738"/>
                </a:moveTo>
                <a:cubicBezTo>
                  <a:pt x="10923" y="4668"/>
                  <a:pt x="10870" y="4698"/>
                  <a:pt x="10740" y="4713"/>
                </a:cubicBezTo>
                <a:cubicBezTo>
                  <a:pt x="10672" y="4721"/>
                  <a:pt x="10595" y="4720"/>
                  <a:pt x="10542" y="4762"/>
                </a:cubicBezTo>
                <a:cubicBezTo>
                  <a:pt x="10461" y="4826"/>
                  <a:pt x="10547" y="4890"/>
                  <a:pt x="10592" y="4936"/>
                </a:cubicBezTo>
                <a:cubicBezTo>
                  <a:pt x="10685" y="5029"/>
                  <a:pt x="10740" y="5092"/>
                  <a:pt x="10790" y="5209"/>
                </a:cubicBezTo>
                <a:cubicBezTo>
                  <a:pt x="10825" y="5290"/>
                  <a:pt x="10827" y="5323"/>
                  <a:pt x="10765" y="5383"/>
                </a:cubicBezTo>
                <a:cubicBezTo>
                  <a:pt x="10725" y="5423"/>
                  <a:pt x="10613" y="5420"/>
                  <a:pt x="10567" y="5383"/>
                </a:cubicBezTo>
                <a:cubicBezTo>
                  <a:pt x="10559" y="5366"/>
                  <a:pt x="10550" y="5350"/>
                  <a:pt x="10542" y="5333"/>
                </a:cubicBezTo>
                <a:cubicBezTo>
                  <a:pt x="10578" y="5243"/>
                  <a:pt x="10623" y="5182"/>
                  <a:pt x="10691" y="5110"/>
                </a:cubicBezTo>
                <a:cubicBezTo>
                  <a:pt x="10768" y="5029"/>
                  <a:pt x="10859" y="4960"/>
                  <a:pt x="10914" y="4862"/>
                </a:cubicBezTo>
                <a:cubicBezTo>
                  <a:pt x="10936" y="4818"/>
                  <a:pt x="10939" y="4806"/>
                  <a:pt x="10964" y="4787"/>
                </a:cubicBezTo>
              </a:path>
              <a:path w="10965" h="1341">
                <a:moveTo>
                  <a:pt x="11137" y="4862"/>
                </a:moveTo>
                <a:cubicBezTo>
                  <a:pt x="11177" y="4963"/>
                  <a:pt x="11213" y="5062"/>
                  <a:pt x="11261" y="5159"/>
                </a:cubicBezTo>
                <a:cubicBezTo>
                  <a:pt x="11291" y="5219"/>
                  <a:pt x="11322" y="5280"/>
                  <a:pt x="11361" y="5333"/>
                </a:cubicBezTo>
                <a:cubicBezTo>
                  <a:pt x="11404" y="5392"/>
                  <a:pt x="11458" y="5350"/>
                  <a:pt x="11509" y="5333"/>
                </a:cubicBezTo>
              </a:path>
              <a:path w="10965" h="1341">
                <a:moveTo>
                  <a:pt x="11361" y="4961"/>
                </a:moveTo>
                <a:cubicBezTo>
                  <a:pt x="11285" y="5077"/>
                  <a:pt x="11206" y="5189"/>
                  <a:pt x="11137" y="5308"/>
                </a:cubicBezTo>
                <a:cubicBezTo>
                  <a:pt x="11117" y="5343"/>
                  <a:pt x="11047" y="5414"/>
                  <a:pt x="11112" y="5383"/>
                </a:cubicBezTo>
              </a:path>
              <a:path w="10965" h="1341">
                <a:moveTo>
                  <a:pt x="11683" y="4465"/>
                </a:moveTo>
                <a:cubicBezTo>
                  <a:pt x="11769" y="4448"/>
                  <a:pt x="11801" y="4439"/>
                  <a:pt x="11807" y="4539"/>
                </a:cubicBezTo>
                <a:cubicBezTo>
                  <a:pt x="11813" y="4633"/>
                  <a:pt x="11770" y="4676"/>
                  <a:pt x="11708" y="4738"/>
                </a:cubicBezTo>
                <a:cubicBezTo>
                  <a:pt x="11691" y="4754"/>
                  <a:pt x="11675" y="4771"/>
                  <a:pt x="11658" y="4787"/>
                </a:cubicBezTo>
                <a:cubicBezTo>
                  <a:pt x="11727" y="4810"/>
                  <a:pt x="11782" y="4812"/>
                  <a:pt x="11857" y="4812"/>
                </a:cubicBezTo>
              </a:path>
              <a:path w="10965" h="1341">
                <a:moveTo>
                  <a:pt x="11881" y="5110"/>
                </a:moveTo>
                <a:cubicBezTo>
                  <a:pt x="11998" y="5087"/>
                  <a:pt x="12111" y="5069"/>
                  <a:pt x="12229" y="5060"/>
                </a:cubicBezTo>
              </a:path>
              <a:path w="10965" h="1341">
                <a:moveTo>
                  <a:pt x="12601" y="4713"/>
                </a:moveTo>
                <a:cubicBezTo>
                  <a:pt x="12595" y="4842"/>
                  <a:pt x="12576" y="4956"/>
                  <a:pt x="12576" y="5085"/>
                </a:cubicBezTo>
                <a:cubicBezTo>
                  <a:pt x="12576" y="5165"/>
                  <a:pt x="12529" y="5253"/>
                  <a:pt x="12551" y="5333"/>
                </a:cubicBezTo>
                <a:cubicBezTo>
                  <a:pt x="12587" y="5462"/>
                  <a:pt x="12585" y="5420"/>
                  <a:pt x="12626" y="5308"/>
                </a:cubicBezTo>
              </a:path>
              <a:path w="10965" h="1341">
                <a:moveTo>
                  <a:pt x="12948" y="4713"/>
                </a:moveTo>
                <a:cubicBezTo>
                  <a:pt x="12911" y="4824"/>
                  <a:pt x="12856" y="4921"/>
                  <a:pt x="12824" y="5035"/>
                </a:cubicBezTo>
                <a:cubicBezTo>
                  <a:pt x="12803" y="5108"/>
                  <a:pt x="12769" y="5255"/>
                  <a:pt x="12799" y="5333"/>
                </a:cubicBezTo>
                <a:cubicBezTo>
                  <a:pt x="12821" y="5389"/>
                  <a:pt x="12896" y="5417"/>
                  <a:pt x="12948" y="5407"/>
                </a:cubicBezTo>
                <a:cubicBezTo>
                  <a:pt x="13023" y="5393"/>
                  <a:pt x="13087" y="5357"/>
                  <a:pt x="13146" y="5308"/>
                </a:cubicBezTo>
                <a:cubicBezTo>
                  <a:pt x="13233" y="5236"/>
                  <a:pt x="13241" y="5160"/>
                  <a:pt x="13221" y="5060"/>
                </a:cubicBezTo>
                <a:cubicBezTo>
                  <a:pt x="13159" y="5039"/>
                  <a:pt x="13088" y="5060"/>
                  <a:pt x="13047" y="5135"/>
                </a:cubicBezTo>
                <a:cubicBezTo>
                  <a:pt x="13019" y="5187"/>
                  <a:pt x="12975" y="5296"/>
                  <a:pt x="12998" y="5358"/>
                </a:cubicBezTo>
                <a:cubicBezTo>
                  <a:pt x="13026" y="5387"/>
                  <a:pt x="13039" y="5395"/>
                  <a:pt x="13072" y="5383"/>
                </a:cubicBezTo>
              </a:path>
              <a:path w="10965" h="1341">
                <a:moveTo>
                  <a:pt x="13370" y="4936"/>
                </a:moveTo>
                <a:cubicBezTo>
                  <a:pt x="13431" y="5021"/>
                  <a:pt x="13479" y="5128"/>
                  <a:pt x="13543" y="5209"/>
                </a:cubicBezTo>
                <a:cubicBezTo>
                  <a:pt x="13578" y="5253"/>
                  <a:pt x="13661" y="5343"/>
                  <a:pt x="13717" y="5358"/>
                </a:cubicBezTo>
                <a:cubicBezTo>
                  <a:pt x="13795" y="5379"/>
                  <a:pt x="13827" y="5384"/>
                  <a:pt x="13891" y="5333"/>
                </a:cubicBezTo>
              </a:path>
              <a:path w="10965" h="1341">
                <a:moveTo>
                  <a:pt x="13717" y="4936"/>
                </a:moveTo>
                <a:cubicBezTo>
                  <a:pt x="13606" y="5077"/>
                  <a:pt x="13509" y="5251"/>
                  <a:pt x="13395" y="5383"/>
                </a:cubicBezTo>
                <a:cubicBezTo>
                  <a:pt x="13387" y="5392"/>
                  <a:pt x="13303" y="5474"/>
                  <a:pt x="13370" y="5407"/>
                </a:cubicBezTo>
              </a:path>
              <a:path w="10965" h="1341">
                <a:moveTo>
                  <a:pt x="14436" y="4738"/>
                </a:moveTo>
                <a:cubicBezTo>
                  <a:pt x="14405" y="4909"/>
                  <a:pt x="14387" y="5020"/>
                  <a:pt x="14387" y="5184"/>
                </a:cubicBezTo>
                <a:cubicBezTo>
                  <a:pt x="14387" y="5246"/>
                  <a:pt x="14405" y="5266"/>
                  <a:pt x="14412" y="5333"/>
                </a:cubicBezTo>
              </a:path>
              <a:path w="10965" h="1341">
                <a:moveTo>
                  <a:pt x="14089" y="5085"/>
                </a:moveTo>
                <a:cubicBezTo>
                  <a:pt x="14218" y="5097"/>
                  <a:pt x="14323" y="5110"/>
                  <a:pt x="14461" y="5110"/>
                </a:cubicBezTo>
                <a:cubicBezTo>
                  <a:pt x="14575" y="5110"/>
                  <a:pt x="14674" y="5112"/>
                  <a:pt x="14784" y="5085"/>
                </a:cubicBezTo>
              </a:path>
              <a:path w="10965" h="1341">
                <a:moveTo>
                  <a:pt x="15032" y="4614"/>
                </a:moveTo>
                <a:cubicBezTo>
                  <a:pt x="15032" y="4822"/>
                  <a:pt x="15039" y="5034"/>
                  <a:pt x="15007" y="5234"/>
                </a:cubicBezTo>
                <a:cubicBezTo>
                  <a:pt x="14997" y="5293"/>
                  <a:pt x="15012" y="5330"/>
                  <a:pt x="15032" y="5383"/>
                </a:cubicBezTo>
                <a:cubicBezTo>
                  <a:pt x="15051" y="5329"/>
                  <a:pt x="15061" y="5287"/>
                  <a:pt x="15081" y="5234"/>
                </a:cubicBezTo>
              </a:path>
              <a:path w="10965" h="1341">
                <a:moveTo>
                  <a:pt x="15329" y="4713"/>
                </a:moveTo>
                <a:cubicBezTo>
                  <a:pt x="15289" y="4853"/>
                  <a:pt x="15245" y="4993"/>
                  <a:pt x="15230" y="5135"/>
                </a:cubicBezTo>
                <a:cubicBezTo>
                  <a:pt x="15223" y="5196"/>
                  <a:pt x="15256" y="5313"/>
                  <a:pt x="15304" y="5358"/>
                </a:cubicBezTo>
                <a:cubicBezTo>
                  <a:pt x="15352" y="5403"/>
                  <a:pt x="15443" y="5424"/>
                  <a:pt x="15503" y="5432"/>
                </a:cubicBezTo>
                <a:cubicBezTo>
                  <a:pt x="15588" y="5443"/>
                  <a:pt x="15697" y="5399"/>
                  <a:pt x="15751" y="5333"/>
                </a:cubicBezTo>
                <a:cubicBezTo>
                  <a:pt x="15795" y="5280"/>
                  <a:pt x="15820" y="5209"/>
                  <a:pt x="15801" y="5159"/>
                </a:cubicBezTo>
                <a:cubicBezTo>
                  <a:pt x="15737" y="5167"/>
                  <a:pt x="15626" y="5185"/>
                  <a:pt x="15577" y="5234"/>
                </a:cubicBezTo>
                <a:cubicBezTo>
                  <a:pt x="15511" y="5300"/>
                  <a:pt x="15461" y="5385"/>
                  <a:pt x="15404" y="5457"/>
                </a:cubicBezTo>
              </a:path>
              <a:path w="10965" h="1341">
                <a:moveTo>
                  <a:pt x="15726" y="4887"/>
                </a:moveTo>
                <a:cubicBezTo>
                  <a:pt x="15780" y="4855"/>
                  <a:pt x="15858" y="4832"/>
                  <a:pt x="15925" y="4812"/>
                </a:cubicBezTo>
                <a:cubicBezTo>
                  <a:pt x="16075" y="4768"/>
                  <a:pt x="16219" y="4700"/>
                  <a:pt x="16371" y="4663"/>
                </a:cubicBezTo>
                <a:cubicBezTo>
                  <a:pt x="16577" y="4613"/>
                  <a:pt x="16781" y="4576"/>
                  <a:pt x="16991" y="4539"/>
                </a:cubicBezTo>
                <a:cubicBezTo>
                  <a:pt x="17118" y="4517"/>
                  <a:pt x="17234" y="4514"/>
                  <a:pt x="17363" y="4514"/>
                </a:cubicBezTo>
                <a:cubicBezTo>
                  <a:pt x="17486" y="4514"/>
                  <a:pt x="17351" y="4514"/>
                  <a:pt x="17314" y="4514"/>
                </a:cubicBezTo>
              </a:path>
              <a:path w="10965" h="1341">
                <a:moveTo>
                  <a:pt x="16619" y="4291"/>
                </a:moveTo>
                <a:cubicBezTo>
                  <a:pt x="16722" y="4291"/>
                  <a:pt x="16815" y="4313"/>
                  <a:pt x="16917" y="4316"/>
                </a:cubicBezTo>
                <a:cubicBezTo>
                  <a:pt x="17070" y="4320"/>
                  <a:pt x="17189" y="4329"/>
                  <a:pt x="17338" y="4366"/>
                </a:cubicBezTo>
                <a:cubicBezTo>
                  <a:pt x="17427" y="4388"/>
                  <a:pt x="17526" y="4422"/>
                  <a:pt x="17537" y="4514"/>
                </a:cubicBezTo>
                <a:cubicBezTo>
                  <a:pt x="17548" y="4607"/>
                  <a:pt x="17448" y="4659"/>
                  <a:pt x="17388" y="4713"/>
                </a:cubicBezTo>
                <a:cubicBezTo>
                  <a:pt x="17315" y="4779"/>
                  <a:pt x="17195" y="4834"/>
                  <a:pt x="17140" y="4911"/>
                </a:cubicBezTo>
                <a:cubicBezTo>
                  <a:pt x="17101" y="4965"/>
                  <a:pt x="17071" y="4994"/>
                  <a:pt x="17140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0" name="Ink 9"/>
          <p:cNvSpPr/>
          <p:nvPr/>
        </p:nvSpPr>
        <p:spPr>
          <a:xfrm>
            <a:off x="6510240" y="1276200"/>
            <a:ext cx="2106720" cy="554040"/>
          </a:xfrm>
          <a:custGeom>
            <a:avLst/>
            <a:gdLst/>
            <a:ahLst/>
            <a:rect l="l" t="t" r="r" b="b"/>
            <a:pathLst>
              <a:path w="5855" h="1539">
                <a:moveTo>
                  <a:pt x="18306" y="4068"/>
                </a:moveTo>
                <a:cubicBezTo>
                  <a:pt x="18296" y="4135"/>
                  <a:pt x="18260" y="4198"/>
                  <a:pt x="18231" y="4266"/>
                </a:cubicBezTo>
                <a:cubicBezTo>
                  <a:pt x="18195" y="4352"/>
                  <a:pt x="18140" y="4425"/>
                  <a:pt x="18107" y="4514"/>
                </a:cubicBezTo>
                <a:cubicBezTo>
                  <a:pt x="18066" y="4624"/>
                  <a:pt x="18070" y="4751"/>
                  <a:pt x="18107" y="4862"/>
                </a:cubicBezTo>
                <a:cubicBezTo>
                  <a:pt x="18133" y="4940"/>
                  <a:pt x="18190" y="4991"/>
                  <a:pt x="18256" y="5035"/>
                </a:cubicBezTo>
                <a:cubicBezTo>
                  <a:pt x="18308" y="5069"/>
                  <a:pt x="18323" y="5077"/>
                  <a:pt x="18380" y="5085"/>
                </a:cubicBezTo>
              </a:path>
              <a:path w="5855" h="1539">
                <a:moveTo>
                  <a:pt x="18579" y="4440"/>
                </a:moveTo>
                <a:cubicBezTo>
                  <a:pt x="18613" y="4534"/>
                  <a:pt x="18641" y="4633"/>
                  <a:pt x="18703" y="4713"/>
                </a:cubicBezTo>
                <a:cubicBezTo>
                  <a:pt x="18761" y="4788"/>
                  <a:pt x="18801" y="4810"/>
                  <a:pt x="18876" y="4862"/>
                </a:cubicBezTo>
                <a:cubicBezTo>
                  <a:pt x="18938" y="4905"/>
                  <a:pt x="18958" y="4926"/>
                  <a:pt x="19025" y="4887"/>
                </a:cubicBezTo>
              </a:path>
              <a:path w="5855" h="1539">
                <a:moveTo>
                  <a:pt x="18802" y="4440"/>
                </a:moveTo>
                <a:cubicBezTo>
                  <a:pt x="18727" y="4579"/>
                  <a:pt x="18670" y="4670"/>
                  <a:pt x="18579" y="4787"/>
                </a:cubicBezTo>
                <a:cubicBezTo>
                  <a:pt x="18549" y="4826"/>
                  <a:pt x="18516" y="4840"/>
                  <a:pt x="18504" y="4887"/>
                </a:cubicBezTo>
              </a:path>
              <a:path w="5855" h="1539">
                <a:moveTo>
                  <a:pt x="18876" y="4638"/>
                </a:moveTo>
                <a:cubicBezTo>
                  <a:pt x="18986" y="4638"/>
                  <a:pt x="19097" y="4651"/>
                  <a:pt x="19199" y="4614"/>
                </a:cubicBezTo>
              </a:path>
              <a:path w="5855" h="1539">
                <a:moveTo>
                  <a:pt x="19224" y="4390"/>
                </a:moveTo>
                <a:cubicBezTo>
                  <a:pt x="19277" y="4324"/>
                  <a:pt x="19347" y="4253"/>
                  <a:pt x="19447" y="4266"/>
                </a:cubicBezTo>
                <a:cubicBezTo>
                  <a:pt x="19538" y="4277"/>
                  <a:pt x="19542" y="4404"/>
                  <a:pt x="19496" y="4465"/>
                </a:cubicBezTo>
                <a:cubicBezTo>
                  <a:pt x="19459" y="4514"/>
                  <a:pt x="19388" y="4557"/>
                  <a:pt x="19348" y="4614"/>
                </a:cubicBezTo>
                <a:cubicBezTo>
                  <a:pt x="19315" y="4660"/>
                  <a:pt x="19259" y="4726"/>
                  <a:pt x="19273" y="4787"/>
                </a:cubicBezTo>
                <a:cubicBezTo>
                  <a:pt x="19293" y="4876"/>
                  <a:pt x="19378" y="4862"/>
                  <a:pt x="19447" y="4862"/>
                </a:cubicBezTo>
                <a:cubicBezTo>
                  <a:pt x="19521" y="4862"/>
                  <a:pt x="19560" y="4822"/>
                  <a:pt x="19621" y="4787"/>
                </a:cubicBezTo>
              </a:path>
              <a:path w="5855" h="1539">
                <a:moveTo>
                  <a:pt x="19546" y="3870"/>
                </a:moveTo>
                <a:cubicBezTo>
                  <a:pt x="19618" y="3941"/>
                  <a:pt x="19706" y="4022"/>
                  <a:pt x="19745" y="4118"/>
                </a:cubicBezTo>
                <a:cubicBezTo>
                  <a:pt x="19792" y="4235"/>
                  <a:pt x="19841" y="4360"/>
                  <a:pt x="19819" y="4490"/>
                </a:cubicBezTo>
                <a:cubicBezTo>
                  <a:pt x="19804" y="4578"/>
                  <a:pt x="19752" y="4675"/>
                  <a:pt x="19695" y="4738"/>
                </a:cubicBezTo>
                <a:cubicBezTo>
                  <a:pt x="19627" y="4813"/>
                  <a:pt x="19552" y="4854"/>
                  <a:pt x="19472" y="4911"/>
                </a:cubicBezTo>
                <a:cubicBezTo>
                  <a:pt x="19436" y="4936"/>
                  <a:pt x="19416" y="4952"/>
                  <a:pt x="19372" y="4961"/>
                </a:cubicBezTo>
              </a:path>
              <a:path w="5855" h="1539">
                <a:moveTo>
                  <a:pt x="20067" y="3944"/>
                </a:moveTo>
                <a:cubicBezTo>
                  <a:pt x="20037" y="4077"/>
                  <a:pt x="20006" y="4210"/>
                  <a:pt x="19968" y="4341"/>
                </a:cubicBezTo>
                <a:cubicBezTo>
                  <a:pt x="19942" y="4431"/>
                  <a:pt x="19925" y="4543"/>
                  <a:pt x="19943" y="4638"/>
                </a:cubicBezTo>
                <a:cubicBezTo>
                  <a:pt x="19955" y="4700"/>
                  <a:pt x="19999" y="4862"/>
                  <a:pt x="20042" y="4911"/>
                </a:cubicBezTo>
                <a:cubicBezTo>
                  <a:pt x="20094" y="4970"/>
                  <a:pt x="20119" y="4971"/>
                  <a:pt x="20191" y="4986"/>
                </a:cubicBezTo>
              </a:path>
              <a:path w="5855" h="1539">
                <a:moveTo>
                  <a:pt x="20166" y="4291"/>
                </a:moveTo>
                <a:cubicBezTo>
                  <a:pt x="20194" y="4394"/>
                  <a:pt x="20209" y="4451"/>
                  <a:pt x="20265" y="4539"/>
                </a:cubicBezTo>
                <a:cubicBezTo>
                  <a:pt x="20316" y="4619"/>
                  <a:pt x="20359" y="4704"/>
                  <a:pt x="20439" y="4762"/>
                </a:cubicBezTo>
                <a:cubicBezTo>
                  <a:pt x="20508" y="4811"/>
                  <a:pt x="20529" y="4897"/>
                  <a:pt x="20563" y="4812"/>
                </a:cubicBezTo>
              </a:path>
              <a:path w="5855" h="1539">
                <a:moveTo>
                  <a:pt x="20389" y="4242"/>
                </a:moveTo>
                <a:cubicBezTo>
                  <a:pt x="20317" y="4376"/>
                  <a:pt x="20253" y="4502"/>
                  <a:pt x="20191" y="4638"/>
                </a:cubicBezTo>
                <a:cubicBezTo>
                  <a:pt x="20174" y="4675"/>
                  <a:pt x="20094" y="4770"/>
                  <a:pt x="20117" y="4812"/>
                </a:cubicBezTo>
                <a:cubicBezTo>
                  <a:pt x="20125" y="4812"/>
                  <a:pt x="20133" y="4812"/>
                  <a:pt x="20141" y="4812"/>
                </a:cubicBezTo>
              </a:path>
              <a:path w="5855" h="1539">
                <a:moveTo>
                  <a:pt x="20464" y="4539"/>
                </a:moveTo>
                <a:cubicBezTo>
                  <a:pt x="20575" y="4534"/>
                  <a:pt x="20677" y="4524"/>
                  <a:pt x="20786" y="4514"/>
                </a:cubicBezTo>
              </a:path>
              <a:path w="5855" h="1539">
                <a:moveTo>
                  <a:pt x="20762" y="4266"/>
                </a:moveTo>
                <a:cubicBezTo>
                  <a:pt x="20809" y="4219"/>
                  <a:pt x="20852" y="4179"/>
                  <a:pt x="20910" y="4167"/>
                </a:cubicBezTo>
                <a:cubicBezTo>
                  <a:pt x="20939" y="4161"/>
                  <a:pt x="21062" y="4160"/>
                  <a:pt x="21059" y="4217"/>
                </a:cubicBezTo>
                <a:cubicBezTo>
                  <a:pt x="21053" y="4334"/>
                  <a:pt x="20948" y="4408"/>
                  <a:pt x="20886" y="4490"/>
                </a:cubicBezTo>
                <a:cubicBezTo>
                  <a:pt x="20836" y="4556"/>
                  <a:pt x="20816" y="4610"/>
                  <a:pt x="20861" y="4688"/>
                </a:cubicBezTo>
                <a:cubicBezTo>
                  <a:pt x="20898" y="4753"/>
                  <a:pt x="20998" y="4759"/>
                  <a:pt x="21059" y="4762"/>
                </a:cubicBezTo>
                <a:cubicBezTo>
                  <a:pt x="21136" y="4766"/>
                  <a:pt x="21153" y="4736"/>
                  <a:pt x="21208" y="4688"/>
                </a:cubicBezTo>
              </a:path>
              <a:path w="5855" h="1539">
                <a:moveTo>
                  <a:pt x="20960" y="3721"/>
                </a:moveTo>
                <a:cubicBezTo>
                  <a:pt x="21028" y="3687"/>
                  <a:pt x="21056" y="3762"/>
                  <a:pt x="21109" y="3820"/>
                </a:cubicBezTo>
                <a:cubicBezTo>
                  <a:pt x="21220" y="3941"/>
                  <a:pt x="21301" y="4060"/>
                  <a:pt x="21357" y="4217"/>
                </a:cubicBezTo>
                <a:cubicBezTo>
                  <a:pt x="21397" y="4330"/>
                  <a:pt x="21407" y="4424"/>
                  <a:pt x="21382" y="4539"/>
                </a:cubicBezTo>
                <a:cubicBezTo>
                  <a:pt x="21364" y="4620"/>
                  <a:pt x="21302" y="4698"/>
                  <a:pt x="21233" y="4738"/>
                </a:cubicBezTo>
                <a:cubicBezTo>
                  <a:pt x="21190" y="4763"/>
                  <a:pt x="21152" y="4801"/>
                  <a:pt x="21109" y="4812"/>
                </a:cubicBezTo>
              </a:path>
              <a:path w="5855" h="1539">
                <a:moveTo>
                  <a:pt x="21878" y="3746"/>
                </a:moveTo>
                <a:cubicBezTo>
                  <a:pt x="21841" y="3846"/>
                  <a:pt x="21788" y="3943"/>
                  <a:pt x="21754" y="4043"/>
                </a:cubicBezTo>
                <a:cubicBezTo>
                  <a:pt x="21717" y="4151"/>
                  <a:pt x="21668" y="4300"/>
                  <a:pt x="21679" y="4415"/>
                </a:cubicBezTo>
                <a:cubicBezTo>
                  <a:pt x="21683" y="4462"/>
                  <a:pt x="21693" y="4716"/>
                  <a:pt x="21729" y="4762"/>
                </a:cubicBezTo>
                <a:cubicBezTo>
                  <a:pt x="21777" y="4822"/>
                  <a:pt x="21819" y="4799"/>
                  <a:pt x="21878" y="4787"/>
                </a:cubicBezTo>
              </a:path>
              <a:path w="5855" h="1539">
                <a:moveTo>
                  <a:pt x="21927" y="4118"/>
                </a:moveTo>
                <a:cubicBezTo>
                  <a:pt x="22008" y="4228"/>
                  <a:pt x="22092" y="4333"/>
                  <a:pt x="22175" y="4440"/>
                </a:cubicBezTo>
                <a:cubicBezTo>
                  <a:pt x="22236" y="4517"/>
                  <a:pt x="22304" y="4569"/>
                  <a:pt x="22374" y="4638"/>
                </a:cubicBezTo>
                <a:cubicBezTo>
                  <a:pt x="22399" y="4663"/>
                  <a:pt x="22407" y="4671"/>
                  <a:pt x="22423" y="4638"/>
                </a:cubicBezTo>
              </a:path>
              <a:path w="5855" h="1539">
                <a:moveTo>
                  <a:pt x="22151" y="4192"/>
                </a:moveTo>
                <a:cubicBezTo>
                  <a:pt x="22104" y="4373"/>
                  <a:pt x="22052" y="4476"/>
                  <a:pt x="21977" y="4638"/>
                </a:cubicBezTo>
                <a:cubicBezTo>
                  <a:pt x="21961" y="4672"/>
                  <a:pt x="21955" y="4818"/>
                  <a:pt x="21927" y="4762"/>
                </a:cubicBezTo>
              </a:path>
              <a:path w="5855" h="1539">
                <a:moveTo>
                  <a:pt x="22299" y="3770"/>
                </a:moveTo>
                <a:cubicBezTo>
                  <a:pt x="22426" y="3776"/>
                  <a:pt x="22555" y="3741"/>
                  <a:pt x="22572" y="3894"/>
                </a:cubicBezTo>
                <a:cubicBezTo>
                  <a:pt x="22583" y="3990"/>
                  <a:pt x="22519" y="4011"/>
                  <a:pt x="22473" y="4068"/>
                </a:cubicBezTo>
                <a:cubicBezTo>
                  <a:pt x="22433" y="4118"/>
                  <a:pt x="22402" y="4165"/>
                  <a:pt x="22448" y="4217"/>
                </a:cubicBezTo>
                <a:cubicBezTo>
                  <a:pt x="22501" y="4278"/>
                  <a:pt x="22565" y="4309"/>
                  <a:pt x="22647" y="4291"/>
                </a:cubicBezTo>
                <a:cubicBezTo>
                  <a:pt x="22718" y="4267"/>
                  <a:pt x="22741" y="4260"/>
                  <a:pt x="22771" y="4217"/>
                </a:cubicBezTo>
              </a:path>
              <a:path w="5855" h="1539">
                <a:moveTo>
                  <a:pt x="22870" y="3969"/>
                </a:moveTo>
                <a:cubicBezTo>
                  <a:pt x="22876" y="4146"/>
                  <a:pt x="22915" y="4250"/>
                  <a:pt x="22944" y="4415"/>
                </a:cubicBezTo>
                <a:cubicBezTo>
                  <a:pt x="22944" y="4457"/>
                  <a:pt x="22944" y="4465"/>
                  <a:pt x="22944" y="4490"/>
                </a:cubicBezTo>
              </a:path>
              <a:path w="5855" h="1539">
                <a:moveTo>
                  <a:pt x="22647" y="4242"/>
                </a:moveTo>
                <a:cubicBezTo>
                  <a:pt x="22731" y="4173"/>
                  <a:pt x="22765" y="4210"/>
                  <a:pt x="22870" y="4192"/>
                </a:cubicBezTo>
                <a:cubicBezTo>
                  <a:pt x="22937" y="4180"/>
                  <a:pt x="23006" y="4145"/>
                  <a:pt x="23068" y="4118"/>
                </a:cubicBezTo>
              </a:path>
              <a:path w="5855" h="1539">
                <a:moveTo>
                  <a:pt x="23292" y="3870"/>
                </a:moveTo>
                <a:cubicBezTo>
                  <a:pt x="23275" y="3897"/>
                  <a:pt x="23143" y="4055"/>
                  <a:pt x="23192" y="4118"/>
                </a:cubicBezTo>
                <a:cubicBezTo>
                  <a:pt x="23249" y="4191"/>
                  <a:pt x="23341" y="4150"/>
                  <a:pt x="23416" y="4167"/>
                </a:cubicBezTo>
                <a:cubicBezTo>
                  <a:pt x="23516" y="4190"/>
                  <a:pt x="23579" y="4174"/>
                  <a:pt x="23664" y="4118"/>
                </a:cubicBezTo>
              </a:path>
              <a:path w="5855" h="1539">
                <a:moveTo>
                  <a:pt x="23440" y="3746"/>
                </a:moveTo>
                <a:cubicBezTo>
                  <a:pt x="23411" y="3881"/>
                  <a:pt x="23369" y="4004"/>
                  <a:pt x="23366" y="4142"/>
                </a:cubicBezTo>
                <a:cubicBezTo>
                  <a:pt x="23363" y="4244"/>
                  <a:pt x="23349" y="4395"/>
                  <a:pt x="23391" y="4490"/>
                </a:cubicBezTo>
                <a:cubicBezTo>
                  <a:pt x="23409" y="4531"/>
                  <a:pt x="23428" y="4540"/>
                  <a:pt x="23440" y="4514"/>
                </a:cubicBezTo>
              </a:path>
              <a:path w="5855" h="1539">
                <a:moveTo>
                  <a:pt x="23639" y="3547"/>
                </a:moveTo>
                <a:cubicBezTo>
                  <a:pt x="23769" y="3656"/>
                  <a:pt x="23861" y="3801"/>
                  <a:pt x="23912" y="3969"/>
                </a:cubicBezTo>
                <a:cubicBezTo>
                  <a:pt x="23964" y="4139"/>
                  <a:pt x="23953" y="4337"/>
                  <a:pt x="23862" y="4490"/>
                </a:cubicBezTo>
                <a:cubicBezTo>
                  <a:pt x="23773" y="4640"/>
                  <a:pt x="23603" y="4715"/>
                  <a:pt x="23465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1" name="Ink 10"/>
          <p:cNvSpPr/>
          <p:nvPr/>
        </p:nvSpPr>
        <p:spPr>
          <a:xfrm>
            <a:off x="6367320" y="1911240"/>
            <a:ext cx="392400" cy="554040"/>
          </a:xfrm>
          <a:custGeom>
            <a:avLst/>
            <a:gdLst/>
            <a:ahLst/>
            <a:rect l="l" t="t" r="r" b="b"/>
            <a:pathLst>
              <a:path w="1092" h="1539">
                <a:moveTo>
                  <a:pt x="17785" y="6052"/>
                </a:moveTo>
                <a:cubicBezTo>
                  <a:pt x="17826" y="6151"/>
                  <a:pt x="17865" y="6251"/>
                  <a:pt x="17909" y="6350"/>
                </a:cubicBezTo>
                <a:cubicBezTo>
                  <a:pt x="17953" y="6449"/>
                  <a:pt x="18009" y="6545"/>
                  <a:pt x="18083" y="6623"/>
                </a:cubicBezTo>
                <a:cubicBezTo>
                  <a:pt x="18119" y="6661"/>
                  <a:pt x="18206" y="6734"/>
                  <a:pt x="18256" y="6747"/>
                </a:cubicBezTo>
                <a:cubicBezTo>
                  <a:pt x="18306" y="6747"/>
                  <a:pt x="18323" y="6747"/>
                  <a:pt x="18306" y="6697"/>
                </a:cubicBezTo>
              </a:path>
              <a:path w="1092" h="1539">
                <a:moveTo>
                  <a:pt x="18033" y="6077"/>
                </a:moveTo>
                <a:cubicBezTo>
                  <a:pt x="17949" y="6276"/>
                  <a:pt x="17874" y="6457"/>
                  <a:pt x="17785" y="6648"/>
                </a:cubicBezTo>
                <a:cubicBezTo>
                  <a:pt x="17753" y="6716"/>
                  <a:pt x="17723" y="6780"/>
                  <a:pt x="17686" y="6846"/>
                </a:cubicBezTo>
              </a:path>
              <a:path w="1092" h="1539">
                <a:moveTo>
                  <a:pt x="18132" y="5383"/>
                </a:moveTo>
                <a:cubicBezTo>
                  <a:pt x="18211" y="5319"/>
                  <a:pt x="18254" y="5270"/>
                  <a:pt x="18355" y="5333"/>
                </a:cubicBezTo>
                <a:cubicBezTo>
                  <a:pt x="18441" y="5386"/>
                  <a:pt x="18403" y="5445"/>
                  <a:pt x="18355" y="5507"/>
                </a:cubicBezTo>
                <a:cubicBezTo>
                  <a:pt x="18326" y="5536"/>
                  <a:pt x="18311" y="5547"/>
                  <a:pt x="18281" y="5556"/>
                </a:cubicBezTo>
                <a:cubicBezTo>
                  <a:pt x="18323" y="5641"/>
                  <a:pt x="18377" y="5651"/>
                  <a:pt x="18430" y="5730"/>
                </a:cubicBezTo>
                <a:cubicBezTo>
                  <a:pt x="18469" y="5788"/>
                  <a:pt x="18465" y="5841"/>
                  <a:pt x="18405" y="5879"/>
                </a:cubicBezTo>
                <a:cubicBezTo>
                  <a:pt x="18336" y="5923"/>
                  <a:pt x="18255" y="5943"/>
                  <a:pt x="18182" y="5978"/>
                </a:cubicBezTo>
                <a:cubicBezTo>
                  <a:pt x="18165" y="5986"/>
                  <a:pt x="18149" y="5995"/>
                  <a:pt x="18132" y="6003"/>
                </a:cubicBezTo>
              </a:path>
              <a:path w="1092" h="1539">
                <a:moveTo>
                  <a:pt x="18479" y="6201"/>
                </a:moveTo>
                <a:cubicBezTo>
                  <a:pt x="18556" y="6208"/>
                  <a:pt x="18649" y="6247"/>
                  <a:pt x="18728" y="6226"/>
                </a:cubicBezTo>
                <a:cubicBezTo>
                  <a:pt x="18744" y="6218"/>
                  <a:pt x="18761" y="6209"/>
                  <a:pt x="18777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2" name="Ink 11"/>
          <p:cNvSpPr/>
          <p:nvPr/>
        </p:nvSpPr>
        <p:spPr>
          <a:xfrm>
            <a:off x="6892920" y="1963800"/>
            <a:ext cx="1457280" cy="403200"/>
          </a:xfrm>
          <a:custGeom>
            <a:avLst/>
            <a:gdLst/>
            <a:ahLst/>
            <a:rect l="l" t="t" r="r" b="b"/>
            <a:pathLst>
              <a:path w="4044" h="1117">
                <a:moveTo>
                  <a:pt x="19149" y="5606"/>
                </a:moveTo>
                <a:cubicBezTo>
                  <a:pt x="19262" y="5611"/>
                  <a:pt x="19428" y="5586"/>
                  <a:pt x="19472" y="5730"/>
                </a:cubicBezTo>
                <a:cubicBezTo>
                  <a:pt x="19514" y="5867"/>
                  <a:pt x="19416" y="5995"/>
                  <a:pt x="19348" y="6102"/>
                </a:cubicBezTo>
                <a:cubicBezTo>
                  <a:pt x="19292" y="6190"/>
                  <a:pt x="19228" y="6265"/>
                  <a:pt x="19174" y="6350"/>
                </a:cubicBezTo>
                <a:cubicBezTo>
                  <a:pt x="19149" y="6390"/>
                  <a:pt x="19129" y="6474"/>
                  <a:pt x="19199" y="6499"/>
                </a:cubicBezTo>
                <a:cubicBezTo>
                  <a:pt x="19270" y="6525"/>
                  <a:pt x="19393" y="6431"/>
                  <a:pt x="19447" y="6400"/>
                </a:cubicBezTo>
              </a:path>
              <a:path w="4044" h="1117">
                <a:moveTo>
                  <a:pt x="19645" y="5978"/>
                </a:moveTo>
                <a:cubicBezTo>
                  <a:pt x="19677" y="6065"/>
                  <a:pt x="19703" y="6169"/>
                  <a:pt x="19745" y="6251"/>
                </a:cubicBezTo>
                <a:cubicBezTo>
                  <a:pt x="19779" y="6317"/>
                  <a:pt x="19837" y="6431"/>
                  <a:pt x="19918" y="6449"/>
                </a:cubicBezTo>
                <a:cubicBezTo>
                  <a:pt x="19943" y="6449"/>
                  <a:pt x="19968" y="6449"/>
                  <a:pt x="19993" y="6449"/>
                </a:cubicBezTo>
              </a:path>
              <a:path w="4044" h="1117">
                <a:moveTo>
                  <a:pt x="19794" y="6028"/>
                </a:moveTo>
                <a:cubicBezTo>
                  <a:pt x="19717" y="6162"/>
                  <a:pt x="19577" y="6334"/>
                  <a:pt x="19521" y="6474"/>
                </a:cubicBezTo>
                <a:cubicBezTo>
                  <a:pt x="19500" y="6526"/>
                  <a:pt x="19500" y="6583"/>
                  <a:pt x="19521" y="6499"/>
                </a:cubicBezTo>
              </a:path>
              <a:path w="4044" h="1117">
                <a:moveTo>
                  <a:pt x="19943" y="5482"/>
                </a:moveTo>
                <a:cubicBezTo>
                  <a:pt x="20079" y="5466"/>
                  <a:pt x="20134" y="5434"/>
                  <a:pt x="20141" y="5581"/>
                </a:cubicBezTo>
                <a:cubicBezTo>
                  <a:pt x="20146" y="5695"/>
                  <a:pt x="20044" y="5744"/>
                  <a:pt x="19968" y="5804"/>
                </a:cubicBezTo>
                <a:cubicBezTo>
                  <a:pt x="19960" y="5812"/>
                  <a:pt x="19951" y="5821"/>
                  <a:pt x="19943" y="5829"/>
                </a:cubicBezTo>
                <a:cubicBezTo>
                  <a:pt x="19989" y="5910"/>
                  <a:pt x="19999" y="5904"/>
                  <a:pt x="20092" y="5904"/>
                </a:cubicBezTo>
                <a:cubicBezTo>
                  <a:pt x="20168" y="5904"/>
                  <a:pt x="20194" y="5903"/>
                  <a:pt x="20241" y="5879"/>
                </a:cubicBezTo>
              </a:path>
              <a:path w="4044" h="1117">
                <a:moveTo>
                  <a:pt x="20712" y="5829"/>
                </a:moveTo>
                <a:cubicBezTo>
                  <a:pt x="20686" y="6036"/>
                  <a:pt x="20634" y="6199"/>
                  <a:pt x="20687" y="6375"/>
                </a:cubicBezTo>
                <a:cubicBezTo>
                  <a:pt x="20687" y="6383"/>
                  <a:pt x="20687" y="6392"/>
                  <a:pt x="20687" y="6400"/>
                </a:cubicBezTo>
              </a:path>
              <a:path w="4044" h="1117">
                <a:moveTo>
                  <a:pt x="20489" y="6102"/>
                </a:moveTo>
                <a:cubicBezTo>
                  <a:pt x="20585" y="6123"/>
                  <a:pt x="20741" y="6159"/>
                  <a:pt x="20836" y="6152"/>
                </a:cubicBezTo>
                <a:cubicBezTo>
                  <a:pt x="20853" y="6144"/>
                  <a:pt x="20869" y="6135"/>
                  <a:pt x="20886" y="6127"/>
                </a:cubicBezTo>
              </a:path>
              <a:path w="4044" h="1117">
                <a:moveTo>
                  <a:pt x="21233" y="5829"/>
                </a:moveTo>
                <a:cubicBezTo>
                  <a:pt x="21229" y="5904"/>
                  <a:pt x="21175" y="6040"/>
                  <a:pt x="21208" y="6102"/>
                </a:cubicBezTo>
                <a:cubicBezTo>
                  <a:pt x="21227" y="6137"/>
                  <a:pt x="21294" y="6192"/>
                  <a:pt x="21332" y="6201"/>
                </a:cubicBezTo>
                <a:cubicBezTo>
                  <a:pt x="21413" y="6220"/>
                  <a:pt x="21482" y="6177"/>
                  <a:pt x="21555" y="6152"/>
                </a:cubicBezTo>
              </a:path>
              <a:path w="4044" h="1117">
                <a:moveTo>
                  <a:pt x="21605" y="5631"/>
                </a:moveTo>
                <a:cubicBezTo>
                  <a:pt x="21597" y="5774"/>
                  <a:pt x="21567" y="5910"/>
                  <a:pt x="21555" y="6052"/>
                </a:cubicBezTo>
                <a:cubicBezTo>
                  <a:pt x="21545" y="6174"/>
                  <a:pt x="21555" y="6302"/>
                  <a:pt x="21555" y="6424"/>
                </a:cubicBezTo>
              </a:path>
              <a:path w="4044" h="1117">
                <a:moveTo>
                  <a:pt x="21927" y="6102"/>
                </a:moveTo>
                <a:cubicBezTo>
                  <a:pt x="22016" y="6216"/>
                  <a:pt x="22116" y="6333"/>
                  <a:pt x="22200" y="6449"/>
                </a:cubicBezTo>
                <a:cubicBezTo>
                  <a:pt x="22247" y="6513"/>
                  <a:pt x="22244" y="6514"/>
                  <a:pt x="22324" y="6524"/>
                </a:cubicBezTo>
              </a:path>
              <a:path w="4044" h="1117">
                <a:moveTo>
                  <a:pt x="22126" y="6127"/>
                </a:moveTo>
                <a:cubicBezTo>
                  <a:pt x="22050" y="6231"/>
                  <a:pt x="21907" y="6485"/>
                  <a:pt x="21779" y="6573"/>
                </a:cubicBezTo>
                <a:cubicBezTo>
                  <a:pt x="21771" y="6573"/>
                  <a:pt x="21762" y="6573"/>
                  <a:pt x="21754" y="6573"/>
                </a:cubicBezTo>
              </a:path>
              <a:path w="4044" h="1117">
                <a:moveTo>
                  <a:pt x="22448" y="6077"/>
                </a:moveTo>
                <a:cubicBezTo>
                  <a:pt x="22555" y="6077"/>
                  <a:pt x="22621" y="6077"/>
                  <a:pt x="22721" y="6052"/>
                </a:cubicBezTo>
              </a:path>
              <a:path w="4044" h="1117">
                <a:moveTo>
                  <a:pt x="23192" y="5680"/>
                </a:moveTo>
                <a:cubicBezTo>
                  <a:pt x="23136" y="5645"/>
                  <a:pt x="23040" y="5642"/>
                  <a:pt x="22969" y="5655"/>
                </a:cubicBezTo>
                <a:cubicBezTo>
                  <a:pt x="22813" y="5684"/>
                  <a:pt x="22825" y="5794"/>
                  <a:pt x="22895" y="5904"/>
                </a:cubicBezTo>
                <a:cubicBezTo>
                  <a:pt x="22986" y="6048"/>
                  <a:pt x="23078" y="6164"/>
                  <a:pt x="23143" y="6325"/>
                </a:cubicBezTo>
                <a:cubicBezTo>
                  <a:pt x="23177" y="6408"/>
                  <a:pt x="23187" y="6422"/>
                  <a:pt x="23168" y="6499"/>
                </a:cubicBezTo>
                <a:cubicBezTo>
                  <a:pt x="23064" y="6486"/>
                  <a:pt x="23071" y="6460"/>
                  <a:pt x="23019" y="6375"/>
                </a:cubicBezTo>
                <a:cubicBezTo>
                  <a:pt x="22950" y="6262"/>
                  <a:pt x="22969" y="6161"/>
                  <a:pt x="22969" y="6028"/>
                </a:cubicBezTo>
                <a:cubicBezTo>
                  <a:pt x="22969" y="5936"/>
                  <a:pt x="23005" y="5864"/>
                  <a:pt x="23019" y="5779"/>
                </a:cubicBezTo>
                <a:cubicBezTo>
                  <a:pt x="23019" y="5735"/>
                  <a:pt x="23022" y="5721"/>
                  <a:pt x="22994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3" name="Ink 12"/>
          <p:cNvSpPr/>
          <p:nvPr/>
        </p:nvSpPr>
        <p:spPr>
          <a:xfrm>
            <a:off x="1098720" y="2401920"/>
            <a:ext cx="17928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3274" y="6672"/>
                </a:moveTo>
                <a:cubicBezTo>
                  <a:pt x="3274" y="6801"/>
                  <a:pt x="3276" y="6932"/>
                  <a:pt x="3299" y="7045"/>
                </a:cubicBezTo>
                <a:cubicBezTo>
                  <a:pt x="3299" y="7061"/>
                  <a:pt x="3299" y="7078"/>
                  <a:pt x="3299" y="7094"/>
                </a:cubicBezTo>
              </a:path>
              <a:path w="497" h="646">
                <a:moveTo>
                  <a:pt x="3101" y="6995"/>
                </a:moveTo>
                <a:cubicBezTo>
                  <a:pt x="3225" y="6995"/>
                  <a:pt x="3349" y="6995"/>
                  <a:pt x="3473" y="6995"/>
                </a:cubicBezTo>
              </a:path>
              <a:path w="497" h="646">
                <a:moveTo>
                  <a:pt x="3051" y="7293"/>
                </a:moveTo>
                <a:cubicBezTo>
                  <a:pt x="3132" y="7293"/>
                  <a:pt x="3197" y="7313"/>
                  <a:pt x="3274" y="7317"/>
                </a:cubicBezTo>
                <a:cubicBezTo>
                  <a:pt x="3333" y="7320"/>
                  <a:pt x="3446" y="7322"/>
                  <a:pt x="3497" y="7317"/>
                </a:cubicBezTo>
                <a:cubicBezTo>
                  <a:pt x="3514" y="7309"/>
                  <a:pt x="3530" y="7301"/>
                  <a:pt x="3547" y="72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4" name="Ink 13"/>
          <p:cNvSpPr/>
          <p:nvPr/>
        </p:nvSpPr>
        <p:spPr>
          <a:xfrm>
            <a:off x="1419120" y="2374920"/>
            <a:ext cx="546120" cy="349200"/>
          </a:xfrm>
          <a:custGeom>
            <a:avLst/>
            <a:gdLst/>
            <a:ahLst/>
            <a:rect l="l" t="t" r="r" b="b"/>
            <a:pathLst>
              <a:path w="1514" h="968">
                <a:moveTo>
                  <a:pt x="3944" y="6697"/>
                </a:moveTo>
                <a:cubicBezTo>
                  <a:pt x="3944" y="6887"/>
                  <a:pt x="3944" y="7078"/>
                  <a:pt x="3944" y="7268"/>
                </a:cubicBezTo>
              </a:path>
              <a:path w="1514" h="968">
                <a:moveTo>
                  <a:pt x="4167" y="7367"/>
                </a:moveTo>
                <a:cubicBezTo>
                  <a:pt x="4159" y="7391"/>
                  <a:pt x="4060" y="7596"/>
                  <a:pt x="4118" y="7541"/>
                </a:cubicBezTo>
              </a:path>
              <a:path w="1514" h="968">
                <a:moveTo>
                  <a:pt x="4614" y="6598"/>
                </a:moveTo>
                <a:cubicBezTo>
                  <a:pt x="4632" y="6704"/>
                  <a:pt x="4638" y="6789"/>
                  <a:pt x="4638" y="6896"/>
                </a:cubicBezTo>
                <a:cubicBezTo>
                  <a:pt x="4638" y="6953"/>
                  <a:pt x="4640" y="6974"/>
                  <a:pt x="4614" y="7020"/>
                </a:cubicBezTo>
              </a:path>
              <a:path w="1514" h="968">
                <a:moveTo>
                  <a:pt x="4415" y="6921"/>
                </a:moveTo>
                <a:cubicBezTo>
                  <a:pt x="4552" y="6921"/>
                  <a:pt x="4709" y="6899"/>
                  <a:pt x="4837" y="6945"/>
                </a:cubicBezTo>
              </a:path>
              <a:path w="1514" h="968">
                <a:moveTo>
                  <a:pt x="4539" y="7218"/>
                </a:moveTo>
                <a:cubicBezTo>
                  <a:pt x="4645" y="7218"/>
                  <a:pt x="4738" y="7210"/>
                  <a:pt x="4837" y="7193"/>
                </a:cubicBezTo>
                <a:cubicBezTo>
                  <a:pt x="4854" y="7193"/>
                  <a:pt x="4870" y="7193"/>
                  <a:pt x="4887" y="7193"/>
                </a:cubicBezTo>
              </a:path>
              <a:path w="1514" h="968">
                <a:moveTo>
                  <a:pt x="5085" y="6722"/>
                </a:moveTo>
                <a:cubicBezTo>
                  <a:pt x="5134" y="6685"/>
                  <a:pt x="5252" y="6566"/>
                  <a:pt x="5333" y="6623"/>
                </a:cubicBezTo>
                <a:cubicBezTo>
                  <a:pt x="5411" y="6678"/>
                  <a:pt x="5333" y="6799"/>
                  <a:pt x="5308" y="6846"/>
                </a:cubicBezTo>
                <a:cubicBezTo>
                  <a:pt x="5270" y="6919"/>
                  <a:pt x="5234" y="6961"/>
                  <a:pt x="5184" y="7020"/>
                </a:cubicBezTo>
                <a:cubicBezTo>
                  <a:pt x="5150" y="7061"/>
                  <a:pt x="5098" y="7088"/>
                  <a:pt x="5085" y="7144"/>
                </a:cubicBezTo>
                <a:cubicBezTo>
                  <a:pt x="5085" y="7160"/>
                  <a:pt x="5085" y="7177"/>
                  <a:pt x="5085" y="7193"/>
                </a:cubicBezTo>
                <a:cubicBezTo>
                  <a:pt x="5125" y="7217"/>
                  <a:pt x="5207" y="7238"/>
                  <a:pt x="5259" y="7218"/>
                </a:cubicBezTo>
                <a:cubicBezTo>
                  <a:pt x="5267" y="7210"/>
                  <a:pt x="5275" y="7201"/>
                  <a:pt x="5283" y="7193"/>
                </a:cubicBezTo>
              </a:path>
              <a:path w="1514" h="968">
                <a:moveTo>
                  <a:pt x="5457" y="7243"/>
                </a:moveTo>
                <a:cubicBezTo>
                  <a:pt x="5435" y="7308"/>
                  <a:pt x="5427" y="7323"/>
                  <a:pt x="5432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5" name="Ink 14"/>
          <p:cNvSpPr/>
          <p:nvPr/>
        </p:nvSpPr>
        <p:spPr>
          <a:xfrm>
            <a:off x="2081160" y="2367000"/>
            <a:ext cx="1017720" cy="312840"/>
          </a:xfrm>
          <a:custGeom>
            <a:avLst/>
            <a:gdLst/>
            <a:ahLst/>
            <a:rect l="l" t="t" r="r" b="b"/>
            <a:pathLst>
              <a:path w="2829" h="869">
                <a:moveTo>
                  <a:pt x="5904" y="6598"/>
                </a:moveTo>
                <a:cubicBezTo>
                  <a:pt x="5929" y="6668"/>
                  <a:pt x="5928" y="6721"/>
                  <a:pt x="5928" y="6796"/>
                </a:cubicBezTo>
                <a:cubicBezTo>
                  <a:pt x="5928" y="6858"/>
                  <a:pt x="5963" y="6916"/>
                  <a:pt x="5978" y="6970"/>
                </a:cubicBezTo>
                <a:cubicBezTo>
                  <a:pt x="5978" y="6978"/>
                  <a:pt x="5978" y="6987"/>
                  <a:pt x="5978" y="6995"/>
                </a:cubicBezTo>
              </a:path>
              <a:path w="2829" h="869">
                <a:moveTo>
                  <a:pt x="5779" y="6945"/>
                </a:moveTo>
                <a:cubicBezTo>
                  <a:pt x="5895" y="6945"/>
                  <a:pt x="6011" y="6945"/>
                  <a:pt x="6127" y="6945"/>
                </a:cubicBezTo>
              </a:path>
              <a:path w="2829" h="869">
                <a:moveTo>
                  <a:pt x="5879" y="7193"/>
                </a:moveTo>
                <a:cubicBezTo>
                  <a:pt x="5934" y="7226"/>
                  <a:pt x="5989" y="7214"/>
                  <a:pt x="6052" y="7193"/>
                </a:cubicBezTo>
                <a:cubicBezTo>
                  <a:pt x="6100" y="7170"/>
                  <a:pt x="6115" y="7162"/>
                  <a:pt x="6152" y="7169"/>
                </a:cubicBezTo>
              </a:path>
              <a:path w="2829" h="869">
                <a:moveTo>
                  <a:pt x="6424" y="6722"/>
                </a:moveTo>
                <a:cubicBezTo>
                  <a:pt x="6385" y="6853"/>
                  <a:pt x="6338" y="6883"/>
                  <a:pt x="6424" y="6970"/>
                </a:cubicBezTo>
                <a:cubicBezTo>
                  <a:pt x="6489" y="7035"/>
                  <a:pt x="6579" y="6976"/>
                  <a:pt x="6648" y="6945"/>
                </a:cubicBezTo>
              </a:path>
              <a:path w="2829" h="869">
                <a:moveTo>
                  <a:pt x="6648" y="6623"/>
                </a:moveTo>
                <a:cubicBezTo>
                  <a:pt x="6628" y="6744"/>
                  <a:pt x="6623" y="6848"/>
                  <a:pt x="6623" y="6970"/>
                </a:cubicBezTo>
                <a:cubicBezTo>
                  <a:pt x="6623" y="7061"/>
                  <a:pt x="6623" y="7152"/>
                  <a:pt x="6623" y="7243"/>
                </a:cubicBezTo>
              </a:path>
              <a:path w="2829" h="869">
                <a:moveTo>
                  <a:pt x="6846" y="7317"/>
                </a:moveTo>
                <a:cubicBezTo>
                  <a:pt x="6812" y="7379"/>
                  <a:pt x="6770" y="7498"/>
                  <a:pt x="6796" y="7392"/>
                </a:cubicBezTo>
              </a:path>
              <a:path w="2829" h="869">
                <a:moveTo>
                  <a:pt x="7218" y="6573"/>
                </a:moveTo>
                <a:cubicBezTo>
                  <a:pt x="7218" y="6705"/>
                  <a:pt x="7218" y="6838"/>
                  <a:pt x="7218" y="6970"/>
                </a:cubicBezTo>
              </a:path>
              <a:path w="2829" h="869">
                <a:moveTo>
                  <a:pt x="7069" y="6896"/>
                </a:moveTo>
                <a:cubicBezTo>
                  <a:pt x="7131" y="6927"/>
                  <a:pt x="7194" y="6921"/>
                  <a:pt x="7268" y="6921"/>
                </a:cubicBezTo>
                <a:cubicBezTo>
                  <a:pt x="7312" y="6921"/>
                  <a:pt x="7325" y="6918"/>
                  <a:pt x="7342" y="6945"/>
                </a:cubicBezTo>
              </a:path>
              <a:path w="2829" h="869">
                <a:moveTo>
                  <a:pt x="7119" y="7144"/>
                </a:moveTo>
                <a:cubicBezTo>
                  <a:pt x="7227" y="7144"/>
                  <a:pt x="7318" y="7152"/>
                  <a:pt x="7417" y="7119"/>
                </a:cubicBezTo>
              </a:path>
              <a:path w="2829" h="869">
                <a:moveTo>
                  <a:pt x="7888" y="6672"/>
                </a:moveTo>
                <a:cubicBezTo>
                  <a:pt x="7811" y="6653"/>
                  <a:pt x="7713" y="6619"/>
                  <a:pt x="7640" y="6672"/>
                </a:cubicBezTo>
                <a:cubicBezTo>
                  <a:pt x="7524" y="6756"/>
                  <a:pt x="7672" y="6863"/>
                  <a:pt x="7714" y="6945"/>
                </a:cubicBezTo>
                <a:cubicBezTo>
                  <a:pt x="7753" y="7021"/>
                  <a:pt x="7808" y="7082"/>
                  <a:pt x="7813" y="7169"/>
                </a:cubicBezTo>
                <a:cubicBezTo>
                  <a:pt x="7813" y="7213"/>
                  <a:pt x="7816" y="7226"/>
                  <a:pt x="7789" y="7243"/>
                </a:cubicBezTo>
                <a:cubicBezTo>
                  <a:pt x="7728" y="7237"/>
                  <a:pt x="7617" y="7242"/>
                  <a:pt x="7640" y="7144"/>
                </a:cubicBezTo>
                <a:cubicBezTo>
                  <a:pt x="7653" y="7087"/>
                  <a:pt x="7743" y="6980"/>
                  <a:pt x="7789" y="6945"/>
                </a:cubicBezTo>
                <a:cubicBezTo>
                  <a:pt x="7851" y="6898"/>
                  <a:pt x="7897" y="6841"/>
                  <a:pt x="7938" y="6772"/>
                </a:cubicBezTo>
                <a:cubicBezTo>
                  <a:pt x="7958" y="6731"/>
                  <a:pt x="7966" y="6725"/>
                  <a:pt x="7962" y="6697"/>
                </a:cubicBezTo>
              </a:path>
              <a:path w="2829" h="869">
                <a:moveTo>
                  <a:pt x="8062" y="7268"/>
                </a:moveTo>
                <a:cubicBezTo>
                  <a:pt x="8041" y="7477"/>
                  <a:pt x="8005" y="7475"/>
                  <a:pt x="8086" y="7392"/>
                </a:cubicBezTo>
              </a:path>
              <a:path w="2829" h="869">
                <a:moveTo>
                  <a:pt x="8508" y="6598"/>
                </a:moveTo>
                <a:cubicBezTo>
                  <a:pt x="8508" y="6706"/>
                  <a:pt x="8488" y="6793"/>
                  <a:pt x="8483" y="6896"/>
                </a:cubicBezTo>
                <a:cubicBezTo>
                  <a:pt x="8480" y="6957"/>
                  <a:pt x="8508" y="7000"/>
                  <a:pt x="8508" y="7069"/>
                </a:cubicBezTo>
              </a:path>
              <a:path w="2829" h="869">
                <a:moveTo>
                  <a:pt x="8285" y="6896"/>
                </a:moveTo>
                <a:cubicBezTo>
                  <a:pt x="8378" y="6905"/>
                  <a:pt x="8463" y="6921"/>
                  <a:pt x="8558" y="6921"/>
                </a:cubicBezTo>
                <a:cubicBezTo>
                  <a:pt x="8574" y="6921"/>
                  <a:pt x="8591" y="6921"/>
                  <a:pt x="8607" y="6921"/>
                </a:cubicBezTo>
              </a:path>
              <a:path w="2829" h="869">
                <a:moveTo>
                  <a:pt x="8334" y="7169"/>
                </a:moveTo>
                <a:cubicBezTo>
                  <a:pt x="8392" y="7188"/>
                  <a:pt x="8494" y="7217"/>
                  <a:pt x="8558" y="7193"/>
                </a:cubicBezTo>
                <a:cubicBezTo>
                  <a:pt x="8566" y="7185"/>
                  <a:pt x="8574" y="7177"/>
                  <a:pt x="8582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6" name="Ink 15"/>
          <p:cNvSpPr/>
          <p:nvPr/>
        </p:nvSpPr>
        <p:spPr>
          <a:xfrm>
            <a:off x="3224160" y="2394000"/>
            <a:ext cx="347760" cy="365040"/>
          </a:xfrm>
          <a:custGeom>
            <a:avLst/>
            <a:gdLst/>
            <a:ahLst/>
            <a:rect l="l" t="t" r="r" b="b"/>
            <a:pathLst>
              <a:path w="969" h="1018">
                <a:moveTo>
                  <a:pt x="9004" y="6648"/>
                </a:moveTo>
                <a:cubicBezTo>
                  <a:pt x="8983" y="6803"/>
                  <a:pt x="8954" y="6940"/>
                  <a:pt x="8954" y="7094"/>
                </a:cubicBezTo>
                <a:cubicBezTo>
                  <a:pt x="8954" y="7163"/>
                  <a:pt x="8941" y="7232"/>
                  <a:pt x="8979" y="7293"/>
                </a:cubicBezTo>
                <a:cubicBezTo>
                  <a:pt x="9004" y="7317"/>
                  <a:pt x="9012" y="7325"/>
                  <a:pt x="9029" y="7293"/>
                </a:cubicBezTo>
              </a:path>
              <a:path w="969" h="1018">
                <a:moveTo>
                  <a:pt x="9277" y="6648"/>
                </a:moveTo>
                <a:cubicBezTo>
                  <a:pt x="9277" y="6765"/>
                  <a:pt x="9263" y="6834"/>
                  <a:pt x="9227" y="6945"/>
                </a:cubicBezTo>
                <a:cubicBezTo>
                  <a:pt x="9200" y="7026"/>
                  <a:pt x="9144" y="7120"/>
                  <a:pt x="9203" y="7193"/>
                </a:cubicBezTo>
                <a:cubicBezTo>
                  <a:pt x="9271" y="7278"/>
                  <a:pt x="9272" y="7259"/>
                  <a:pt x="9351" y="7243"/>
                </a:cubicBezTo>
                <a:cubicBezTo>
                  <a:pt x="9417" y="7230"/>
                  <a:pt x="9462" y="7184"/>
                  <a:pt x="9500" y="7119"/>
                </a:cubicBezTo>
                <a:cubicBezTo>
                  <a:pt x="9508" y="7102"/>
                  <a:pt x="9517" y="7086"/>
                  <a:pt x="9525" y="7069"/>
                </a:cubicBezTo>
                <a:cubicBezTo>
                  <a:pt x="9460" y="7044"/>
                  <a:pt x="9438" y="7081"/>
                  <a:pt x="9376" y="7119"/>
                </a:cubicBezTo>
                <a:cubicBezTo>
                  <a:pt x="9294" y="7169"/>
                  <a:pt x="9313" y="7171"/>
                  <a:pt x="9277" y="7243"/>
                </a:cubicBezTo>
                <a:cubicBezTo>
                  <a:pt x="9247" y="7273"/>
                  <a:pt x="9236" y="7287"/>
                  <a:pt x="9227" y="7317"/>
                </a:cubicBezTo>
              </a:path>
              <a:path w="969" h="1018">
                <a:moveTo>
                  <a:pt x="9674" y="7441"/>
                </a:moveTo>
                <a:cubicBezTo>
                  <a:pt x="9765" y="7441"/>
                  <a:pt x="9835" y="7440"/>
                  <a:pt x="9922" y="7417"/>
                </a:cubicBezTo>
              </a:path>
              <a:path w="969" h="1018">
                <a:moveTo>
                  <a:pt x="9599" y="7615"/>
                </a:moveTo>
                <a:cubicBezTo>
                  <a:pt x="9652" y="7668"/>
                  <a:pt x="9672" y="7665"/>
                  <a:pt x="9748" y="7665"/>
                </a:cubicBezTo>
                <a:cubicBezTo>
                  <a:pt x="9773" y="7665"/>
                  <a:pt x="9798" y="7665"/>
                  <a:pt x="9823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7" name="Ink 16"/>
          <p:cNvSpPr/>
          <p:nvPr/>
        </p:nvSpPr>
        <p:spPr>
          <a:xfrm>
            <a:off x="3724200" y="244620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0592" y="6796"/>
                </a:moveTo>
                <a:cubicBezTo>
                  <a:pt x="10610" y="6860"/>
                  <a:pt x="10592" y="6893"/>
                  <a:pt x="10592" y="6970"/>
                </a:cubicBezTo>
                <a:cubicBezTo>
                  <a:pt x="10592" y="7020"/>
                  <a:pt x="10592" y="7036"/>
                  <a:pt x="10592" y="7069"/>
                </a:cubicBezTo>
              </a:path>
              <a:path w="373" h="547">
                <a:moveTo>
                  <a:pt x="10368" y="7045"/>
                </a:moveTo>
                <a:cubicBezTo>
                  <a:pt x="10449" y="7066"/>
                  <a:pt x="10509" y="7069"/>
                  <a:pt x="10592" y="7069"/>
                </a:cubicBezTo>
                <a:cubicBezTo>
                  <a:pt x="10608" y="7069"/>
                  <a:pt x="10625" y="7069"/>
                  <a:pt x="10641" y="7069"/>
                </a:cubicBezTo>
              </a:path>
              <a:path w="373" h="547">
                <a:moveTo>
                  <a:pt x="10344" y="7342"/>
                </a:moveTo>
                <a:cubicBezTo>
                  <a:pt x="10470" y="7342"/>
                  <a:pt x="10599" y="7356"/>
                  <a:pt x="10716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8" name="Ink 17"/>
          <p:cNvSpPr/>
          <p:nvPr/>
        </p:nvSpPr>
        <p:spPr>
          <a:xfrm>
            <a:off x="4000680" y="2394000"/>
            <a:ext cx="1812600" cy="392040"/>
          </a:xfrm>
          <a:custGeom>
            <a:avLst/>
            <a:gdLst/>
            <a:ahLst/>
            <a:rect l="l" t="t" r="r" b="b"/>
            <a:pathLst>
              <a:path w="5037" h="1092">
                <a:moveTo>
                  <a:pt x="11162" y="6747"/>
                </a:moveTo>
                <a:cubicBezTo>
                  <a:pt x="11146" y="6855"/>
                  <a:pt x="11128" y="6967"/>
                  <a:pt x="11112" y="7069"/>
                </a:cubicBezTo>
                <a:cubicBezTo>
                  <a:pt x="11100" y="7144"/>
                  <a:pt x="11126" y="7201"/>
                  <a:pt x="11137" y="7268"/>
                </a:cubicBezTo>
                <a:cubicBezTo>
                  <a:pt x="11137" y="7284"/>
                  <a:pt x="11137" y="7301"/>
                  <a:pt x="11137" y="7317"/>
                </a:cubicBezTo>
              </a:path>
              <a:path w="5037" h="1092">
                <a:moveTo>
                  <a:pt x="11361" y="7541"/>
                </a:moveTo>
                <a:cubicBezTo>
                  <a:pt x="11322" y="7657"/>
                  <a:pt x="11320" y="7677"/>
                  <a:pt x="11286" y="7739"/>
                </a:cubicBezTo>
              </a:path>
              <a:path w="5037" h="1092">
                <a:moveTo>
                  <a:pt x="11733" y="6747"/>
                </a:moveTo>
                <a:cubicBezTo>
                  <a:pt x="11717" y="6864"/>
                  <a:pt x="11702" y="7026"/>
                  <a:pt x="11683" y="7119"/>
                </a:cubicBezTo>
                <a:cubicBezTo>
                  <a:pt x="11683" y="7127"/>
                  <a:pt x="11683" y="7136"/>
                  <a:pt x="11683" y="7144"/>
                </a:cubicBezTo>
              </a:path>
              <a:path w="5037" h="1092">
                <a:moveTo>
                  <a:pt x="11485" y="7094"/>
                </a:moveTo>
                <a:cubicBezTo>
                  <a:pt x="11584" y="7094"/>
                  <a:pt x="11683" y="7094"/>
                  <a:pt x="11782" y="7094"/>
                </a:cubicBezTo>
              </a:path>
              <a:path w="5037" h="1092">
                <a:moveTo>
                  <a:pt x="11534" y="7342"/>
                </a:moveTo>
                <a:cubicBezTo>
                  <a:pt x="11624" y="7342"/>
                  <a:pt x="11695" y="7339"/>
                  <a:pt x="11782" y="7317"/>
                </a:cubicBezTo>
              </a:path>
              <a:path w="5037" h="1092">
                <a:moveTo>
                  <a:pt x="12005" y="6796"/>
                </a:moveTo>
                <a:cubicBezTo>
                  <a:pt x="12115" y="6758"/>
                  <a:pt x="12215" y="6690"/>
                  <a:pt x="12328" y="6747"/>
                </a:cubicBezTo>
                <a:cubicBezTo>
                  <a:pt x="12425" y="6796"/>
                  <a:pt x="12294" y="7017"/>
                  <a:pt x="12278" y="7045"/>
                </a:cubicBezTo>
                <a:cubicBezTo>
                  <a:pt x="12238" y="7117"/>
                  <a:pt x="12141" y="7171"/>
                  <a:pt x="12080" y="7218"/>
                </a:cubicBezTo>
                <a:cubicBezTo>
                  <a:pt x="12023" y="7262"/>
                  <a:pt x="11990" y="7301"/>
                  <a:pt x="11981" y="7367"/>
                </a:cubicBezTo>
                <a:cubicBezTo>
                  <a:pt x="12051" y="7376"/>
                  <a:pt x="12106" y="7392"/>
                  <a:pt x="12179" y="7392"/>
                </a:cubicBezTo>
                <a:cubicBezTo>
                  <a:pt x="12262" y="7392"/>
                  <a:pt x="12344" y="7392"/>
                  <a:pt x="12427" y="7392"/>
                </a:cubicBezTo>
              </a:path>
              <a:path w="5037" h="1092">
                <a:moveTo>
                  <a:pt x="12601" y="7342"/>
                </a:moveTo>
                <a:cubicBezTo>
                  <a:pt x="12571" y="7401"/>
                  <a:pt x="12517" y="7480"/>
                  <a:pt x="12502" y="7541"/>
                </a:cubicBezTo>
              </a:path>
              <a:path w="5037" h="1092">
                <a:moveTo>
                  <a:pt x="12874" y="6648"/>
                </a:moveTo>
                <a:cubicBezTo>
                  <a:pt x="12858" y="6772"/>
                  <a:pt x="12849" y="6873"/>
                  <a:pt x="12849" y="6995"/>
                </a:cubicBezTo>
                <a:cubicBezTo>
                  <a:pt x="12849" y="7003"/>
                  <a:pt x="12849" y="7012"/>
                  <a:pt x="12849" y="7020"/>
                </a:cubicBezTo>
              </a:path>
              <a:path w="5037" h="1092">
                <a:moveTo>
                  <a:pt x="12725" y="6846"/>
                </a:moveTo>
                <a:cubicBezTo>
                  <a:pt x="12822" y="6867"/>
                  <a:pt x="12899" y="6871"/>
                  <a:pt x="12998" y="6871"/>
                </a:cubicBezTo>
              </a:path>
              <a:path w="5037" h="1092">
                <a:moveTo>
                  <a:pt x="12725" y="7218"/>
                </a:moveTo>
                <a:cubicBezTo>
                  <a:pt x="12800" y="7218"/>
                  <a:pt x="12854" y="7205"/>
                  <a:pt x="12923" y="7193"/>
                </a:cubicBezTo>
                <a:cubicBezTo>
                  <a:pt x="12940" y="7193"/>
                  <a:pt x="12956" y="7193"/>
                  <a:pt x="12973" y="7193"/>
                </a:cubicBezTo>
              </a:path>
              <a:path w="5037" h="1092">
                <a:moveTo>
                  <a:pt x="13246" y="6796"/>
                </a:moveTo>
                <a:cubicBezTo>
                  <a:pt x="13237" y="6829"/>
                  <a:pt x="13169" y="6967"/>
                  <a:pt x="13171" y="6995"/>
                </a:cubicBezTo>
                <a:cubicBezTo>
                  <a:pt x="13178" y="7083"/>
                  <a:pt x="13285" y="7069"/>
                  <a:pt x="13345" y="7069"/>
                </a:cubicBezTo>
                <a:cubicBezTo>
                  <a:pt x="13432" y="7069"/>
                  <a:pt x="13472" y="7035"/>
                  <a:pt x="13519" y="6970"/>
                </a:cubicBezTo>
              </a:path>
              <a:path w="5037" h="1092">
                <a:moveTo>
                  <a:pt x="13519" y="6747"/>
                </a:moveTo>
                <a:cubicBezTo>
                  <a:pt x="13481" y="6899"/>
                  <a:pt x="13469" y="6992"/>
                  <a:pt x="13469" y="7144"/>
                </a:cubicBezTo>
                <a:cubicBezTo>
                  <a:pt x="13469" y="7210"/>
                  <a:pt x="13469" y="7276"/>
                  <a:pt x="13469" y="7342"/>
                </a:cubicBezTo>
              </a:path>
              <a:path w="5037" h="1092">
                <a:moveTo>
                  <a:pt x="13692" y="7367"/>
                </a:moveTo>
                <a:cubicBezTo>
                  <a:pt x="13689" y="7377"/>
                  <a:pt x="13616" y="7555"/>
                  <a:pt x="13618" y="7565"/>
                </a:cubicBezTo>
                <a:cubicBezTo>
                  <a:pt x="13626" y="7573"/>
                  <a:pt x="13635" y="7582"/>
                  <a:pt x="13643" y="7590"/>
                </a:cubicBezTo>
              </a:path>
              <a:path w="5037" h="1092">
                <a:moveTo>
                  <a:pt x="14114" y="6722"/>
                </a:moveTo>
                <a:cubicBezTo>
                  <a:pt x="14106" y="6820"/>
                  <a:pt x="14112" y="6998"/>
                  <a:pt x="14064" y="7094"/>
                </a:cubicBezTo>
              </a:path>
              <a:path w="5037" h="1092">
                <a:moveTo>
                  <a:pt x="13940" y="6970"/>
                </a:moveTo>
                <a:cubicBezTo>
                  <a:pt x="14015" y="6975"/>
                  <a:pt x="14115" y="6975"/>
                  <a:pt x="14188" y="6995"/>
                </a:cubicBezTo>
                <a:cubicBezTo>
                  <a:pt x="14205" y="7003"/>
                  <a:pt x="14221" y="7012"/>
                  <a:pt x="14238" y="7020"/>
                </a:cubicBezTo>
              </a:path>
              <a:path w="5037" h="1092">
                <a:moveTo>
                  <a:pt x="14015" y="7268"/>
                </a:moveTo>
                <a:cubicBezTo>
                  <a:pt x="14091" y="7315"/>
                  <a:pt x="14155" y="7278"/>
                  <a:pt x="14238" y="7268"/>
                </a:cubicBezTo>
                <a:cubicBezTo>
                  <a:pt x="14263" y="7268"/>
                  <a:pt x="14287" y="7268"/>
                  <a:pt x="14312" y="7268"/>
                </a:cubicBezTo>
              </a:path>
              <a:path w="5037" h="1092">
                <a:moveTo>
                  <a:pt x="14709" y="6846"/>
                </a:moveTo>
                <a:cubicBezTo>
                  <a:pt x="14636" y="6846"/>
                  <a:pt x="14551" y="6831"/>
                  <a:pt x="14486" y="6871"/>
                </a:cubicBezTo>
                <a:cubicBezTo>
                  <a:pt x="14410" y="6918"/>
                  <a:pt x="14483" y="7005"/>
                  <a:pt x="14511" y="7045"/>
                </a:cubicBezTo>
                <a:cubicBezTo>
                  <a:pt x="14561" y="7117"/>
                  <a:pt x="14632" y="7210"/>
                  <a:pt x="14660" y="7293"/>
                </a:cubicBezTo>
                <a:cubicBezTo>
                  <a:pt x="14688" y="7376"/>
                  <a:pt x="14696" y="7403"/>
                  <a:pt x="14660" y="7466"/>
                </a:cubicBezTo>
                <a:cubicBezTo>
                  <a:pt x="14605" y="7458"/>
                  <a:pt x="14569" y="7445"/>
                  <a:pt x="14536" y="7392"/>
                </a:cubicBezTo>
                <a:cubicBezTo>
                  <a:pt x="14492" y="7323"/>
                  <a:pt x="14486" y="7272"/>
                  <a:pt x="14486" y="7193"/>
                </a:cubicBezTo>
                <a:cubicBezTo>
                  <a:pt x="14486" y="7085"/>
                  <a:pt x="14564" y="7016"/>
                  <a:pt x="14635" y="6945"/>
                </a:cubicBezTo>
                <a:cubicBezTo>
                  <a:pt x="14681" y="6899"/>
                  <a:pt x="14693" y="6885"/>
                  <a:pt x="14734" y="6871"/>
                </a:cubicBezTo>
              </a:path>
              <a:path w="5037" h="1092">
                <a:moveTo>
                  <a:pt x="14808" y="7541"/>
                </a:moveTo>
                <a:cubicBezTo>
                  <a:pt x="14786" y="7608"/>
                  <a:pt x="14772" y="7636"/>
                  <a:pt x="14833" y="7590"/>
                </a:cubicBezTo>
              </a:path>
              <a:path w="5037" h="1092">
                <a:moveTo>
                  <a:pt x="15230" y="6772"/>
                </a:moveTo>
                <a:cubicBezTo>
                  <a:pt x="15224" y="6881"/>
                  <a:pt x="15205" y="6964"/>
                  <a:pt x="15205" y="7069"/>
                </a:cubicBezTo>
                <a:cubicBezTo>
                  <a:pt x="15205" y="7086"/>
                  <a:pt x="15205" y="7102"/>
                  <a:pt x="15205" y="7119"/>
                </a:cubicBezTo>
              </a:path>
              <a:path w="5037" h="1092">
                <a:moveTo>
                  <a:pt x="15032" y="6995"/>
                </a:moveTo>
                <a:cubicBezTo>
                  <a:pt x="15139" y="6995"/>
                  <a:pt x="15206" y="7008"/>
                  <a:pt x="15304" y="7020"/>
                </a:cubicBezTo>
              </a:path>
              <a:path w="5037" h="1092">
                <a:moveTo>
                  <a:pt x="15180" y="7317"/>
                </a:moveTo>
                <a:cubicBezTo>
                  <a:pt x="15237" y="7339"/>
                  <a:pt x="15315" y="7360"/>
                  <a:pt x="15379" y="7342"/>
                </a:cubicBezTo>
                <a:cubicBezTo>
                  <a:pt x="15429" y="7317"/>
                  <a:pt x="15445" y="7309"/>
                  <a:pt x="15478" y="7293"/>
                </a:cubicBezTo>
              </a:path>
              <a:path w="5037" h="1092">
                <a:moveTo>
                  <a:pt x="15701" y="6846"/>
                </a:moveTo>
                <a:cubicBezTo>
                  <a:pt x="15694" y="6969"/>
                  <a:pt x="15668" y="7074"/>
                  <a:pt x="15652" y="7193"/>
                </a:cubicBezTo>
                <a:cubicBezTo>
                  <a:pt x="15649" y="7216"/>
                  <a:pt x="15660" y="7361"/>
                  <a:pt x="15677" y="7367"/>
                </a:cubicBezTo>
                <a:cubicBezTo>
                  <a:pt x="15685" y="7359"/>
                  <a:pt x="15693" y="7350"/>
                  <a:pt x="15701" y="7342"/>
                </a:cubicBezTo>
              </a:path>
              <a:path w="5037" h="1092">
                <a:moveTo>
                  <a:pt x="15925" y="6871"/>
                </a:moveTo>
                <a:cubicBezTo>
                  <a:pt x="15909" y="6943"/>
                  <a:pt x="15840" y="7122"/>
                  <a:pt x="15850" y="7193"/>
                </a:cubicBezTo>
                <a:cubicBezTo>
                  <a:pt x="15855" y="7229"/>
                  <a:pt x="15886" y="7292"/>
                  <a:pt x="15925" y="7317"/>
                </a:cubicBezTo>
                <a:cubicBezTo>
                  <a:pt x="15990" y="7359"/>
                  <a:pt x="16065" y="7309"/>
                  <a:pt x="16098" y="7243"/>
                </a:cubicBezTo>
                <a:cubicBezTo>
                  <a:pt x="16133" y="7173"/>
                  <a:pt x="16140" y="7105"/>
                  <a:pt x="16123" y="7045"/>
                </a:cubicBezTo>
                <a:cubicBezTo>
                  <a:pt x="16073" y="7109"/>
                  <a:pt x="16029" y="7163"/>
                  <a:pt x="16024" y="7243"/>
                </a:cubicBezTo>
                <a:cubicBezTo>
                  <a:pt x="16020" y="7311"/>
                  <a:pt x="16028" y="7355"/>
                  <a:pt x="16049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9" name="Ink 18"/>
          <p:cNvSpPr/>
          <p:nvPr/>
        </p:nvSpPr>
        <p:spPr>
          <a:xfrm>
            <a:off x="6929280" y="2401920"/>
            <a:ext cx="1982880" cy="920880"/>
          </a:xfrm>
          <a:custGeom>
            <a:avLst/>
            <a:gdLst/>
            <a:ahLst/>
            <a:rect l="l" t="t" r="r" b="b"/>
            <a:pathLst>
              <a:path w="5508" h="2556">
                <a:moveTo>
                  <a:pt x="20513" y="7491"/>
                </a:moveTo>
                <a:cubicBezTo>
                  <a:pt x="20479" y="7652"/>
                  <a:pt x="20461" y="7660"/>
                  <a:pt x="20489" y="7491"/>
                </a:cubicBezTo>
                <a:cubicBezTo>
                  <a:pt x="20502" y="7416"/>
                  <a:pt x="20537" y="7368"/>
                  <a:pt x="20588" y="7317"/>
                </a:cubicBezTo>
                <a:cubicBezTo>
                  <a:pt x="20665" y="7356"/>
                  <a:pt x="20714" y="7393"/>
                  <a:pt x="20762" y="7466"/>
                </a:cubicBezTo>
                <a:cubicBezTo>
                  <a:pt x="20810" y="7539"/>
                  <a:pt x="20827" y="7656"/>
                  <a:pt x="20836" y="7739"/>
                </a:cubicBezTo>
                <a:cubicBezTo>
                  <a:pt x="20845" y="7822"/>
                  <a:pt x="20819" y="7986"/>
                  <a:pt x="20786" y="8062"/>
                </a:cubicBezTo>
                <a:cubicBezTo>
                  <a:pt x="20740" y="8170"/>
                  <a:pt x="20687" y="8268"/>
                  <a:pt x="20588" y="8334"/>
                </a:cubicBezTo>
                <a:cubicBezTo>
                  <a:pt x="20510" y="8386"/>
                  <a:pt x="20463" y="8429"/>
                  <a:pt x="20365" y="8434"/>
                </a:cubicBezTo>
                <a:cubicBezTo>
                  <a:pt x="20316" y="8437"/>
                  <a:pt x="20200" y="8441"/>
                  <a:pt x="20166" y="8409"/>
                </a:cubicBezTo>
                <a:cubicBezTo>
                  <a:pt x="20121" y="8366"/>
                  <a:pt x="20136" y="8273"/>
                  <a:pt x="20166" y="8235"/>
                </a:cubicBezTo>
                <a:cubicBezTo>
                  <a:pt x="20195" y="8198"/>
                  <a:pt x="20268" y="8150"/>
                  <a:pt x="20315" y="8161"/>
                </a:cubicBezTo>
                <a:cubicBezTo>
                  <a:pt x="20404" y="8182"/>
                  <a:pt x="20506" y="8260"/>
                  <a:pt x="20563" y="8334"/>
                </a:cubicBezTo>
                <a:cubicBezTo>
                  <a:pt x="20581" y="8357"/>
                  <a:pt x="20630" y="8431"/>
                  <a:pt x="20638" y="8483"/>
                </a:cubicBezTo>
                <a:cubicBezTo>
                  <a:pt x="20638" y="8541"/>
                  <a:pt x="20638" y="8549"/>
                  <a:pt x="20638" y="8582"/>
                </a:cubicBezTo>
              </a:path>
              <a:path w="5508" h="2556">
                <a:moveTo>
                  <a:pt x="21010" y="8409"/>
                </a:moveTo>
                <a:cubicBezTo>
                  <a:pt x="21010" y="8493"/>
                  <a:pt x="20990" y="8549"/>
                  <a:pt x="20985" y="8632"/>
                </a:cubicBezTo>
                <a:cubicBezTo>
                  <a:pt x="20982" y="8672"/>
                  <a:pt x="20985" y="8895"/>
                  <a:pt x="20985" y="8706"/>
                </a:cubicBezTo>
              </a:path>
              <a:path w="5508" h="2556">
                <a:moveTo>
                  <a:pt x="21382" y="7615"/>
                </a:moveTo>
                <a:cubicBezTo>
                  <a:pt x="21382" y="7541"/>
                  <a:pt x="21388" y="7482"/>
                  <a:pt x="21406" y="7417"/>
                </a:cubicBezTo>
                <a:cubicBezTo>
                  <a:pt x="21423" y="7355"/>
                  <a:pt x="21448" y="7281"/>
                  <a:pt x="21506" y="7243"/>
                </a:cubicBezTo>
                <a:cubicBezTo>
                  <a:pt x="21522" y="7235"/>
                  <a:pt x="21539" y="7226"/>
                  <a:pt x="21555" y="7218"/>
                </a:cubicBezTo>
                <a:cubicBezTo>
                  <a:pt x="21596" y="7259"/>
                  <a:pt x="21626" y="7290"/>
                  <a:pt x="21654" y="7342"/>
                </a:cubicBezTo>
                <a:cubicBezTo>
                  <a:pt x="21692" y="7415"/>
                  <a:pt x="21701" y="7508"/>
                  <a:pt x="21704" y="7590"/>
                </a:cubicBezTo>
                <a:cubicBezTo>
                  <a:pt x="21708" y="7704"/>
                  <a:pt x="21684" y="7780"/>
                  <a:pt x="21654" y="7888"/>
                </a:cubicBezTo>
                <a:cubicBezTo>
                  <a:pt x="21626" y="7987"/>
                  <a:pt x="21608" y="8095"/>
                  <a:pt x="21555" y="8186"/>
                </a:cubicBezTo>
                <a:cubicBezTo>
                  <a:pt x="21525" y="8238"/>
                  <a:pt x="21449" y="8322"/>
                  <a:pt x="21382" y="8334"/>
                </a:cubicBezTo>
                <a:cubicBezTo>
                  <a:pt x="21330" y="8343"/>
                  <a:pt x="21296" y="8337"/>
                  <a:pt x="21258" y="8310"/>
                </a:cubicBezTo>
                <a:cubicBezTo>
                  <a:pt x="21180" y="8254"/>
                  <a:pt x="21248" y="8136"/>
                  <a:pt x="21332" y="8136"/>
                </a:cubicBezTo>
                <a:cubicBezTo>
                  <a:pt x="21368" y="8136"/>
                  <a:pt x="21437" y="8206"/>
                  <a:pt x="21456" y="8235"/>
                </a:cubicBezTo>
                <a:cubicBezTo>
                  <a:pt x="21485" y="8280"/>
                  <a:pt x="21527" y="8315"/>
                  <a:pt x="21555" y="8359"/>
                </a:cubicBezTo>
                <a:cubicBezTo>
                  <a:pt x="21588" y="8410"/>
                  <a:pt x="21609" y="8457"/>
                  <a:pt x="21654" y="8483"/>
                </a:cubicBezTo>
                <a:cubicBezTo>
                  <a:pt x="21662" y="8483"/>
                  <a:pt x="21671" y="8483"/>
                  <a:pt x="21679" y="8483"/>
                </a:cubicBezTo>
              </a:path>
              <a:path w="5508" h="2556">
                <a:moveTo>
                  <a:pt x="21853" y="8334"/>
                </a:moveTo>
                <a:cubicBezTo>
                  <a:pt x="21853" y="8452"/>
                  <a:pt x="21871" y="8546"/>
                  <a:pt x="21878" y="8657"/>
                </a:cubicBezTo>
                <a:cubicBezTo>
                  <a:pt x="21878" y="8708"/>
                  <a:pt x="21879" y="8723"/>
                  <a:pt x="21903" y="8657"/>
                </a:cubicBezTo>
              </a:path>
              <a:path w="5508" h="2556">
                <a:moveTo>
                  <a:pt x="22051" y="7789"/>
                </a:moveTo>
                <a:cubicBezTo>
                  <a:pt x="22061" y="7722"/>
                  <a:pt x="22097" y="7658"/>
                  <a:pt x="22126" y="7590"/>
                </a:cubicBezTo>
                <a:cubicBezTo>
                  <a:pt x="22147" y="7542"/>
                  <a:pt x="22199" y="7480"/>
                  <a:pt x="22250" y="7466"/>
                </a:cubicBezTo>
                <a:cubicBezTo>
                  <a:pt x="22334" y="7443"/>
                  <a:pt x="22365" y="7478"/>
                  <a:pt x="22423" y="7516"/>
                </a:cubicBezTo>
                <a:cubicBezTo>
                  <a:pt x="22502" y="7568"/>
                  <a:pt x="22509" y="7712"/>
                  <a:pt x="22523" y="7813"/>
                </a:cubicBezTo>
                <a:cubicBezTo>
                  <a:pt x="22534" y="7892"/>
                  <a:pt x="22513" y="8090"/>
                  <a:pt x="22473" y="8161"/>
                </a:cubicBezTo>
                <a:cubicBezTo>
                  <a:pt x="22454" y="8195"/>
                  <a:pt x="22331" y="8398"/>
                  <a:pt x="22250" y="8409"/>
                </a:cubicBezTo>
                <a:cubicBezTo>
                  <a:pt x="22142" y="8423"/>
                  <a:pt x="22131" y="8387"/>
                  <a:pt x="22126" y="8285"/>
                </a:cubicBezTo>
                <a:cubicBezTo>
                  <a:pt x="22123" y="8220"/>
                  <a:pt x="22162" y="8161"/>
                  <a:pt x="22200" y="8111"/>
                </a:cubicBezTo>
                <a:cubicBezTo>
                  <a:pt x="22259" y="8032"/>
                  <a:pt x="22315" y="8120"/>
                  <a:pt x="22349" y="8161"/>
                </a:cubicBezTo>
                <a:cubicBezTo>
                  <a:pt x="22386" y="8206"/>
                  <a:pt x="22384" y="8258"/>
                  <a:pt x="22423" y="8310"/>
                </a:cubicBezTo>
                <a:cubicBezTo>
                  <a:pt x="22454" y="8352"/>
                  <a:pt x="22492" y="8350"/>
                  <a:pt x="22523" y="8334"/>
                </a:cubicBezTo>
              </a:path>
              <a:path w="5508" h="2556">
                <a:moveTo>
                  <a:pt x="22671" y="8086"/>
                </a:moveTo>
                <a:cubicBezTo>
                  <a:pt x="22688" y="8205"/>
                  <a:pt x="22673" y="8364"/>
                  <a:pt x="22820" y="8409"/>
                </a:cubicBezTo>
                <a:cubicBezTo>
                  <a:pt x="22889" y="8409"/>
                  <a:pt x="22911" y="8415"/>
                  <a:pt x="22920" y="8359"/>
                </a:cubicBezTo>
              </a:path>
              <a:path w="5508" h="2556">
                <a:moveTo>
                  <a:pt x="22696" y="7615"/>
                </a:moveTo>
                <a:cubicBezTo>
                  <a:pt x="22696" y="7623"/>
                  <a:pt x="22696" y="7632"/>
                  <a:pt x="22696" y="7640"/>
                </a:cubicBezTo>
              </a:path>
              <a:path w="5508" h="2556">
                <a:moveTo>
                  <a:pt x="23019" y="8409"/>
                </a:moveTo>
                <a:cubicBezTo>
                  <a:pt x="23019" y="8500"/>
                  <a:pt x="23019" y="8723"/>
                  <a:pt x="23019" y="8632"/>
                </a:cubicBezTo>
              </a:path>
              <a:path w="5508" h="2556">
                <a:moveTo>
                  <a:pt x="23143" y="7913"/>
                </a:moveTo>
                <a:cubicBezTo>
                  <a:pt x="23236" y="7918"/>
                  <a:pt x="23370" y="7961"/>
                  <a:pt x="23465" y="7938"/>
                </a:cubicBezTo>
                <a:cubicBezTo>
                  <a:pt x="23482" y="7930"/>
                  <a:pt x="23498" y="7921"/>
                  <a:pt x="23515" y="7913"/>
                </a:cubicBezTo>
              </a:path>
              <a:path w="5508" h="2556">
                <a:moveTo>
                  <a:pt x="23490" y="7417"/>
                </a:moveTo>
                <a:cubicBezTo>
                  <a:pt x="23537" y="7399"/>
                  <a:pt x="23615" y="7355"/>
                  <a:pt x="23664" y="7367"/>
                </a:cubicBezTo>
                <a:cubicBezTo>
                  <a:pt x="23723" y="7381"/>
                  <a:pt x="23819" y="7458"/>
                  <a:pt x="23837" y="7516"/>
                </a:cubicBezTo>
                <a:cubicBezTo>
                  <a:pt x="23866" y="7613"/>
                  <a:pt x="23876" y="7762"/>
                  <a:pt x="23862" y="7863"/>
                </a:cubicBezTo>
                <a:cubicBezTo>
                  <a:pt x="23839" y="8023"/>
                  <a:pt x="23774" y="8226"/>
                  <a:pt x="23713" y="8359"/>
                </a:cubicBezTo>
                <a:cubicBezTo>
                  <a:pt x="23693" y="8402"/>
                  <a:pt x="23632" y="8478"/>
                  <a:pt x="23589" y="8409"/>
                </a:cubicBezTo>
                <a:cubicBezTo>
                  <a:pt x="23566" y="8373"/>
                  <a:pt x="23550" y="8214"/>
                  <a:pt x="23589" y="8186"/>
                </a:cubicBezTo>
                <a:cubicBezTo>
                  <a:pt x="23661" y="8135"/>
                  <a:pt x="23709" y="8221"/>
                  <a:pt x="23738" y="8260"/>
                </a:cubicBezTo>
                <a:cubicBezTo>
                  <a:pt x="23767" y="8298"/>
                  <a:pt x="23799" y="8318"/>
                  <a:pt x="23837" y="8334"/>
                </a:cubicBezTo>
                <a:cubicBezTo>
                  <a:pt x="23906" y="8364"/>
                  <a:pt x="23879" y="8349"/>
                  <a:pt x="23937" y="8334"/>
                </a:cubicBezTo>
              </a:path>
              <a:path w="5508" h="2556">
                <a:moveTo>
                  <a:pt x="24036" y="7962"/>
                </a:moveTo>
                <a:cubicBezTo>
                  <a:pt x="24011" y="8100"/>
                  <a:pt x="24004" y="8118"/>
                  <a:pt x="24061" y="8235"/>
                </a:cubicBezTo>
                <a:cubicBezTo>
                  <a:pt x="24105" y="8324"/>
                  <a:pt x="24144" y="8309"/>
                  <a:pt x="24209" y="8359"/>
                </a:cubicBezTo>
                <a:cubicBezTo>
                  <a:pt x="24288" y="8420"/>
                  <a:pt x="24273" y="8432"/>
                  <a:pt x="24333" y="8359"/>
                </a:cubicBezTo>
              </a:path>
              <a:path w="5508" h="2556">
                <a:moveTo>
                  <a:pt x="24085" y="7665"/>
                </a:moveTo>
                <a:cubicBezTo>
                  <a:pt x="24132" y="7665"/>
                  <a:pt x="24158" y="7653"/>
                  <a:pt x="24185" y="7615"/>
                </a:cubicBezTo>
              </a:path>
              <a:path w="5508" h="2556">
                <a:moveTo>
                  <a:pt x="24333" y="7094"/>
                </a:moveTo>
                <a:cubicBezTo>
                  <a:pt x="24171" y="7025"/>
                  <a:pt x="24035" y="6981"/>
                  <a:pt x="23862" y="6945"/>
                </a:cubicBezTo>
                <a:cubicBezTo>
                  <a:pt x="23607" y="6892"/>
                  <a:pt x="23350" y="6836"/>
                  <a:pt x="23093" y="6796"/>
                </a:cubicBezTo>
                <a:cubicBezTo>
                  <a:pt x="22749" y="6742"/>
                  <a:pt x="22398" y="6710"/>
                  <a:pt x="22051" y="6697"/>
                </a:cubicBezTo>
                <a:cubicBezTo>
                  <a:pt x="21673" y="6683"/>
                  <a:pt x="21314" y="6686"/>
                  <a:pt x="20935" y="6697"/>
                </a:cubicBezTo>
                <a:cubicBezTo>
                  <a:pt x="20675" y="6705"/>
                  <a:pt x="20424" y="6736"/>
                  <a:pt x="20166" y="6772"/>
                </a:cubicBezTo>
                <a:cubicBezTo>
                  <a:pt x="19972" y="6799"/>
                  <a:pt x="19804" y="6846"/>
                  <a:pt x="19621" y="6896"/>
                </a:cubicBezTo>
                <a:cubicBezTo>
                  <a:pt x="19525" y="6922"/>
                  <a:pt x="19405" y="6931"/>
                  <a:pt x="19323" y="6995"/>
                </a:cubicBezTo>
                <a:cubicBezTo>
                  <a:pt x="19265" y="7040"/>
                  <a:pt x="19263" y="7107"/>
                  <a:pt x="19248" y="7169"/>
                </a:cubicBezTo>
                <a:cubicBezTo>
                  <a:pt x="19229" y="7247"/>
                  <a:pt x="19257" y="7365"/>
                  <a:pt x="19273" y="7441"/>
                </a:cubicBezTo>
                <a:cubicBezTo>
                  <a:pt x="19301" y="7574"/>
                  <a:pt x="19336" y="7704"/>
                  <a:pt x="19348" y="7838"/>
                </a:cubicBezTo>
                <a:cubicBezTo>
                  <a:pt x="19362" y="7996"/>
                  <a:pt x="19372" y="8150"/>
                  <a:pt x="19372" y="8310"/>
                </a:cubicBezTo>
                <a:cubicBezTo>
                  <a:pt x="19372" y="8503"/>
                  <a:pt x="19326" y="8751"/>
                  <a:pt x="19397" y="8930"/>
                </a:cubicBezTo>
                <a:cubicBezTo>
                  <a:pt x="19439" y="9037"/>
                  <a:pt x="19463" y="9032"/>
                  <a:pt x="19596" y="9029"/>
                </a:cubicBezTo>
                <a:cubicBezTo>
                  <a:pt x="19679" y="9027"/>
                  <a:pt x="19786" y="9019"/>
                  <a:pt x="19869" y="9004"/>
                </a:cubicBezTo>
                <a:cubicBezTo>
                  <a:pt x="20010" y="8979"/>
                  <a:pt x="20142" y="8945"/>
                  <a:pt x="20290" y="8930"/>
                </a:cubicBezTo>
                <a:cubicBezTo>
                  <a:pt x="20593" y="8899"/>
                  <a:pt x="20908" y="8909"/>
                  <a:pt x="21208" y="8880"/>
                </a:cubicBezTo>
                <a:cubicBezTo>
                  <a:pt x="21456" y="8856"/>
                  <a:pt x="21722" y="8930"/>
                  <a:pt x="21977" y="8930"/>
                </a:cubicBezTo>
                <a:cubicBezTo>
                  <a:pt x="22244" y="8930"/>
                  <a:pt x="22533" y="8914"/>
                  <a:pt x="22796" y="8954"/>
                </a:cubicBezTo>
                <a:cubicBezTo>
                  <a:pt x="23058" y="8994"/>
                  <a:pt x="23304" y="9049"/>
                  <a:pt x="23564" y="9079"/>
                </a:cubicBezTo>
                <a:cubicBezTo>
                  <a:pt x="23779" y="9104"/>
                  <a:pt x="23976" y="9196"/>
                  <a:pt x="24185" y="9227"/>
                </a:cubicBezTo>
                <a:cubicBezTo>
                  <a:pt x="24334" y="9249"/>
                  <a:pt x="24577" y="9253"/>
                  <a:pt x="24681" y="9178"/>
                </a:cubicBezTo>
                <a:cubicBezTo>
                  <a:pt x="24767" y="9116"/>
                  <a:pt x="24750" y="9021"/>
                  <a:pt x="24755" y="8930"/>
                </a:cubicBezTo>
                <a:cubicBezTo>
                  <a:pt x="24777" y="8544"/>
                  <a:pt x="24784" y="8119"/>
                  <a:pt x="24730" y="7739"/>
                </a:cubicBezTo>
                <a:cubicBezTo>
                  <a:pt x="24709" y="7589"/>
                  <a:pt x="24704" y="7439"/>
                  <a:pt x="24656" y="7293"/>
                </a:cubicBezTo>
                <a:cubicBezTo>
                  <a:pt x="24619" y="7182"/>
                  <a:pt x="24554" y="7063"/>
                  <a:pt x="24482" y="6970"/>
                </a:cubicBezTo>
                <a:cubicBezTo>
                  <a:pt x="24376" y="6834"/>
                  <a:pt x="24375" y="6908"/>
                  <a:pt x="24234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0" name="Ink 19"/>
          <p:cNvSpPr/>
          <p:nvPr/>
        </p:nvSpPr>
        <p:spPr>
          <a:xfrm>
            <a:off x="1911240" y="2820960"/>
            <a:ext cx="320760" cy="18900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5556" y="7913"/>
                </a:moveTo>
                <a:cubicBezTo>
                  <a:pt x="5556" y="7969"/>
                  <a:pt x="5545" y="8094"/>
                  <a:pt x="5581" y="8136"/>
                </a:cubicBezTo>
                <a:cubicBezTo>
                  <a:pt x="5589" y="8136"/>
                  <a:pt x="5598" y="8136"/>
                  <a:pt x="5606" y="8136"/>
                </a:cubicBezTo>
              </a:path>
              <a:path w="894" h="522">
                <a:moveTo>
                  <a:pt x="5308" y="8111"/>
                </a:moveTo>
                <a:cubicBezTo>
                  <a:pt x="5368" y="8147"/>
                  <a:pt x="5432" y="8136"/>
                  <a:pt x="5507" y="8136"/>
                </a:cubicBezTo>
                <a:cubicBezTo>
                  <a:pt x="5523" y="8136"/>
                  <a:pt x="5540" y="8136"/>
                  <a:pt x="5556" y="8136"/>
                </a:cubicBezTo>
              </a:path>
              <a:path w="894" h="522">
                <a:moveTo>
                  <a:pt x="5358" y="8310"/>
                </a:moveTo>
                <a:cubicBezTo>
                  <a:pt x="5411" y="8341"/>
                  <a:pt x="5490" y="8347"/>
                  <a:pt x="5556" y="8334"/>
                </a:cubicBezTo>
                <a:cubicBezTo>
                  <a:pt x="5629" y="8310"/>
                  <a:pt x="5653" y="8302"/>
                  <a:pt x="5705" y="8310"/>
                </a:cubicBezTo>
              </a:path>
              <a:path w="894" h="522">
                <a:moveTo>
                  <a:pt x="6201" y="7838"/>
                </a:moveTo>
                <a:cubicBezTo>
                  <a:pt x="6183" y="7929"/>
                  <a:pt x="6156" y="8021"/>
                  <a:pt x="6152" y="8111"/>
                </a:cubicBezTo>
                <a:cubicBezTo>
                  <a:pt x="6148" y="8202"/>
                  <a:pt x="6168" y="8271"/>
                  <a:pt x="6176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1" name="Ink 20"/>
          <p:cNvSpPr/>
          <p:nvPr/>
        </p:nvSpPr>
        <p:spPr>
          <a:xfrm>
            <a:off x="2205000" y="391968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6127" y="11112"/>
                </a:moveTo>
                <a:cubicBezTo>
                  <a:pt x="6127" y="11129"/>
                  <a:pt x="6127" y="11145"/>
                  <a:pt x="6127" y="11162"/>
                </a:cubicBezTo>
                <a:cubicBezTo>
                  <a:pt x="6161" y="11119"/>
                  <a:pt x="6187" y="11077"/>
                  <a:pt x="6226" y="11038"/>
                </a:cubicBezTo>
                <a:cubicBezTo>
                  <a:pt x="6273" y="10991"/>
                  <a:pt x="6313" y="10940"/>
                  <a:pt x="6375" y="10914"/>
                </a:cubicBezTo>
                <a:cubicBezTo>
                  <a:pt x="6452" y="10882"/>
                  <a:pt x="6525" y="10890"/>
                  <a:pt x="6573" y="10964"/>
                </a:cubicBezTo>
                <a:cubicBezTo>
                  <a:pt x="6627" y="11047"/>
                  <a:pt x="6623" y="11115"/>
                  <a:pt x="6623" y="11212"/>
                </a:cubicBezTo>
                <a:cubicBezTo>
                  <a:pt x="6623" y="11351"/>
                  <a:pt x="6608" y="11430"/>
                  <a:pt x="6548" y="11559"/>
                </a:cubicBezTo>
                <a:cubicBezTo>
                  <a:pt x="6529" y="11599"/>
                  <a:pt x="6480" y="11712"/>
                  <a:pt x="6424" y="11708"/>
                </a:cubicBezTo>
                <a:cubicBezTo>
                  <a:pt x="6353" y="11703"/>
                  <a:pt x="6339" y="11656"/>
                  <a:pt x="6325" y="11609"/>
                </a:cubicBezTo>
                <a:cubicBezTo>
                  <a:pt x="6367" y="11525"/>
                  <a:pt x="6427" y="11568"/>
                  <a:pt x="6524" y="11609"/>
                </a:cubicBezTo>
                <a:cubicBezTo>
                  <a:pt x="6612" y="11646"/>
                  <a:pt x="6661" y="11680"/>
                  <a:pt x="6747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2" name="Ink 21"/>
          <p:cNvSpPr/>
          <p:nvPr/>
        </p:nvSpPr>
        <p:spPr>
          <a:xfrm>
            <a:off x="2098800" y="4438800"/>
            <a:ext cx="563400" cy="401400"/>
          </a:xfrm>
          <a:custGeom>
            <a:avLst/>
            <a:gdLst/>
            <a:ahLst/>
            <a:rect l="l" t="t" r="r" b="b"/>
            <a:pathLst>
              <a:path w="1564" h="1117">
                <a:moveTo>
                  <a:pt x="5829" y="12526"/>
                </a:moveTo>
                <a:cubicBezTo>
                  <a:pt x="5906" y="12555"/>
                  <a:pt x="5967" y="12551"/>
                  <a:pt x="6052" y="12551"/>
                </a:cubicBezTo>
                <a:cubicBezTo>
                  <a:pt x="6120" y="12551"/>
                  <a:pt x="6139" y="12554"/>
                  <a:pt x="6176" y="12526"/>
                </a:cubicBezTo>
              </a:path>
              <a:path w="1564" h="1117">
                <a:moveTo>
                  <a:pt x="6474" y="12402"/>
                </a:moveTo>
                <a:cubicBezTo>
                  <a:pt x="6555" y="12340"/>
                  <a:pt x="6596" y="12328"/>
                  <a:pt x="6697" y="12328"/>
                </a:cubicBezTo>
                <a:cubicBezTo>
                  <a:pt x="6768" y="12328"/>
                  <a:pt x="6810" y="12367"/>
                  <a:pt x="6846" y="12427"/>
                </a:cubicBezTo>
                <a:cubicBezTo>
                  <a:pt x="6891" y="12503"/>
                  <a:pt x="6884" y="12640"/>
                  <a:pt x="6871" y="12725"/>
                </a:cubicBezTo>
                <a:cubicBezTo>
                  <a:pt x="6852" y="12851"/>
                  <a:pt x="6781" y="12964"/>
                  <a:pt x="6722" y="13072"/>
                </a:cubicBezTo>
                <a:cubicBezTo>
                  <a:pt x="6683" y="13143"/>
                  <a:pt x="6630" y="13198"/>
                  <a:pt x="6548" y="13221"/>
                </a:cubicBezTo>
                <a:cubicBezTo>
                  <a:pt x="6492" y="13236"/>
                  <a:pt x="6353" y="13267"/>
                  <a:pt x="6325" y="13171"/>
                </a:cubicBezTo>
                <a:cubicBezTo>
                  <a:pt x="6302" y="13092"/>
                  <a:pt x="6361" y="13051"/>
                  <a:pt x="6424" y="13047"/>
                </a:cubicBezTo>
                <a:cubicBezTo>
                  <a:pt x="6480" y="13044"/>
                  <a:pt x="6545" y="13074"/>
                  <a:pt x="6598" y="13097"/>
                </a:cubicBezTo>
                <a:cubicBezTo>
                  <a:pt x="6680" y="13133"/>
                  <a:pt x="6742" y="13183"/>
                  <a:pt x="6821" y="13221"/>
                </a:cubicBezTo>
                <a:cubicBezTo>
                  <a:pt x="6924" y="13271"/>
                  <a:pt x="7011" y="13332"/>
                  <a:pt x="7119" y="13370"/>
                </a:cubicBezTo>
                <a:cubicBezTo>
                  <a:pt x="7190" y="13395"/>
                  <a:pt x="7278" y="13432"/>
                  <a:pt x="7342" y="13444"/>
                </a:cubicBezTo>
                <a:cubicBezTo>
                  <a:pt x="7400" y="13444"/>
                  <a:pt x="7417" y="13436"/>
                  <a:pt x="7392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3" name="Ink 22"/>
          <p:cNvSpPr/>
          <p:nvPr/>
        </p:nvSpPr>
        <p:spPr>
          <a:xfrm>
            <a:off x="465120" y="3081240"/>
            <a:ext cx="527040" cy="482760"/>
          </a:xfrm>
          <a:custGeom>
            <a:avLst/>
            <a:gdLst/>
            <a:ahLst/>
            <a:rect l="l" t="t" r="r" b="b"/>
            <a:pathLst>
              <a:path w="1464" h="1340">
                <a:moveTo>
                  <a:pt x="2753" y="8706"/>
                </a:moveTo>
                <a:cubicBezTo>
                  <a:pt x="2700" y="8642"/>
                  <a:pt x="2649" y="8636"/>
                  <a:pt x="2555" y="8632"/>
                </a:cubicBezTo>
                <a:cubicBezTo>
                  <a:pt x="2438" y="8626"/>
                  <a:pt x="2363" y="8606"/>
                  <a:pt x="2257" y="8582"/>
                </a:cubicBezTo>
                <a:cubicBezTo>
                  <a:pt x="2123" y="8552"/>
                  <a:pt x="1947" y="8573"/>
                  <a:pt x="1811" y="8558"/>
                </a:cubicBezTo>
                <a:cubicBezTo>
                  <a:pt x="1714" y="8548"/>
                  <a:pt x="1627" y="8568"/>
                  <a:pt x="1538" y="8582"/>
                </a:cubicBezTo>
                <a:cubicBezTo>
                  <a:pt x="1431" y="8598"/>
                  <a:pt x="1380" y="8552"/>
                  <a:pt x="1315" y="8632"/>
                </a:cubicBezTo>
                <a:cubicBezTo>
                  <a:pt x="1361" y="8679"/>
                  <a:pt x="1364" y="8691"/>
                  <a:pt x="1364" y="8781"/>
                </a:cubicBezTo>
                <a:cubicBezTo>
                  <a:pt x="1364" y="8865"/>
                  <a:pt x="1348" y="8923"/>
                  <a:pt x="1339" y="9004"/>
                </a:cubicBezTo>
                <a:cubicBezTo>
                  <a:pt x="1328" y="9103"/>
                  <a:pt x="1326" y="9205"/>
                  <a:pt x="1315" y="9302"/>
                </a:cubicBezTo>
                <a:cubicBezTo>
                  <a:pt x="1304" y="9404"/>
                  <a:pt x="1347" y="9541"/>
                  <a:pt x="1339" y="9624"/>
                </a:cubicBezTo>
                <a:cubicBezTo>
                  <a:pt x="1334" y="9676"/>
                  <a:pt x="1247" y="9783"/>
                  <a:pt x="1339" y="9823"/>
                </a:cubicBezTo>
                <a:cubicBezTo>
                  <a:pt x="1371" y="9837"/>
                  <a:pt x="1554" y="9844"/>
                  <a:pt x="1588" y="9847"/>
                </a:cubicBezTo>
                <a:cubicBezTo>
                  <a:pt x="1770" y="9862"/>
                  <a:pt x="1824" y="9906"/>
                  <a:pt x="2009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4" name="Ink 23"/>
          <p:cNvSpPr/>
          <p:nvPr/>
        </p:nvSpPr>
        <p:spPr>
          <a:xfrm>
            <a:off x="517680" y="4232160"/>
            <a:ext cx="590400" cy="519120"/>
          </a:xfrm>
          <a:custGeom>
            <a:avLst/>
            <a:gdLst/>
            <a:ahLst/>
            <a:rect l="l" t="t" r="r" b="b"/>
            <a:pathLst>
              <a:path w="1638" h="1440">
                <a:moveTo>
                  <a:pt x="2133" y="12278"/>
                </a:moveTo>
                <a:cubicBezTo>
                  <a:pt x="2139" y="12239"/>
                  <a:pt x="2156" y="12169"/>
                  <a:pt x="2208" y="12154"/>
                </a:cubicBezTo>
                <a:cubicBezTo>
                  <a:pt x="2282" y="12133"/>
                  <a:pt x="2348" y="12171"/>
                  <a:pt x="2406" y="12204"/>
                </a:cubicBezTo>
                <a:cubicBezTo>
                  <a:pt x="2462" y="12236"/>
                  <a:pt x="2518" y="12309"/>
                  <a:pt x="2530" y="12378"/>
                </a:cubicBezTo>
                <a:cubicBezTo>
                  <a:pt x="2545" y="12465"/>
                  <a:pt x="2520" y="12573"/>
                  <a:pt x="2480" y="12650"/>
                </a:cubicBezTo>
                <a:cubicBezTo>
                  <a:pt x="2427" y="12753"/>
                  <a:pt x="2326" y="12835"/>
                  <a:pt x="2232" y="12898"/>
                </a:cubicBezTo>
                <a:cubicBezTo>
                  <a:pt x="2160" y="12946"/>
                  <a:pt x="2077" y="12917"/>
                  <a:pt x="2009" y="12874"/>
                </a:cubicBezTo>
                <a:cubicBezTo>
                  <a:pt x="1954" y="12839"/>
                  <a:pt x="1938" y="12785"/>
                  <a:pt x="1935" y="12725"/>
                </a:cubicBezTo>
                <a:cubicBezTo>
                  <a:pt x="1932" y="12663"/>
                  <a:pt x="1923" y="12599"/>
                  <a:pt x="1960" y="12551"/>
                </a:cubicBezTo>
                <a:cubicBezTo>
                  <a:pt x="1968" y="12543"/>
                  <a:pt x="1976" y="12534"/>
                  <a:pt x="1984" y="12526"/>
                </a:cubicBezTo>
                <a:cubicBezTo>
                  <a:pt x="2056" y="12574"/>
                  <a:pt x="2106" y="12598"/>
                  <a:pt x="2158" y="12675"/>
                </a:cubicBezTo>
                <a:cubicBezTo>
                  <a:pt x="2205" y="12745"/>
                  <a:pt x="2244" y="12823"/>
                  <a:pt x="2282" y="12898"/>
                </a:cubicBezTo>
                <a:cubicBezTo>
                  <a:pt x="2311" y="12956"/>
                  <a:pt x="2331" y="13023"/>
                  <a:pt x="2356" y="13072"/>
                </a:cubicBezTo>
                <a:cubicBezTo>
                  <a:pt x="2390" y="13106"/>
                  <a:pt x="2412" y="13115"/>
                  <a:pt x="2456" y="13097"/>
                </a:cubicBezTo>
              </a:path>
              <a:path w="1638" h="1440">
                <a:moveTo>
                  <a:pt x="3051" y="11757"/>
                </a:moveTo>
                <a:cubicBezTo>
                  <a:pt x="3081" y="11856"/>
                  <a:pt x="3076" y="11949"/>
                  <a:pt x="3076" y="12055"/>
                </a:cubicBezTo>
                <a:cubicBezTo>
                  <a:pt x="3076" y="12427"/>
                  <a:pt x="3076" y="12799"/>
                  <a:pt x="3076" y="13171"/>
                </a:cubicBezTo>
                <a:cubicBezTo>
                  <a:pt x="3040" y="13171"/>
                  <a:pt x="2983" y="13190"/>
                  <a:pt x="2927" y="13196"/>
                </a:cubicBezTo>
                <a:cubicBezTo>
                  <a:pt x="2761" y="13214"/>
                  <a:pt x="2593" y="13185"/>
                  <a:pt x="2431" y="13171"/>
                </a:cubicBezTo>
                <a:cubicBezTo>
                  <a:pt x="2273" y="13158"/>
                  <a:pt x="2120" y="13146"/>
                  <a:pt x="1960" y="13146"/>
                </a:cubicBezTo>
                <a:cubicBezTo>
                  <a:pt x="1786" y="13146"/>
                  <a:pt x="1613" y="13146"/>
                  <a:pt x="1439" y="131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5" name="Ink 24"/>
          <p:cNvSpPr/>
          <p:nvPr/>
        </p:nvSpPr>
        <p:spPr>
          <a:xfrm>
            <a:off x="571680" y="3160800"/>
            <a:ext cx="438120" cy="438120"/>
          </a:xfrm>
          <a:custGeom>
            <a:avLst/>
            <a:gdLst/>
            <a:ahLst/>
            <a:rect l="l" t="t" r="r" b="b"/>
            <a:pathLst>
              <a:path w="1216" h="1216">
                <a:moveTo>
                  <a:pt x="2059" y="8930"/>
                </a:moveTo>
                <a:cubicBezTo>
                  <a:pt x="2059" y="8965"/>
                  <a:pt x="2054" y="8982"/>
                  <a:pt x="2034" y="9004"/>
                </a:cubicBezTo>
                <a:cubicBezTo>
                  <a:pt x="2050" y="8975"/>
                  <a:pt x="2108" y="8891"/>
                  <a:pt x="2133" y="8880"/>
                </a:cubicBezTo>
                <a:cubicBezTo>
                  <a:pt x="2200" y="8851"/>
                  <a:pt x="2247" y="8904"/>
                  <a:pt x="2282" y="8930"/>
                </a:cubicBezTo>
                <a:cubicBezTo>
                  <a:pt x="2335" y="8970"/>
                  <a:pt x="2345" y="9091"/>
                  <a:pt x="2356" y="9153"/>
                </a:cubicBezTo>
                <a:cubicBezTo>
                  <a:pt x="2370" y="9229"/>
                  <a:pt x="2359" y="9329"/>
                  <a:pt x="2332" y="9401"/>
                </a:cubicBezTo>
                <a:cubicBezTo>
                  <a:pt x="2321" y="9432"/>
                  <a:pt x="2234" y="9584"/>
                  <a:pt x="2208" y="9599"/>
                </a:cubicBezTo>
                <a:cubicBezTo>
                  <a:pt x="2168" y="9622"/>
                  <a:pt x="2059" y="9693"/>
                  <a:pt x="2009" y="9674"/>
                </a:cubicBezTo>
                <a:cubicBezTo>
                  <a:pt x="1935" y="9646"/>
                  <a:pt x="1889" y="9573"/>
                  <a:pt x="1885" y="9500"/>
                </a:cubicBezTo>
                <a:cubicBezTo>
                  <a:pt x="1883" y="9469"/>
                  <a:pt x="1918" y="9391"/>
                  <a:pt x="1960" y="9376"/>
                </a:cubicBezTo>
                <a:cubicBezTo>
                  <a:pt x="1997" y="9362"/>
                  <a:pt x="2103" y="9369"/>
                  <a:pt x="2133" y="9401"/>
                </a:cubicBezTo>
                <a:cubicBezTo>
                  <a:pt x="2185" y="9458"/>
                  <a:pt x="2196" y="9470"/>
                  <a:pt x="2232" y="9550"/>
                </a:cubicBezTo>
                <a:cubicBezTo>
                  <a:pt x="2261" y="9614"/>
                  <a:pt x="2216" y="9771"/>
                  <a:pt x="2282" y="9748"/>
                </a:cubicBezTo>
                <a:cubicBezTo>
                  <a:pt x="2299" y="9723"/>
                  <a:pt x="2315" y="9699"/>
                  <a:pt x="2332" y="9674"/>
                </a:cubicBezTo>
              </a:path>
              <a:path w="1216" h="1216">
                <a:moveTo>
                  <a:pt x="2753" y="8781"/>
                </a:moveTo>
                <a:cubicBezTo>
                  <a:pt x="2753" y="9038"/>
                  <a:pt x="2745" y="9302"/>
                  <a:pt x="2778" y="9550"/>
                </a:cubicBezTo>
                <a:cubicBezTo>
                  <a:pt x="2790" y="9639"/>
                  <a:pt x="2793" y="9736"/>
                  <a:pt x="2803" y="9823"/>
                </a:cubicBezTo>
                <a:cubicBezTo>
                  <a:pt x="2809" y="9879"/>
                  <a:pt x="2803" y="9940"/>
                  <a:pt x="2803" y="9996"/>
                </a:cubicBezTo>
                <a:cubicBezTo>
                  <a:pt x="2738" y="9989"/>
                  <a:pt x="2701" y="9971"/>
                  <a:pt x="2629" y="9971"/>
                </a:cubicBezTo>
                <a:cubicBezTo>
                  <a:pt x="2432" y="9971"/>
                  <a:pt x="2265" y="9967"/>
                  <a:pt x="2084" y="9922"/>
                </a:cubicBezTo>
                <a:cubicBezTo>
                  <a:pt x="2013" y="9904"/>
                  <a:pt x="1910" y="9908"/>
                  <a:pt x="1836" y="9897"/>
                </a:cubicBezTo>
                <a:cubicBezTo>
                  <a:pt x="1746" y="9884"/>
                  <a:pt x="1703" y="9897"/>
                  <a:pt x="1612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6" name="Ink 25"/>
          <p:cNvSpPr/>
          <p:nvPr/>
        </p:nvSpPr>
        <p:spPr>
          <a:xfrm>
            <a:off x="1276200" y="3268800"/>
            <a:ext cx="9720" cy="330120"/>
          </a:xfrm>
          <a:custGeom>
            <a:avLst/>
            <a:gdLst/>
            <a:ahLst/>
            <a:rect l="l" t="t" r="r" b="b"/>
            <a:pathLst>
              <a:path w="26" h="918">
                <a:moveTo>
                  <a:pt x="3547" y="9079"/>
                </a:moveTo>
                <a:cubicBezTo>
                  <a:pt x="3567" y="9158"/>
                  <a:pt x="3572" y="9221"/>
                  <a:pt x="3572" y="9302"/>
                </a:cubicBezTo>
                <a:cubicBezTo>
                  <a:pt x="3572" y="9533"/>
                  <a:pt x="3572" y="9765"/>
                  <a:pt x="3572" y="99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7" name="Ink 26"/>
          <p:cNvSpPr/>
          <p:nvPr/>
        </p:nvSpPr>
        <p:spPr>
          <a:xfrm>
            <a:off x="1963800" y="3438360"/>
            <a:ext cx="171360" cy="17640"/>
          </a:xfrm>
          <a:custGeom>
            <a:avLst/>
            <a:gdLst/>
            <a:ahLst/>
            <a:rect l="l" t="t" r="r" b="b"/>
            <a:pathLst>
              <a:path w="472" h="50">
                <a:moveTo>
                  <a:pt x="5457" y="9550"/>
                </a:moveTo>
                <a:cubicBezTo>
                  <a:pt x="5571" y="9550"/>
                  <a:pt x="5604" y="9576"/>
                  <a:pt x="5705" y="9599"/>
                </a:cubicBezTo>
                <a:cubicBezTo>
                  <a:pt x="5770" y="9614"/>
                  <a:pt x="5861" y="9599"/>
                  <a:pt x="592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8" name="Ink 27"/>
          <p:cNvSpPr/>
          <p:nvPr/>
        </p:nvSpPr>
        <p:spPr>
          <a:xfrm>
            <a:off x="2347920" y="3276720"/>
            <a:ext cx="196920" cy="366480"/>
          </a:xfrm>
          <a:custGeom>
            <a:avLst/>
            <a:gdLst/>
            <a:ahLst/>
            <a:rect l="l" t="t" r="r" b="b"/>
            <a:pathLst>
              <a:path w="546" h="1018">
                <a:moveTo>
                  <a:pt x="6747" y="9327"/>
                </a:moveTo>
                <a:cubicBezTo>
                  <a:pt x="6716" y="9373"/>
                  <a:pt x="6682" y="9421"/>
                  <a:pt x="6648" y="9451"/>
                </a:cubicBezTo>
                <a:cubicBezTo>
                  <a:pt x="6617" y="9478"/>
                  <a:pt x="6537" y="9505"/>
                  <a:pt x="6524" y="9550"/>
                </a:cubicBezTo>
                <a:cubicBezTo>
                  <a:pt x="6504" y="9622"/>
                  <a:pt x="6700" y="9660"/>
                  <a:pt x="6747" y="9674"/>
                </a:cubicBezTo>
                <a:cubicBezTo>
                  <a:pt x="6849" y="9705"/>
                  <a:pt x="6896" y="9649"/>
                  <a:pt x="6970" y="9624"/>
                </a:cubicBezTo>
                <a:cubicBezTo>
                  <a:pt x="6987" y="9624"/>
                  <a:pt x="7003" y="9624"/>
                  <a:pt x="7020" y="9624"/>
                </a:cubicBezTo>
              </a:path>
              <a:path w="546" h="1018">
                <a:moveTo>
                  <a:pt x="7069" y="9103"/>
                </a:moveTo>
                <a:cubicBezTo>
                  <a:pt x="7061" y="9180"/>
                  <a:pt x="7045" y="9248"/>
                  <a:pt x="7045" y="9327"/>
                </a:cubicBezTo>
                <a:cubicBezTo>
                  <a:pt x="7045" y="9451"/>
                  <a:pt x="7008" y="9553"/>
                  <a:pt x="6995" y="9674"/>
                </a:cubicBezTo>
                <a:cubicBezTo>
                  <a:pt x="6986" y="9759"/>
                  <a:pt x="6984" y="9849"/>
                  <a:pt x="6970" y="9922"/>
                </a:cubicBezTo>
                <a:cubicBezTo>
                  <a:pt x="6956" y="9997"/>
                  <a:pt x="6976" y="10049"/>
                  <a:pt x="6945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39" name="Ink 28"/>
          <p:cNvSpPr/>
          <p:nvPr/>
        </p:nvSpPr>
        <p:spPr>
          <a:xfrm>
            <a:off x="3330720" y="3375000"/>
            <a:ext cx="152280" cy="295200"/>
          </a:xfrm>
          <a:custGeom>
            <a:avLst/>
            <a:gdLst/>
            <a:ahLst/>
            <a:rect l="l" t="t" r="r" b="b"/>
            <a:pathLst>
              <a:path w="423" h="820">
                <a:moveTo>
                  <a:pt x="9624" y="9376"/>
                </a:moveTo>
                <a:cubicBezTo>
                  <a:pt x="9553" y="9376"/>
                  <a:pt x="9439" y="9355"/>
                  <a:pt x="9376" y="9401"/>
                </a:cubicBezTo>
                <a:cubicBezTo>
                  <a:pt x="9371" y="9405"/>
                  <a:pt x="9251" y="9484"/>
                  <a:pt x="9252" y="9500"/>
                </a:cubicBezTo>
                <a:cubicBezTo>
                  <a:pt x="9258" y="9633"/>
                  <a:pt x="9328" y="9689"/>
                  <a:pt x="9401" y="9773"/>
                </a:cubicBezTo>
                <a:cubicBezTo>
                  <a:pt x="9459" y="9841"/>
                  <a:pt x="9558" y="9958"/>
                  <a:pt x="9575" y="10046"/>
                </a:cubicBezTo>
                <a:cubicBezTo>
                  <a:pt x="9575" y="10122"/>
                  <a:pt x="9574" y="10148"/>
                  <a:pt x="9550" y="10195"/>
                </a:cubicBezTo>
                <a:cubicBezTo>
                  <a:pt x="9419" y="10177"/>
                  <a:pt x="9401" y="10170"/>
                  <a:pt x="9327" y="10071"/>
                </a:cubicBezTo>
                <a:cubicBezTo>
                  <a:pt x="9296" y="10029"/>
                  <a:pt x="9288" y="9953"/>
                  <a:pt x="9302" y="9897"/>
                </a:cubicBezTo>
                <a:cubicBezTo>
                  <a:pt x="9327" y="9798"/>
                  <a:pt x="9374" y="9693"/>
                  <a:pt x="9451" y="9624"/>
                </a:cubicBezTo>
                <a:cubicBezTo>
                  <a:pt x="9503" y="9577"/>
                  <a:pt x="9556" y="9516"/>
                  <a:pt x="9599" y="9451"/>
                </a:cubicBezTo>
                <a:cubicBezTo>
                  <a:pt x="9624" y="9401"/>
                  <a:pt x="9632" y="9384"/>
                  <a:pt x="9674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0" name="Ink 29"/>
          <p:cNvSpPr/>
          <p:nvPr/>
        </p:nvSpPr>
        <p:spPr>
          <a:xfrm>
            <a:off x="3983040" y="3384720"/>
            <a:ext cx="615960" cy="295200"/>
          </a:xfrm>
          <a:custGeom>
            <a:avLst/>
            <a:gdLst/>
            <a:ahLst/>
            <a:rect l="l" t="t" r="r" b="b"/>
            <a:pathLst>
              <a:path w="1712" h="820">
                <a:moveTo>
                  <a:pt x="11063" y="9748"/>
                </a:moveTo>
                <a:cubicBezTo>
                  <a:pt x="11199" y="9748"/>
                  <a:pt x="11329" y="9761"/>
                  <a:pt x="11460" y="9773"/>
                </a:cubicBezTo>
                <a:cubicBezTo>
                  <a:pt x="11551" y="9773"/>
                  <a:pt x="11575" y="9773"/>
                  <a:pt x="11633" y="9773"/>
                </a:cubicBezTo>
              </a:path>
              <a:path w="1712" h="820">
                <a:moveTo>
                  <a:pt x="12055" y="9401"/>
                </a:moveTo>
                <a:cubicBezTo>
                  <a:pt x="12049" y="9557"/>
                  <a:pt x="12022" y="9675"/>
                  <a:pt x="12005" y="9823"/>
                </a:cubicBezTo>
                <a:cubicBezTo>
                  <a:pt x="11994" y="9925"/>
                  <a:pt x="11998" y="10019"/>
                  <a:pt x="11981" y="10120"/>
                </a:cubicBezTo>
                <a:cubicBezTo>
                  <a:pt x="11970" y="10185"/>
                  <a:pt x="11974" y="10223"/>
                  <a:pt x="12030" y="10195"/>
                </a:cubicBezTo>
              </a:path>
              <a:path w="1712" h="820">
                <a:moveTo>
                  <a:pt x="12353" y="9500"/>
                </a:moveTo>
                <a:cubicBezTo>
                  <a:pt x="12308" y="9609"/>
                  <a:pt x="12267" y="9707"/>
                  <a:pt x="12254" y="9823"/>
                </a:cubicBezTo>
                <a:cubicBezTo>
                  <a:pt x="12245" y="9905"/>
                  <a:pt x="12274" y="10010"/>
                  <a:pt x="12328" y="10071"/>
                </a:cubicBezTo>
                <a:cubicBezTo>
                  <a:pt x="12391" y="10143"/>
                  <a:pt x="12462" y="10186"/>
                  <a:pt x="12551" y="10195"/>
                </a:cubicBezTo>
                <a:cubicBezTo>
                  <a:pt x="12630" y="10203"/>
                  <a:pt x="12677" y="10179"/>
                  <a:pt x="12725" y="10120"/>
                </a:cubicBezTo>
                <a:cubicBezTo>
                  <a:pt x="12771" y="10063"/>
                  <a:pt x="12784" y="10030"/>
                  <a:pt x="12750" y="9971"/>
                </a:cubicBezTo>
                <a:cubicBezTo>
                  <a:pt x="12668" y="9983"/>
                  <a:pt x="12649" y="10012"/>
                  <a:pt x="12576" y="10046"/>
                </a:cubicBezTo>
                <a:cubicBezTo>
                  <a:pt x="12488" y="10087"/>
                  <a:pt x="12582" y="10174"/>
                  <a:pt x="12626" y="10195"/>
                </a:cubicBezTo>
                <a:cubicBezTo>
                  <a:pt x="12642" y="10203"/>
                  <a:pt x="12659" y="10212"/>
                  <a:pt x="12675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1" name="Ink 30"/>
          <p:cNvSpPr/>
          <p:nvPr/>
        </p:nvSpPr>
        <p:spPr>
          <a:xfrm>
            <a:off x="5010120" y="3419640"/>
            <a:ext cx="330120" cy="27756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13915" y="9500"/>
                </a:moveTo>
                <a:cubicBezTo>
                  <a:pt x="13933" y="9646"/>
                  <a:pt x="13940" y="9776"/>
                  <a:pt x="13940" y="9922"/>
                </a:cubicBezTo>
                <a:cubicBezTo>
                  <a:pt x="13940" y="9967"/>
                  <a:pt x="13914" y="10214"/>
                  <a:pt x="13965" y="10220"/>
                </a:cubicBezTo>
                <a:cubicBezTo>
                  <a:pt x="13973" y="10212"/>
                  <a:pt x="13982" y="10203"/>
                  <a:pt x="13990" y="10195"/>
                </a:cubicBezTo>
              </a:path>
              <a:path w="919" h="770">
                <a:moveTo>
                  <a:pt x="14412" y="9550"/>
                </a:moveTo>
                <a:cubicBezTo>
                  <a:pt x="14406" y="9653"/>
                  <a:pt x="14355" y="9799"/>
                  <a:pt x="14362" y="9897"/>
                </a:cubicBezTo>
                <a:cubicBezTo>
                  <a:pt x="14368" y="9979"/>
                  <a:pt x="14428" y="10074"/>
                  <a:pt x="14486" y="10120"/>
                </a:cubicBezTo>
                <a:cubicBezTo>
                  <a:pt x="14539" y="10162"/>
                  <a:pt x="14655" y="10162"/>
                  <a:pt x="14709" y="10120"/>
                </a:cubicBezTo>
                <a:cubicBezTo>
                  <a:pt x="14803" y="10047"/>
                  <a:pt x="14833" y="10033"/>
                  <a:pt x="14808" y="9922"/>
                </a:cubicBezTo>
                <a:cubicBezTo>
                  <a:pt x="14731" y="9939"/>
                  <a:pt x="14663" y="9954"/>
                  <a:pt x="14585" y="9971"/>
                </a:cubicBezTo>
                <a:cubicBezTo>
                  <a:pt x="14490" y="9992"/>
                  <a:pt x="14435" y="10065"/>
                  <a:pt x="14387" y="10145"/>
                </a:cubicBezTo>
                <a:cubicBezTo>
                  <a:pt x="14359" y="10202"/>
                  <a:pt x="14348" y="10225"/>
                  <a:pt x="14337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2" name="Ink 31"/>
          <p:cNvSpPr/>
          <p:nvPr/>
        </p:nvSpPr>
        <p:spPr>
          <a:xfrm>
            <a:off x="6072120" y="3419640"/>
            <a:ext cx="1625760" cy="563400"/>
          </a:xfrm>
          <a:custGeom>
            <a:avLst/>
            <a:gdLst/>
            <a:ahLst/>
            <a:rect l="l" t="t" r="r" b="b"/>
            <a:pathLst>
              <a:path w="4516" h="1564">
                <a:moveTo>
                  <a:pt x="17140" y="10220"/>
                </a:moveTo>
                <a:cubicBezTo>
                  <a:pt x="17140" y="10158"/>
                  <a:pt x="17131" y="10143"/>
                  <a:pt x="17165" y="10120"/>
                </a:cubicBezTo>
                <a:cubicBezTo>
                  <a:pt x="17142" y="10153"/>
                  <a:pt x="17073" y="10241"/>
                  <a:pt x="17041" y="10294"/>
                </a:cubicBezTo>
                <a:cubicBezTo>
                  <a:pt x="16983" y="10391"/>
                  <a:pt x="16991" y="10484"/>
                  <a:pt x="16991" y="10592"/>
                </a:cubicBezTo>
                <a:cubicBezTo>
                  <a:pt x="16991" y="10692"/>
                  <a:pt x="17063" y="10800"/>
                  <a:pt x="17140" y="10864"/>
                </a:cubicBezTo>
                <a:cubicBezTo>
                  <a:pt x="17232" y="10940"/>
                  <a:pt x="17346" y="10960"/>
                  <a:pt x="17462" y="10964"/>
                </a:cubicBezTo>
                <a:cubicBezTo>
                  <a:pt x="17574" y="10968"/>
                  <a:pt x="17643" y="10928"/>
                  <a:pt x="17711" y="10840"/>
                </a:cubicBezTo>
                <a:cubicBezTo>
                  <a:pt x="17829" y="10689"/>
                  <a:pt x="17775" y="10537"/>
                  <a:pt x="17735" y="10368"/>
                </a:cubicBezTo>
                <a:cubicBezTo>
                  <a:pt x="17677" y="10121"/>
                  <a:pt x="17380" y="10037"/>
                  <a:pt x="17165" y="9971"/>
                </a:cubicBezTo>
                <a:cubicBezTo>
                  <a:pt x="17114" y="9956"/>
                  <a:pt x="16928" y="9953"/>
                  <a:pt x="16892" y="9996"/>
                </a:cubicBezTo>
                <a:cubicBezTo>
                  <a:pt x="16845" y="10051"/>
                  <a:pt x="16878" y="10036"/>
                  <a:pt x="16892" y="10071"/>
                </a:cubicBezTo>
              </a:path>
              <a:path w="4516" h="1564">
                <a:moveTo>
                  <a:pt x="17909" y="10071"/>
                </a:moveTo>
                <a:cubicBezTo>
                  <a:pt x="18054" y="10047"/>
                  <a:pt x="18183" y="10046"/>
                  <a:pt x="18331" y="10046"/>
                </a:cubicBezTo>
              </a:path>
              <a:path w="4516" h="1564">
                <a:moveTo>
                  <a:pt x="18033" y="10294"/>
                </a:moveTo>
                <a:cubicBezTo>
                  <a:pt x="18203" y="10348"/>
                  <a:pt x="18267" y="10360"/>
                  <a:pt x="18430" y="10294"/>
                </a:cubicBezTo>
              </a:path>
              <a:path w="4516" h="1564">
                <a:moveTo>
                  <a:pt x="18777" y="9971"/>
                </a:moveTo>
                <a:cubicBezTo>
                  <a:pt x="18834" y="10068"/>
                  <a:pt x="18874" y="10184"/>
                  <a:pt x="18951" y="10269"/>
                </a:cubicBezTo>
                <a:cubicBezTo>
                  <a:pt x="19078" y="10409"/>
                  <a:pt x="19211" y="10526"/>
                  <a:pt x="19348" y="10641"/>
                </a:cubicBezTo>
                <a:cubicBezTo>
                  <a:pt x="19417" y="10698"/>
                  <a:pt x="19477" y="10760"/>
                  <a:pt x="19546" y="10815"/>
                </a:cubicBezTo>
              </a:path>
              <a:path w="4516" h="1564">
                <a:moveTo>
                  <a:pt x="19199" y="9823"/>
                </a:moveTo>
                <a:cubicBezTo>
                  <a:pt x="19045" y="9940"/>
                  <a:pt x="19010" y="10020"/>
                  <a:pt x="18926" y="10195"/>
                </a:cubicBezTo>
                <a:cubicBezTo>
                  <a:pt x="18866" y="10320"/>
                  <a:pt x="18811" y="10458"/>
                  <a:pt x="18777" y="10592"/>
                </a:cubicBezTo>
                <a:cubicBezTo>
                  <a:pt x="18752" y="10692"/>
                  <a:pt x="18751" y="10980"/>
                  <a:pt x="18703" y="10889"/>
                </a:cubicBezTo>
                <a:cubicBezTo>
                  <a:pt x="18703" y="10873"/>
                  <a:pt x="18703" y="10856"/>
                  <a:pt x="18703" y="10840"/>
                </a:cubicBezTo>
              </a:path>
              <a:path w="4516" h="1564">
                <a:moveTo>
                  <a:pt x="19422" y="9525"/>
                </a:moveTo>
                <a:cubicBezTo>
                  <a:pt x="19538" y="9506"/>
                  <a:pt x="19554" y="9497"/>
                  <a:pt x="19621" y="9500"/>
                </a:cubicBezTo>
                <a:cubicBezTo>
                  <a:pt x="19655" y="9570"/>
                  <a:pt x="19647" y="9602"/>
                  <a:pt x="19621" y="9674"/>
                </a:cubicBezTo>
                <a:cubicBezTo>
                  <a:pt x="19583" y="9780"/>
                  <a:pt x="19514" y="9811"/>
                  <a:pt x="19496" y="9897"/>
                </a:cubicBezTo>
                <a:cubicBezTo>
                  <a:pt x="19476" y="9990"/>
                  <a:pt x="19582" y="10026"/>
                  <a:pt x="19670" y="10046"/>
                </a:cubicBezTo>
                <a:cubicBezTo>
                  <a:pt x="19750" y="10046"/>
                  <a:pt x="19779" y="10043"/>
                  <a:pt x="19819" y="9996"/>
                </a:cubicBezTo>
              </a:path>
              <a:path w="4516" h="1564">
                <a:moveTo>
                  <a:pt x="20265" y="9996"/>
                </a:moveTo>
                <a:cubicBezTo>
                  <a:pt x="20252" y="10163"/>
                  <a:pt x="20207" y="10336"/>
                  <a:pt x="20290" y="10492"/>
                </a:cubicBezTo>
                <a:cubicBezTo>
                  <a:pt x="20318" y="10520"/>
                  <a:pt x="20327" y="10534"/>
                  <a:pt x="20315" y="10567"/>
                </a:cubicBezTo>
              </a:path>
              <a:path w="4516" h="1564">
                <a:moveTo>
                  <a:pt x="19844" y="10220"/>
                </a:moveTo>
                <a:cubicBezTo>
                  <a:pt x="20012" y="10198"/>
                  <a:pt x="20170" y="10195"/>
                  <a:pt x="20340" y="10195"/>
                </a:cubicBezTo>
              </a:path>
              <a:path w="4516" h="1564">
                <a:moveTo>
                  <a:pt x="20861" y="9897"/>
                </a:moveTo>
                <a:cubicBezTo>
                  <a:pt x="20832" y="9946"/>
                  <a:pt x="20749" y="10033"/>
                  <a:pt x="20737" y="10071"/>
                </a:cubicBezTo>
                <a:cubicBezTo>
                  <a:pt x="20720" y="10125"/>
                  <a:pt x="20778" y="10178"/>
                  <a:pt x="20811" y="10195"/>
                </a:cubicBezTo>
                <a:cubicBezTo>
                  <a:pt x="20925" y="10252"/>
                  <a:pt x="20978" y="10269"/>
                  <a:pt x="21109" y="10269"/>
                </a:cubicBezTo>
                <a:cubicBezTo>
                  <a:pt x="21254" y="10269"/>
                  <a:pt x="21244" y="10279"/>
                  <a:pt x="21357" y="10195"/>
                </a:cubicBezTo>
              </a:path>
              <a:path w="4516" h="1564">
                <a:moveTo>
                  <a:pt x="21233" y="9500"/>
                </a:moveTo>
                <a:cubicBezTo>
                  <a:pt x="21233" y="9809"/>
                  <a:pt x="21226" y="10111"/>
                  <a:pt x="21258" y="10418"/>
                </a:cubicBezTo>
                <a:cubicBezTo>
                  <a:pt x="21281" y="10641"/>
                  <a:pt x="21326" y="10847"/>
                  <a:pt x="21382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3" name="Ink 32"/>
          <p:cNvSpPr/>
          <p:nvPr/>
        </p:nvSpPr>
        <p:spPr>
          <a:xfrm>
            <a:off x="1204920" y="3751200"/>
            <a:ext cx="3421080" cy="1687680"/>
          </a:xfrm>
          <a:custGeom>
            <a:avLst/>
            <a:gdLst/>
            <a:ahLst/>
            <a:rect l="l" t="t" r="r" b="b"/>
            <a:pathLst>
              <a:path w="9501" h="4689">
                <a:moveTo>
                  <a:pt x="3572" y="10418"/>
                </a:moveTo>
                <a:cubicBezTo>
                  <a:pt x="3572" y="10579"/>
                  <a:pt x="3583" y="10731"/>
                  <a:pt x="3597" y="10889"/>
                </a:cubicBezTo>
                <a:cubicBezTo>
                  <a:pt x="3610" y="11040"/>
                  <a:pt x="3599" y="11190"/>
                  <a:pt x="3621" y="11336"/>
                </a:cubicBezTo>
                <a:cubicBezTo>
                  <a:pt x="3631" y="11403"/>
                  <a:pt x="3640" y="11468"/>
                  <a:pt x="3572" y="11485"/>
                </a:cubicBezTo>
              </a:path>
              <a:path w="9501" h="4689">
                <a:moveTo>
                  <a:pt x="3349" y="11311"/>
                </a:moveTo>
                <a:cubicBezTo>
                  <a:pt x="3387" y="11387"/>
                  <a:pt x="3413" y="11468"/>
                  <a:pt x="3448" y="11534"/>
                </a:cubicBezTo>
                <a:cubicBezTo>
                  <a:pt x="3487" y="11607"/>
                  <a:pt x="3485" y="11653"/>
                  <a:pt x="3572" y="11658"/>
                </a:cubicBezTo>
                <a:cubicBezTo>
                  <a:pt x="3657" y="11663"/>
                  <a:pt x="3685" y="11581"/>
                  <a:pt x="3746" y="11534"/>
                </a:cubicBezTo>
                <a:cubicBezTo>
                  <a:pt x="3820" y="11477"/>
                  <a:pt x="3873" y="11411"/>
                  <a:pt x="3944" y="11361"/>
                </a:cubicBezTo>
              </a:path>
              <a:path w="9501" h="4689">
                <a:moveTo>
                  <a:pt x="3870" y="12254"/>
                </a:moveTo>
                <a:cubicBezTo>
                  <a:pt x="3870" y="12431"/>
                  <a:pt x="3864" y="12602"/>
                  <a:pt x="3845" y="12774"/>
                </a:cubicBezTo>
                <a:cubicBezTo>
                  <a:pt x="3832" y="12897"/>
                  <a:pt x="3821" y="13083"/>
                  <a:pt x="3870" y="13196"/>
                </a:cubicBezTo>
                <a:cubicBezTo>
                  <a:pt x="3894" y="13246"/>
                  <a:pt x="3902" y="13263"/>
                  <a:pt x="3919" y="13196"/>
                </a:cubicBezTo>
              </a:path>
              <a:path w="9501" h="4689">
                <a:moveTo>
                  <a:pt x="3646" y="14560"/>
                </a:moveTo>
                <a:cubicBezTo>
                  <a:pt x="3726" y="14565"/>
                  <a:pt x="3802" y="14570"/>
                  <a:pt x="3870" y="14585"/>
                </a:cubicBezTo>
                <a:cubicBezTo>
                  <a:pt x="3931" y="14599"/>
                  <a:pt x="3979" y="14619"/>
                  <a:pt x="4043" y="14635"/>
                </a:cubicBezTo>
                <a:cubicBezTo>
                  <a:pt x="4148" y="14661"/>
                  <a:pt x="4259" y="14677"/>
                  <a:pt x="4366" y="14709"/>
                </a:cubicBezTo>
                <a:cubicBezTo>
                  <a:pt x="4468" y="14739"/>
                  <a:pt x="4562" y="14758"/>
                  <a:pt x="4663" y="14784"/>
                </a:cubicBezTo>
                <a:cubicBezTo>
                  <a:pt x="4780" y="14814"/>
                  <a:pt x="4894" y="14841"/>
                  <a:pt x="5011" y="14858"/>
                </a:cubicBezTo>
                <a:cubicBezTo>
                  <a:pt x="5136" y="14876"/>
                  <a:pt x="5281" y="14902"/>
                  <a:pt x="5407" y="14908"/>
                </a:cubicBezTo>
                <a:cubicBezTo>
                  <a:pt x="5659" y="14919"/>
                  <a:pt x="5905" y="14892"/>
                  <a:pt x="6152" y="14883"/>
                </a:cubicBezTo>
                <a:cubicBezTo>
                  <a:pt x="6595" y="14866"/>
                  <a:pt x="7051" y="14872"/>
                  <a:pt x="7491" y="14908"/>
                </a:cubicBezTo>
                <a:cubicBezTo>
                  <a:pt x="7780" y="14932"/>
                  <a:pt x="8071" y="14930"/>
                  <a:pt x="8359" y="14957"/>
                </a:cubicBezTo>
                <a:cubicBezTo>
                  <a:pt x="8656" y="14985"/>
                  <a:pt x="8955" y="14981"/>
                  <a:pt x="9252" y="15007"/>
                </a:cubicBezTo>
                <a:cubicBezTo>
                  <a:pt x="9509" y="15030"/>
                  <a:pt x="9764" y="15069"/>
                  <a:pt x="10021" y="15081"/>
                </a:cubicBezTo>
                <a:cubicBezTo>
                  <a:pt x="10360" y="15097"/>
                  <a:pt x="10701" y="15089"/>
                  <a:pt x="11038" y="15106"/>
                </a:cubicBezTo>
                <a:cubicBezTo>
                  <a:pt x="11240" y="15116"/>
                  <a:pt x="11435" y="15095"/>
                  <a:pt x="11633" y="15081"/>
                </a:cubicBezTo>
                <a:cubicBezTo>
                  <a:pt x="11825" y="15067"/>
                  <a:pt x="12015" y="15058"/>
                  <a:pt x="12204" y="15032"/>
                </a:cubicBezTo>
                <a:cubicBezTo>
                  <a:pt x="12306" y="15018"/>
                  <a:pt x="12400" y="14978"/>
                  <a:pt x="12502" y="14957"/>
                </a:cubicBezTo>
                <a:cubicBezTo>
                  <a:pt x="12573" y="14942"/>
                  <a:pt x="12655" y="14918"/>
                  <a:pt x="12725" y="14908"/>
                </a:cubicBezTo>
                <a:cubicBezTo>
                  <a:pt x="12794" y="14898"/>
                  <a:pt x="12755" y="14915"/>
                  <a:pt x="12824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4" name="Ink 33"/>
          <p:cNvSpPr/>
          <p:nvPr/>
        </p:nvSpPr>
        <p:spPr>
          <a:xfrm>
            <a:off x="5965920" y="5116680"/>
            <a:ext cx="1035000" cy="455400"/>
          </a:xfrm>
          <a:custGeom>
            <a:avLst/>
            <a:gdLst/>
            <a:ahLst/>
            <a:rect l="l" t="t" r="r" b="b"/>
            <a:pathLst>
              <a:path w="2878" h="1266">
                <a:moveTo>
                  <a:pt x="16842" y="14288"/>
                </a:moveTo>
                <a:cubicBezTo>
                  <a:pt x="16851" y="14361"/>
                  <a:pt x="16855" y="14436"/>
                  <a:pt x="16867" y="14511"/>
                </a:cubicBezTo>
                <a:cubicBezTo>
                  <a:pt x="16886" y="14626"/>
                  <a:pt x="16905" y="14744"/>
                  <a:pt x="16917" y="14858"/>
                </a:cubicBezTo>
                <a:cubicBezTo>
                  <a:pt x="16923" y="14914"/>
                  <a:pt x="16917" y="14976"/>
                  <a:pt x="16917" y="15032"/>
                </a:cubicBezTo>
              </a:path>
              <a:path w="2878" h="1266">
                <a:moveTo>
                  <a:pt x="16594" y="14684"/>
                </a:moveTo>
                <a:cubicBezTo>
                  <a:pt x="16732" y="14684"/>
                  <a:pt x="16861" y="14693"/>
                  <a:pt x="16991" y="14709"/>
                </a:cubicBezTo>
                <a:cubicBezTo>
                  <a:pt x="17016" y="14709"/>
                  <a:pt x="17041" y="14709"/>
                  <a:pt x="17066" y="14709"/>
                </a:cubicBezTo>
              </a:path>
              <a:path w="2878" h="1266">
                <a:moveTo>
                  <a:pt x="16570" y="15180"/>
                </a:moveTo>
                <a:cubicBezTo>
                  <a:pt x="16711" y="15237"/>
                  <a:pt x="16749" y="15221"/>
                  <a:pt x="16892" y="15205"/>
                </a:cubicBezTo>
                <a:cubicBezTo>
                  <a:pt x="16917" y="15205"/>
                  <a:pt x="16941" y="15205"/>
                  <a:pt x="16966" y="15205"/>
                </a:cubicBezTo>
              </a:path>
              <a:path w="2878" h="1266">
                <a:moveTo>
                  <a:pt x="17363" y="14461"/>
                </a:moveTo>
                <a:cubicBezTo>
                  <a:pt x="17441" y="14445"/>
                  <a:pt x="17509" y="14447"/>
                  <a:pt x="17562" y="14536"/>
                </a:cubicBezTo>
                <a:cubicBezTo>
                  <a:pt x="17612" y="14621"/>
                  <a:pt x="17624" y="14737"/>
                  <a:pt x="17611" y="14833"/>
                </a:cubicBezTo>
                <a:cubicBezTo>
                  <a:pt x="17592" y="14967"/>
                  <a:pt x="17528" y="15045"/>
                  <a:pt x="17462" y="15156"/>
                </a:cubicBezTo>
                <a:cubicBezTo>
                  <a:pt x="17422" y="15223"/>
                  <a:pt x="17387" y="15244"/>
                  <a:pt x="17314" y="15255"/>
                </a:cubicBezTo>
                <a:cubicBezTo>
                  <a:pt x="17279" y="15197"/>
                  <a:pt x="17282" y="15157"/>
                  <a:pt x="17289" y="15106"/>
                </a:cubicBezTo>
                <a:cubicBezTo>
                  <a:pt x="17297" y="15047"/>
                  <a:pt x="17301" y="15029"/>
                  <a:pt x="17338" y="14982"/>
                </a:cubicBezTo>
                <a:cubicBezTo>
                  <a:pt x="17434" y="15025"/>
                  <a:pt x="17495" y="15118"/>
                  <a:pt x="17587" y="15180"/>
                </a:cubicBezTo>
                <a:cubicBezTo>
                  <a:pt x="17638" y="15214"/>
                  <a:pt x="17678" y="15223"/>
                  <a:pt x="17735" y="15230"/>
                </a:cubicBezTo>
              </a:path>
              <a:path w="2878" h="1266">
                <a:moveTo>
                  <a:pt x="17909" y="14709"/>
                </a:moveTo>
                <a:cubicBezTo>
                  <a:pt x="17909" y="14827"/>
                  <a:pt x="17886" y="14970"/>
                  <a:pt x="17934" y="15081"/>
                </a:cubicBezTo>
                <a:cubicBezTo>
                  <a:pt x="17954" y="15128"/>
                  <a:pt x="18015" y="15304"/>
                  <a:pt x="18083" y="15304"/>
                </a:cubicBezTo>
                <a:cubicBezTo>
                  <a:pt x="18091" y="15296"/>
                  <a:pt x="18099" y="15288"/>
                  <a:pt x="18107" y="15280"/>
                </a:cubicBezTo>
              </a:path>
              <a:path w="2878" h="1266">
                <a:moveTo>
                  <a:pt x="18058" y="14213"/>
                </a:moveTo>
                <a:cubicBezTo>
                  <a:pt x="18083" y="14238"/>
                  <a:pt x="18091" y="14246"/>
                  <a:pt x="18107" y="14263"/>
                </a:cubicBezTo>
              </a:path>
              <a:path w="2878" h="1266">
                <a:moveTo>
                  <a:pt x="18405" y="14684"/>
                </a:moveTo>
                <a:cubicBezTo>
                  <a:pt x="18574" y="14762"/>
                  <a:pt x="18602" y="14816"/>
                  <a:pt x="18752" y="14759"/>
                </a:cubicBezTo>
              </a:path>
              <a:path w="2878" h="1266">
                <a:moveTo>
                  <a:pt x="18455" y="14858"/>
                </a:moveTo>
                <a:cubicBezTo>
                  <a:pt x="18624" y="14962"/>
                  <a:pt x="18663" y="15001"/>
                  <a:pt x="18852" y="14957"/>
                </a:cubicBezTo>
              </a:path>
              <a:path w="2878" h="1266">
                <a:moveTo>
                  <a:pt x="19000" y="14635"/>
                </a:moveTo>
                <a:cubicBezTo>
                  <a:pt x="19104" y="14824"/>
                  <a:pt x="19176" y="15016"/>
                  <a:pt x="19273" y="15205"/>
                </a:cubicBezTo>
                <a:cubicBezTo>
                  <a:pt x="19323" y="15303"/>
                  <a:pt x="19380" y="15394"/>
                  <a:pt x="19447" y="15478"/>
                </a:cubicBezTo>
              </a:path>
              <a:path w="2878" h="1266">
                <a:moveTo>
                  <a:pt x="19273" y="14833"/>
                </a:moveTo>
                <a:cubicBezTo>
                  <a:pt x="19091" y="15028"/>
                  <a:pt x="18941" y="15154"/>
                  <a:pt x="18728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5" name="Ink 34"/>
          <p:cNvSpPr/>
          <p:nvPr/>
        </p:nvSpPr>
        <p:spPr>
          <a:xfrm>
            <a:off x="2990880" y="3919680"/>
            <a:ext cx="573120" cy="2073240"/>
          </a:xfrm>
          <a:custGeom>
            <a:avLst/>
            <a:gdLst/>
            <a:ahLst/>
            <a:rect l="l" t="t" r="r" b="b"/>
            <a:pathLst>
              <a:path w="1588" h="5756">
                <a:moveTo>
                  <a:pt x="8310" y="11286"/>
                </a:moveTo>
                <a:cubicBezTo>
                  <a:pt x="8431" y="11306"/>
                  <a:pt x="8535" y="11311"/>
                  <a:pt x="8657" y="11311"/>
                </a:cubicBezTo>
                <a:cubicBezTo>
                  <a:pt x="8673" y="11311"/>
                  <a:pt x="8690" y="11311"/>
                  <a:pt x="8706" y="11311"/>
                </a:cubicBezTo>
              </a:path>
              <a:path w="1588" h="5756">
                <a:moveTo>
                  <a:pt x="9227" y="11013"/>
                </a:moveTo>
                <a:cubicBezTo>
                  <a:pt x="9220" y="11067"/>
                  <a:pt x="9201" y="11142"/>
                  <a:pt x="9178" y="11187"/>
                </a:cubicBezTo>
                <a:cubicBezTo>
                  <a:pt x="9145" y="11253"/>
                  <a:pt x="9099" y="11248"/>
                  <a:pt x="9153" y="11336"/>
                </a:cubicBezTo>
                <a:cubicBezTo>
                  <a:pt x="9191" y="11397"/>
                  <a:pt x="9267" y="11385"/>
                  <a:pt x="9327" y="11385"/>
                </a:cubicBezTo>
                <a:cubicBezTo>
                  <a:pt x="9410" y="11385"/>
                  <a:pt x="9474" y="11389"/>
                  <a:pt x="9550" y="11361"/>
                </a:cubicBezTo>
              </a:path>
              <a:path w="1588" h="5756">
                <a:moveTo>
                  <a:pt x="9624" y="10889"/>
                </a:moveTo>
                <a:cubicBezTo>
                  <a:pt x="9571" y="10988"/>
                  <a:pt x="9574" y="11054"/>
                  <a:pt x="9550" y="11162"/>
                </a:cubicBezTo>
                <a:cubicBezTo>
                  <a:pt x="9525" y="11272"/>
                  <a:pt x="9525" y="11370"/>
                  <a:pt x="9525" y="11485"/>
                </a:cubicBezTo>
                <a:cubicBezTo>
                  <a:pt x="9525" y="11606"/>
                  <a:pt x="9532" y="11718"/>
                  <a:pt x="9550" y="11832"/>
                </a:cubicBezTo>
                <a:cubicBezTo>
                  <a:pt x="9553" y="11848"/>
                  <a:pt x="9550" y="12015"/>
                  <a:pt x="9550" y="11881"/>
                </a:cubicBezTo>
              </a:path>
              <a:path w="1588" h="5756">
                <a:moveTo>
                  <a:pt x="9227" y="12626"/>
                </a:moveTo>
                <a:cubicBezTo>
                  <a:pt x="9255" y="12723"/>
                  <a:pt x="9210" y="12703"/>
                  <a:pt x="9153" y="12774"/>
                </a:cubicBezTo>
                <a:cubicBezTo>
                  <a:pt x="9103" y="12836"/>
                  <a:pt x="9161" y="12856"/>
                  <a:pt x="9203" y="12898"/>
                </a:cubicBezTo>
                <a:cubicBezTo>
                  <a:pt x="9242" y="12938"/>
                  <a:pt x="9345" y="13009"/>
                  <a:pt x="9401" y="13022"/>
                </a:cubicBezTo>
                <a:cubicBezTo>
                  <a:pt x="9467" y="13022"/>
                  <a:pt x="9500" y="13022"/>
                  <a:pt x="9550" y="13022"/>
                </a:cubicBezTo>
              </a:path>
              <a:path w="1588" h="5756">
                <a:moveTo>
                  <a:pt x="9649" y="12402"/>
                </a:moveTo>
                <a:cubicBezTo>
                  <a:pt x="9572" y="12556"/>
                  <a:pt x="9555" y="12671"/>
                  <a:pt x="9550" y="12849"/>
                </a:cubicBezTo>
                <a:cubicBezTo>
                  <a:pt x="9546" y="12984"/>
                  <a:pt x="9590" y="13113"/>
                  <a:pt x="9599" y="13246"/>
                </a:cubicBezTo>
                <a:cubicBezTo>
                  <a:pt x="9607" y="13360"/>
                  <a:pt x="9599" y="13478"/>
                  <a:pt x="9599" y="13593"/>
                </a:cubicBezTo>
              </a:path>
              <a:path w="1588" h="5756">
                <a:moveTo>
                  <a:pt x="9227" y="13940"/>
                </a:moveTo>
                <a:cubicBezTo>
                  <a:pt x="9217" y="14025"/>
                  <a:pt x="9203" y="14098"/>
                  <a:pt x="9203" y="14188"/>
                </a:cubicBezTo>
                <a:cubicBezTo>
                  <a:pt x="9203" y="14269"/>
                  <a:pt x="9215" y="14337"/>
                  <a:pt x="9227" y="14412"/>
                </a:cubicBezTo>
                <a:cubicBezTo>
                  <a:pt x="9242" y="14510"/>
                  <a:pt x="9298" y="14556"/>
                  <a:pt x="9351" y="14635"/>
                </a:cubicBezTo>
                <a:cubicBezTo>
                  <a:pt x="9410" y="14723"/>
                  <a:pt x="9471" y="14743"/>
                  <a:pt x="9575" y="14709"/>
                </a:cubicBezTo>
                <a:cubicBezTo>
                  <a:pt x="9684" y="14674"/>
                  <a:pt x="9720" y="14597"/>
                  <a:pt x="9748" y="14486"/>
                </a:cubicBezTo>
                <a:cubicBezTo>
                  <a:pt x="9783" y="14348"/>
                  <a:pt x="9781" y="14223"/>
                  <a:pt x="9748" y="14089"/>
                </a:cubicBezTo>
                <a:cubicBezTo>
                  <a:pt x="9719" y="13972"/>
                  <a:pt x="9682" y="13904"/>
                  <a:pt x="9599" y="13816"/>
                </a:cubicBezTo>
                <a:cubicBezTo>
                  <a:pt x="9540" y="13754"/>
                  <a:pt x="9460" y="13722"/>
                  <a:pt x="9376" y="13717"/>
                </a:cubicBezTo>
                <a:cubicBezTo>
                  <a:pt x="9275" y="13711"/>
                  <a:pt x="9236" y="13781"/>
                  <a:pt x="9203" y="13866"/>
                </a:cubicBezTo>
                <a:cubicBezTo>
                  <a:pt x="9175" y="13937"/>
                  <a:pt x="9153" y="13988"/>
                  <a:pt x="9153" y="14064"/>
                </a:cubicBezTo>
              </a:path>
              <a:path w="1588" h="5756">
                <a:moveTo>
                  <a:pt x="9475" y="15404"/>
                </a:moveTo>
                <a:cubicBezTo>
                  <a:pt x="9454" y="15461"/>
                  <a:pt x="9415" y="15520"/>
                  <a:pt x="9401" y="15577"/>
                </a:cubicBezTo>
                <a:cubicBezTo>
                  <a:pt x="9385" y="15645"/>
                  <a:pt x="9413" y="15699"/>
                  <a:pt x="9451" y="15751"/>
                </a:cubicBezTo>
                <a:cubicBezTo>
                  <a:pt x="9496" y="15812"/>
                  <a:pt x="9591" y="15830"/>
                  <a:pt x="9649" y="15875"/>
                </a:cubicBezTo>
                <a:cubicBezTo>
                  <a:pt x="9723" y="15934"/>
                  <a:pt x="9752" y="15925"/>
                  <a:pt x="9847" y="15925"/>
                </a:cubicBezTo>
              </a:path>
              <a:path w="1588" h="5756">
                <a:moveTo>
                  <a:pt x="9897" y="15230"/>
                </a:moveTo>
                <a:cubicBezTo>
                  <a:pt x="9859" y="15352"/>
                  <a:pt x="9826" y="15477"/>
                  <a:pt x="9798" y="15602"/>
                </a:cubicBezTo>
                <a:cubicBezTo>
                  <a:pt x="9758" y="15782"/>
                  <a:pt x="9768" y="15966"/>
                  <a:pt x="9748" y="16148"/>
                </a:cubicBezTo>
                <a:cubicBezTo>
                  <a:pt x="9729" y="16315"/>
                  <a:pt x="9688" y="16481"/>
                  <a:pt x="9649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6" name="Ink 35"/>
          <p:cNvSpPr/>
          <p:nvPr/>
        </p:nvSpPr>
        <p:spPr>
          <a:xfrm>
            <a:off x="4027320" y="3990960"/>
            <a:ext cx="455760" cy="1849320"/>
          </a:xfrm>
          <a:custGeom>
            <a:avLst/>
            <a:gdLst/>
            <a:ahLst/>
            <a:rect l="l" t="t" r="r" b="b"/>
            <a:pathLst>
              <a:path w="1266" h="5135">
                <a:moveTo>
                  <a:pt x="12105" y="11212"/>
                </a:moveTo>
                <a:cubicBezTo>
                  <a:pt x="12091" y="11116"/>
                  <a:pt x="12064" y="11139"/>
                  <a:pt x="11981" y="11112"/>
                </a:cubicBezTo>
                <a:cubicBezTo>
                  <a:pt x="11910" y="11089"/>
                  <a:pt x="11858" y="11088"/>
                  <a:pt x="11782" y="11088"/>
                </a:cubicBezTo>
                <a:cubicBezTo>
                  <a:pt x="11731" y="11088"/>
                  <a:pt x="11713" y="11089"/>
                  <a:pt x="11683" y="11112"/>
                </a:cubicBezTo>
                <a:cubicBezTo>
                  <a:pt x="11693" y="11229"/>
                  <a:pt x="11719" y="11309"/>
                  <a:pt x="11782" y="11410"/>
                </a:cubicBezTo>
                <a:cubicBezTo>
                  <a:pt x="11854" y="11525"/>
                  <a:pt x="11907" y="11630"/>
                  <a:pt x="11956" y="11757"/>
                </a:cubicBezTo>
                <a:cubicBezTo>
                  <a:pt x="11989" y="11843"/>
                  <a:pt x="12005" y="11914"/>
                  <a:pt x="12005" y="12005"/>
                </a:cubicBezTo>
                <a:cubicBezTo>
                  <a:pt x="12005" y="12022"/>
                  <a:pt x="12005" y="12038"/>
                  <a:pt x="12005" y="12055"/>
                </a:cubicBezTo>
                <a:cubicBezTo>
                  <a:pt x="11927" y="12089"/>
                  <a:pt x="11893" y="12092"/>
                  <a:pt x="11832" y="12030"/>
                </a:cubicBezTo>
                <a:cubicBezTo>
                  <a:pt x="11758" y="11955"/>
                  <a:pt x="11794" y="11923"/>
                  <a:pt x="11807" y="11832"/>
                </a:cubicBezTo>
                <a:cubicBezTo>
                  <a:pt x="11821" y="11734"/>
                  <a:pt x="11837" y="11682"/>
                  <a:pt x="11906" y="11609"/>
                </a:cubicBezTo>
                <a:cubicBezTo>
                  <a:pt x="11963" y="11549"/>
                  <a:pt x="12013" y="11480"/>
                  <a:pt x="12055" y="11410"/>
                </a:cubicBezTo>
                <a:cubicBezTo>
                  <a:pt x="12105" y="11328"/>
                  <a:pt x="12100" y="11360"/>
                  <a:pt x="12080" y="11261"/>
                </a:cubicBezTo>
              </a:path>
              <a:path w="1266" h="5135">
                <a:moveTo>
                  <a:pt x="11187" y="12898"/>
                </a:moveTo>
                <a:cubicBezTo>
                  <a:pt x="11284" y="12898"/>
                  <a:pt x="11393" y="12898"/>
                  <a:pt x="11485" y="12923"/>
                </a:cubicBezTo>
                <a:cubicBezTo>
                  <a:pt x="11540" y="12951"/>
                  <a:pt x="11563" y="12959"/>
                  <a:pt x="11609" y="12948"/>
                </a:cubicBezTo>
              </a:path>
              <a:path w="1266" h="5135">
                <a:moveTo>
                  <a:pt x="12303" y="12725"/>
                </a:moveTo>
                <a:cubicBezTo>
                  <a:pt x="12252" y="12660"/>
                  <a:pt x="12225" y="12624"/>
                  <a:pt x="12129" y="12650"/>
                </a:cubicBezTo>
                <a:cubicBezTo>
                  <a:pt x="12075" y="12664"/>
                  <a:pt x="12014" y="12674"/>
                  <a:pt x="11981" y="12725"/>
                </a:cubicBezTo>
                <a:cubicBezTo>
                  <a:pt x="11936" y="12794"/>
                  <a:pt x="11962" y="12838"/>
                  <a:pt x="12005" y="12898"/>
                </a:cubicBezTo>
                <a:cubicBezTo>
                  <a:pt x="12109" y="13042"/>
                  <a:pt x="12232" y="13159"/>
                  <a:pt x="12303" y="13320"/>
                </a:cubicBezTo>
                <a:cubicBezTo>
                  <a:pt x="12333" y="13387"/>
                  <a:pt x="12377" y="13458"/>
                  <a:pt x="12328" y="13519"/>
                </a:cubicBezTo>
                <a:cubicBezTo>
                  <a:pt x="12320" y="13527"/>
                  <a:pt x="12311" y="13535"/>
                  <a:pt x="12303" y="13543"/>
                </a:cubicBezTo>
                <a:cubicBezTo>
                  <a:pt x="12267" y="13534"/>
                  <a:pt x="12182" y="13499"/>
                  <a:pt x="12154" y="13469"/>
                </a:cubicBezTo>
                <a:cubicBezTo>
                  <a:pt x="12100" y="13411"/>
                  <a:pt x="12089" y="13311"/>
                  <a:pt x="12129" y="13246"/>
                </a:cubicBezTo>
                <a:cubicBezTo>
                  <a:pt x="12163" y="13190"/>
                  <a:pt x="12219" y="13171"/>
                  <a:pt x="12254" y="13122"/>
                </a:cubicBezTo>
                <a:cubicBezTo>
                  <a:pt x="12293" y="13066"/>
                  <a:pt x="12328" y="13024"/>
                  <a:pt x="12378" y="12973"/>
                </a:cubicBezTo>
                <a:cubicBezTo>
                  <a:pt x="12414" y="12936"/>
                  <a:pt x="12462" y="12877"/>
                  <a:pt x="12452" y="12824"/>
                </a:cubicBezTo>
                <a:cubicBezTo>
                  <a:pt x="12444" y="12799"/>
                  <a:pt x="12435" y="12775"/>
                  <a:pt x="12427" y="12750"/>
                </a:cubicBezTo>
              </a:path>
              <a:path w="1266" h="5135">
                <a:moveTo>
                  <a:pt x="12105" y="14015"/>
                </a:moveTo>
                <a:cubicBezTo>
                  <a:pt x="12189" y="13947"/>
                  <a:pt x="12213" y="13938"/>
                  <a:pt x="12179" y="13841"/>
                </a:cubicBezTo>
                <a:cubicBezTo>
                  <a:pt x="12159" y="13785"/>
                  <a:pt x="12063" y="13708"/>
                  <a:pt x="12005" y="13692"/>
                </a:cubicBezTo>
                <a:cubicBezTo>
                  <a:pt x="11956" y="13692"/>
                  <a:pt x="11939" y="13692"/>
                  <a:pt x="11906" y="13692"/>
                </a:cubicBezTo>
                <a:cubicBezTo>
                  <a:pt x="11859" y="13771"/>
                  <a:pt x="11887" y="13848"/>
                  <a:pt x="11906" y="13940"/>
                </a:cubicBezTo>
                <a:cubicBezTo>
                  <a:pt x="11937" y="14094"/>
                  <a:pt x="12003" y="14230"/>
                  <a:pt x="12030" y="14387"/>
                </a:cubicBezTo>
                <a:cubicBezTo>
                  <a:pt x="12051" y="14507"/>
                  <a:pt x="12081" y="14626"/>
                  <a:pt x="11981" y="14660"/>
                </a:cubicBezTo>
                <a:cubicBezTo>
                  <a:pt x="11903" y="14583"/>
                  <a:pt x="11906" y="14525"/>
                  <a:pt x="11906" y="14412"/>
                </a:cubicBezTo>
                <a:cubicBezTo>
                  <a:pt x="11906" y="14317"/>
                  <a:pt x="11889" y="14217"/>
                  <a:pt x="11931" y="14139"/>
                </a:cubicBezTo>
                <a:cubicBezTo>
                  <a:pt x="11959" y="14087"/>
                  <a:pt x="12000" y="14062"/>
                  <a:pt x="12030" y="14015"/>
                </a:cubicBezTo>
                <a:cubicBezTo>
                  <a:pt x="12059" y="13970"/>
                  <a:pt x="12080" y="13914"/>
                  <a:pt x="12105" y="13866"/>
                </a:cubicBezTo>
              </a:path>
              <a:path w="1266" h="5135">
                <a:moveTo>
                  <a:pt x="12204" y="15255"/>
                </a:moveTo>
                <a:cubicBezTo>
                  <a:pt x="12157" y="15302"/>
                  <a:pt x="12135" y="15344"/>
                  <a:pt x="12105" y="15404"/>
                </a:cubicBezTo>
                <a:cubicBezTo>
                  <a:pt x="12071" y="15473"/>
                  <a:pt x="12017" y="15550"/>
                  <a:pt x="12005" y="15627"/>
                </a:cubicBezTo>
                <a:cubicBezTo>
                  <a:pt x="11986" y="15750"/>
                  <a:pt x="11988" y="15934"/>
                  <a:pt x="12030" y="16049"/>
                </a:cubicBezTo>
                <a:cubicBezTo>
                  <a:pt x="12054" y="16115"/>
                  <a:pt x="12089" y="16243"/>
                  <a:pt x="12179" y="16222"/>
                </a:cubicBezTo>
                <a:cubicBezTo>
                  <a:pt x="12256" y="16204"/>
                  <a:pt x="12312" y="16135"/>
                  <a:pt x="12353" y="16073"/>
                </a:cubicBezTo>
                <a:cubicBezTo>
                  <a:pt x="12412" y="15986"/>
                  <a:pt x="12424" y="15876"/>
                  <a:pt x="12427" y="15776"/>
                </a:cubicBezTo>
                <a:cubicBezTo>
                  <a:pt x="12431" y="15665"/>
                  <a:pt x="12394" y="15542"/>
                  <a:pt x="12328" y="15453"/>
                </a:cubicBezTo>
                <a:cubicBezTo>
                  <a:pt x="12277" y="15385"/>
                  <a:pt x="12190" y="15318"/>
                  <a:pt x="12105" y="15304"/>
                </a:cubicBezTo>
                <a:cubicBezTo>
                  <a:pt x="12026" y="15291"/>
                  <a:pt x="11953" y="15330"/>
                  <a:pt x="11881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7" name="Ink 36"/>
          <p:cNvSpPr/>
          <p:nvPr/>
        </p:nvSpPr>
        <p:spPr>
          <a:xfrm>
            <a:off x="4705200" y="3963960"/>
            <a:ext cx="2975040" cy="1009800"/>
          </a:xfrm>
          <a:custGeom>
            <a:avLst/>
            <a:gdLst/>
            <a:ahLst/>
            <a:rect l="l" t="t" r="r" b="b"/>
            <a:pathLst>
              <a:path w="8261" h="2804">
                <a:moveTo>
                  <a:pt x="13072" y="11609"/>
                </a:moveTo>
                <a:cubicBezTo>
                  <a:pt x="13198" y="11593"/>
                  <a:pt x="13322" y="11576"/>
                  <a:pt x="13444" y="11559"/>
                </a:cubicBezTo>
                <a:cubicBezTo>
                  <a:pt x="13461" y="11559"/>
                  <a:pt x="13477" y="11559"/>
                  <a:pt x="13494" y="11559"/>
                </a:cubicBezTo>
              </a:path>
              <a:path w="8261" h="2804">
                <a:moveTo>
                  <a:pt x="13940" y="11013"/>
                </a:moveTo>
                <a:cubicBezTo>
                  <a:pt x="13940" y="11109"/>
                  <a:pt x="13918" y="11192"/>
                  <a:pt x="13915" y="11286"/>
                </a:cubicBezTo>
                <a:cubicBezTo>
                  <a:pt x="13911" y="11408"/>
                  <a:pt x="13899" y="11490"/>
                  <a:pt x="13915" y="11609"/>
                </a:cubicBezTo>
                <a:cubicBezTo>
                  <a:pt x="13921" y="11654"/>
                  <a:pt x="13931" y="11689"/>
                  <a:pt x="13940" y="11733"/>
                </a:cubicBezTo>
              </a:path>
              <a:path w="8261" h="2804">
                <a:moveTo>
                  <a:pt x="14139" y="11112"/>
                </a:moveTo>
                <a:cubicBezTo>
                  <a:pt x="14139" y="11203"/>
                  <a:pt x="14109" y="11327"/>
                  <a:pt x="14114" y="11410"/>
                </a:cubicBezTo>
                <a:cubicBezTo>
                  <a:pt x="14120" y="11504"/>
                  <a:pt x="14160" y="11632"/>
                  <a:pt x="14213" y="11708"/>
                </a:cubicBezTo>
                <a:cubicBezTo>
                  <a:pt x="14268" y="11788"/>
                  <a:pt x="14409" y="11877"/>
                  <a:pt x="14511" y="11857"/>
                </a:cubicBezTo>
                <a:cubicBezTo>
                  <a:pt x="14579" y="11844"/>
                  <a:pt x="14628" y="11774"/>
                  <a:pt x="14610" y="11708"/>
                </a:cubicBezTo>
                <a:cubicBezTo>
                  <a:pt x="14586" y="11618"/>
                  <a:pt x="14455" y="11689"/>
                  <a:pt x="14412" y="11708"/>
                </a:cubicBezTo>
                <a:cubicBezTo>
                  <a:pt x="14321" y="11747"/>
                  <a:pt x="14272" y="11818"/>
                  <a:pt x="14238" y="11906"/>
                </a:cubicBezTo>
                <a:cubicBezTo>
                  <a:pt x="14230" y="11931"/>
                  <a:pt x="14221" y="11956"/>
                  <a:pt x="14213" y="11981"/>
                </a:cubicBezTo>
              </a:path>
              <a:path w="8261" h="2804">
                <a:moveTo>
                  <a:pt x="14263" y="12551"/>
                </a:moveTo>
                <a:cubicBezTo>
                  <a:pt x="14195" y="12660"/>
                  <a:pt x="14132" y="12722"/>
                  <a:pt x="14089" y="12849"/>
                </a:cubicBezTo>
                <a:cubicBezTo>
                  <a:pt x="14053" y="12957"/>
                  <a:pt x="14062" y="13038"/>
                  <a:pt x="14089" y="13146"/>
                </a:cubicBezTo>
                <a:cubicBezTo>
                  <a:pt x="14117" y="13258"/>
                  <a:pt x="14150" y="13386"/>
                  <a:pt x="14238" y="13469"/>
                </a:cubicBezTo>
                <a:cubicBezTo>
                  <a:pt x="14306" y="13533"/>
                  <a:pt x="14387" y="13520"/>
                  <a:pt x="14461" y="13494"/>
                </a:cubicBezTo>
                <a:cubicBezTo>
                  <a:pt x="14589" y="13449"/>
                  <a:pt x="14599" y="13381"/>
                  <a:pt x="14660" y="13271"/>
                </a:cubicBezTo>
                <a:cubicBezTo>
                  <a:pt x="14715" y="13172"/>
                  <a:pt x="14756" y="13092"/>
                  <a:pt x="14734" y="12973"/>
                </a:cubicBezTo>
                <a:cubicBezTo>
                  <a:pt x="14713" y="12861"/>
                  <a:pt x="14662" y="12802"/>
                  <a:pt x="14585" y="12725"/>
                </a:cubicBezTo>
                <a:cubicBezTo>
                  <a:pt x="14477" y="12618"/>
                  <a:pt x="14402" y="12598"/>
                  <a:pt x="14263" y="12551"/>
                </a:cubicBezTo>
              </a:path>
              <a:path w="8261" h="2804">
                <a:moveTo>
                  <a:pt x="20290" y="11782"/>
                </a:moveTo>
                <a:cubicBezTo>
                  <a:pt x="20389" y="11782"/>
                  <a:pt x="20489" y="11782"/>
                  <a:pt x="20588" y="11782"/>
                </a:cubicBezTo>
              </a:path>
              <a:path w="8261" h="2804">
                <a:moveTo>
                  <a:pt x="20960" y="11435"/>
                </a:moveTo>
                <a:cubicBezTo>
                  <a:pt x="20960" y="11526"/>
                  <a:pt x="20947" y="11596"/>
                  <a:pt x="20935" y="11683"/>
                </a:cubicBezTo>
                <a:cubicBezTo>
                  <a:pt x="20925" y="11756"/>
                  <a:pt x="20917" y="11825"/>
                  <a:pt x="20985" y="11857"/>
                </a:cubicBezTo>
                <a:cubicBezTo>
                  <a:pt x="21032" y="11879"/>
                  <a:pt x="21156" y="11915"/>
                  <a:pt x="21208" y="11906"/>
                </a:cubicBezTo>
                <a:cubicBezTo>
                  <a:pt x="21275" y="11883"/>
                  <a:pt x="21293" y="11878"/>
                  <a:pt x="21332" y="11857"/>
                </a:cubicBezTo>
              </a:path>
              <a:path w="8261" h="2804">
                <a:moveTo>
                  <a:pt x="21307" y="11460"/>
                </a:moveTo>
                <a:cubicBezTo>
                  <a:pt x="21259" y="11627"/>
                  <a:pt x="21233" y="11735"/>
                  <a:pt x="21233" y="11906"/>
                </a:cubicBezTo>
                <a:cubicBezTo>
                  <a:pt x="21233" y="12008"/>
                  <a:pt x="21238" y="12079"/>
                  <a:pt x="21258" y="12179"/>
                </a:cubicBezTo>
              </a:path>
              <a:path w="8261" h="2804">
                <a:moveTo>
                  <a:pt x="16148" y="11534"/>
                </a:moveTo>
                <a:cubicBezTo>
                  <a:pt x="16236" y="11534"/>
                  <a:pt x="16312" y="11518"/>
                  <a:pt x="16396" y="11509"/>
                </a:cubicBezTo>
                <a:cubicBezTo>
                  <a:pt x="16472" y="11500"/>
                  <a:pt x="16543" y="11491"/>
                  <a:pt x="16619" y="11485"/>
                </a:cubicBezTo>
              </a:path>
              <a:path w="8261" h="2804">
                <a:moveTo>
                  <a:pt x="16966" y="11361"/>
                </a:moveTo>
                <a:cubicBezTo>
                  <a:pt x="16938" y="11432"/>
                  <a:pt x="16896" y="11482"/>
                  <a:pt x="16892" y="11559"/>
                </a:cubicBezTo>
                <a:cubicBezTo>
                  <a:pt x="16889" y="11618"/>
                  <a:pt x="16929" y="11668"/>
                  <a:pt x="16991" y="11683"/>
                </a:cubicBezTo>
                <a:cubicBezTo>
                  <a:pt x="17084" y="11705"/>
                  <a:pt x="17227" y="11690"/>
                  <a:pt x="17314" y="11658"/>
                </a:cubicBezTo>
                <a:cubicBezTo>
                  <a:pt x="17330" y="11650"/>
                  <a:pt x="17347" y="11641"/>
                  <a:pt x="17363" y="11633"/>
                </a:cubicBezTo>
              </a:path>
              <a:path w="8261" h="2804">
                <a:moveTo>
                  <a:pt x="17388" y="11237"/>
                </a:moveTo>
                <a:cubicBezTo>
                  <a:pt x="17339" y="11342"/>
                  <a:pt x="17300" y="11444"/>
                  <a:pt x="17289" y="11559"/>
                </a:cubicBezTo>
                <a:cubicBezTo>
                  <a:pt x="17280" y="11653"/>
                  <a:pt x="17295" y="11788"/>
                  <a:pt x="17314" y="11881"/>
                </a:cubicBezTo>
                <a:cubicBezTo>
                  <a:pt x="17322" y="11906"/>
                  <a:pt x="17330" y="11931"/>
                  <a:pt x="17338" y="11956"/>
                </a:cubicBezTo>
              </a:path>
              <a:path w="8261" h="2804">
                <a:moveTo>
                  <a:pt x="16421" y="12799"/>
                </a:moveTo>
                <a:cubicBezTo>
                  <a:pt x="16526" y="12790"/>
                  <a:pt x="16638" y="12789"/>
                  <a:pt x="16743" y="12774"/>
                </a:cubicBezTo>
                <a:cubicBezTo>
                  <a:pt x="16842" y="12759"/>
                  <a:pt x="16915" y="12750"/>
                  <a:pt x="17016" y="12750"/>
                </a:cubicBezTo>
              </a:path>
              <a:path w="8261" h="2804">
                <a:moveTo>
                  <a:pt x="17388" y="12576"/>
                </a:moveTo>
                <a:cubicBezTo>
                  <a:pt x="17362" y="12647"/>
                  <a:pt x="17335" y="12714"/>
                  <a:pt x="17289" y="12774"/>
                </a:cubicBezTo>
                <a:cubicBezTo>
                  <a:pt x="17246" y="12830"/>
                  <a:pt x="17211" y="12864"/>
                  <a:pt x="17239" y="12923"/>
                </a:cubicBezTo>
                <a:cubicBezTo>
                  <a:pt x="17281" y="13013"/>
                  <a:pt x="17439" y="13016"/>
                  <a:pt x="17537" y="13022"/>
                </a:cubicBezTo>
                <a:cubicBezTo>
                  <a:pt x="17603" y="13022"/>
                  <a:pt x="17620" y="13022"/>
                  <a:pt x="17661" y="13022"/>
                </a:cubicBezTo>
              </a:path>
              <a:path w="8261" h="2804">
                <a:moveTo>
                  <a:pt x="17785" y="12427"/>
                </a:moveTo>
                <a:cubicBezTo>
                  <a:pt x="17724" y="12558"/>
                  <a:pt x="17714" y="12659"/>
                  <a:pt x="17686" y="12799"/>
                </a:cubicBezTo>
                <a:cubicBezTo>
                  <a:pt x="17658" y="12942"/>
                  <a:pt x="17661" y="13076"/>
                  <a:pt x="17661" y="13221"/>
                </a:cubicBezTo>
                <a:cubicBezTo>
                  <a:pt x="17661" y="13320"/>
                  <a:pt x="17673" y="13429"/>
                  <a:pt x="17711" y="13519"/>
                </a:cubicBezTo>
                <a:cubicBezTo>
                  <a:pt x="17719" y="13535"/>
                  <a:pt x="17727" y="13552"/>
                  <a:pt x="17735" y="13568"/>
                </a:cubicBezTo>
              </a:path>
              <a:path w="8261" h="2804">
                <a:moveTo>
                  <a:pt x="17959" y="12874"/>
                </a:moveTo>
                <a:cubicBezTo>
                  <a:pt x="18067" y="12859"/>
                  <a:pt x="18145" y="12874"/>
                  <a:pt x="18256" y="12874"/>
                </a:cubicBezTo>
                <a:cubicBezTo>
                  <a:pt x="18298" y="12874"/>
                  <a:pt x="18306" y="12874"/>
                  <a:pt x="18331" y="12874"/>
                </a:cubicBezTo>
              </a:path>
              <a:path w="8261" h="2804">
                <a:moveTo>
                  <a:pt x="18083" y="13047"/>
                </a:moveTo>
                <a:cubicBezTo>
                  <a:pt x="18219" y="13066"/>
                  <a:pt x="18321" y="13072"/>
                  <a:pt x="18455" y="13047"/>
                </a:cubicBezTo>
              </a:path>
              <a:path w="8261" h="2804">
                <a:moveTo>
                  <a:pt x="18777" y="12601"/>
                </a:moveTo>
                <a:cubicBezTo>
                  <a:pt x="18852" y="12735"/>
                  <a:pt x="18906" y="12854"/>
                  <a:pt x="19000" y="12973"/>
                </a:cubicBezTo>
                <a:cubicBezTo>
                  <a:pt x="19112" y="13114"/>
                  <a:pt x="19184" y="13275"/>
                  <a:pt x="19323" y="13395"/>
                </a:cubicBezTo>
                <a:cubicBezTo>
                  <a:pt x="19385" y="13449"/>
                  <a:pt x="19457" y="13493"/>
                  <a:pt x="19521" y="13543"/>
                </a:cubicBezTo>
              </a:path>
              <a:path w="8261" h="2804">
                <a:moveTo>
                  <a:pt x="19273" y="12576"/>
                </a:moveTo>
                <a:cubicBezTo>
                  <a:pt x="19192" y="12635"/>
                  <a:pt x="19182" y="12701"/>
                  <a:pt x="19149" y="12799"/>
                </a:cubicBezTo>
                <a:cubicBezTo>
                  <a:pt x="19110" y="12917"/>
                  <a:pt x="19063" y="13029"/>
                  <a:pt x="19025" y="13146"/>
                </a:cubicBezTo>
                <a:cubicBezTo>
                  <a:pt x="18992" y="13249"/>
                  <a:pt x="18945" y="13363"/>
                  <a:pt x="18926" y="13469"/>
                </a:cubicBezTo>
                <a:cubicBezTo>
                  <a:pt x="18918" y="13513"/>
                  <a:pt x="18910" y="13550"/>
                  <a:pt x="18901" y="13593"/>
                </a:cubicBezTo>
              </a:path>
              <a:path w="8261" h="2804">
                <a:moveTo>
                  <a:pt x="19348" y="12229"/>
                </a:moveTo>
                <a:cubicBezTo>
                  <a:pt x="19417" y="12208"/>
                  <a:pt x="19534" y="12150"/>
                  <a:pt x="19596" y="12229"/>
                </a:cubicBezTo>
                <a:cubicBezTo>
                  <a:pt x="19631" y="12274"/>
                  <a:pt x="19667" y="12343"/>
                  <a:pt x="19645" y="12402"/>
                </a:cubicBezTo>
                <a:cubicBezTo>
                  <a:pt x="19628" y="12446"/>
                  <a:pt x="19581" y="12492"/>
                  <a:pt x="19546" y="12526"/>
                </a:cubicBezTo>
                <a:cubicBezTo>
                  <a:pt x="19481" y="12590"/>
                  <a:pt x="19452" y="12576"/>
                  <a:pt x="19496" y="12675"/>
                </a:cubicBezTo>
                <a:cubicBezTo>
                  <a:pt x="19524" y="12737"/>
                  <a:pt x="19606" y="12796"/>
                  <a:pt x="19670" y="12824"/>
                </a:cubicBezTo>
                <a:cubicBezTo>
                  <a:pt x="19739" y="12854"/>
                  <a:pt x="19796" y="12849"/>
                  <a:pt x="19869" y="12849"/>
                </a:cubicBezTo>
              </a:path>
              <a:path w="8261" h="2804">
                <a:moveTo>
                  <a:pt x="16346" y="12551"/>
                </a:moveTo>
                <a:cubicBezTo>
                  <a:pt x="16322" y="12678"/>
                  <a:pt x="16321" y="12793"/>
                  <a:pt x="16321" y="12923"/>
                </a:cubicBezTo>
                <a:cubicBezTo>
                  <a:pt x="16321" y="13148"/>
                  <a:pt x="16410" y="13593"/>
                  <a:pt x="16297" y="13791"/>
                </a:cubicBezTo>
                <a:cubicBezTo>
                  <a:pt x="16289" y="13799"/>
                  <a:pt x="16280" y="13808"/>
                  <a:pt x="16272" y="13816"/>
                </a:cubicBezTo>
                <a:cubicBezTo>
                  <a:pt x="16229" y="13731"/>
                  <a:pt x="16220" y="13660"/>
                  <a:pt x="16197" y="13568"/>
                </a:cubicBezTo>
                <a:cubicBezTo>
                  <a:pt x="16164" y="13432"/>
                  <a:pt x="16151" y="13285"/>
                  <a:pt x="16148" y="13146"/>
                </a:cubicBezTo>
                <a:cubicBezTo>
                  <a:pt x="16143" y="12932"/>
                  <a:pt x="16091" y="12600"/>
                  <a:pt x="16173" y="12402"/>
                </a:cubicBezTo>
                <a:cubicBezTo>
                  <a:pt x="16225" y="12276"/>
                  <a:pt x="16348" y="12264"/>
                  <a:pt x="16470" y="12254"/>
                </a:cubicBezTo>
                <a:cubicBezTo>
                  <a:pt x="16638" y="12240"/>
                  <a:pt x="16800" y="12269"/>
                  <a:pt x="16966" y="12278"/>
                </a:cubicBezTo>
                <a:cubicBezTo>
                  <a:pt x="17107" y="12278"/>
                  <a:pt x="17148" y="12278"/>
                  <a:pt x="17239" y="12278"/>
                </a:cubicBezTo>
              </a:path>
              <a:path w="8261" h="2804">
                <a:moveTo>
                  <a:pt x="18529" y="12601"/>
                </a:moveTo>
                <a:cubicBezTo>
                  <a:pt x="18537" y="12735"/>
                  <a:pt x="18550" y="12867"/>
                  <a:pt x="18579" y="12998"/>
                </a:cubicBezTo>
                <a:cubicBezTo>
                  <a:pt x="18609" y="13133"/>
                  <a:pt x="18635" y="13281"/>
                  <a:pt x="18653" y="13419"/>
                </a:cubicBezTo>
                <a:cubicBezTo>
                  <a:pt x="18660" y="13474"/>
                  <a:pt x="18653" y="13537"/>
                  <a:pt x="18653" y="13593"/>
                </a:cubicBezTo>
                <a:cubicBezTo>
                  <a:pt x="18608" y="13492"/>
                  <a:pt x="18587" y="13381"/>
                  <a:pt x="18579" y="13271"/>
                </a:cubicBezTo>
                <a:cubicBezTo>
                  <a:pt x="18568" y="13114"/>
                  <a:pt x="18558" y="12955"/>
                  <a:pt x="18554" y="12799"/>
                </a:cubicBezTo>
                <a:cubicBezTo>
                  <a:pt x="18550" y="12611"/>
                  <a:pt x="18545" y="12441"/>
                  <a:pt x="18554" y="12254"/>
                </a:cubicBezTo>
                <a:cubicBezTo>
                  <a:pt x="18559" y="12154"/>
                  <a:pt x="18572" y="12050"/>
                  <a:pt x="18653" y="11981"/>
                </a:cubicBezTo>
                <a:cubicBezTo>
                  <a:pt x="18758" y="11890"/>
                  <a:pt x="18870" y="11906"/>
                  <a:pt x="19000" y="11906"/>
                </a:cubicBezTo>
                <a:cubicBezTo>
                  <a:pt x="19206" y="11906"/>
                  <a:pt x="19371" y="11995"/>
                  <a:pt x="19571" y="12030"/>
                </a:cubicBezTo>
                <a:cubicBezTo>
                  <a:pt x="19596" y="12030"/>
                  <a:pt x="19620" y="12030"/>
                  <a:pt x="19645" y="12030"/>
                </a:cubicBezTo>
              </a:path>
              <a:path w="8261" h="2804">
                <a:moveTo>
                  <a:pt x="15478" y="12278"/>
                </a:moveTo>
                <a:cubicBezTo>
                  <a:pt x="15478" y="12415"/>
                  <a:pt x="15488" y="12543"/>
                  <a:pt x="15503" y="12675"/>
                </a:cubicBezTo>
                <a:cubicBezTo>
                  <a:pt x="15511" y="12749"/>
                  <a:pt x="15518" y="12758"/>
                  <a:pt x="15528" y="12824"/>
                </a:cubicBezTo>
              </a:path>
              <a:path w="8261" h="2804">
                <a:moveTo>
                  <a:pt x="15230" y="12675"/>
                </a:moveTo>
                <a:cubicBezTo>
                  <a:pt x="15359" y="12707"/>
                  <a:pt x="15495" y="12716"/>
                  <a:pt x="15627" y="12725"/>
                </a:cubicBezTo>
              </a:path>
              <a:path w="8261" h="2804">
                <a:moveTo>
                  <a:pt x="15280" y="13146"/>
                </a:moveTo>
                <a:cubicBezTo>
                  <a:pt x="15448" y="13203"/>
                  <a:pt x="15549" y="13221"/>
                  <a:pt x="15726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8" name="Ink 37"/>
          <p:cNvSpPr/>
          <p:nvPr/>
        </p:nvSpPr>
        <p:spPr>
          <a:xfrm>
            <a:off x="2214720" y="4894200"/>
            <a:ext cx="349200" cy="892080"/>
          </a:xfrm>
          <a:custGeom>
            <a:avLst/>
            <a:gdLst/>
            <a:ahLst/>
            <a:rect l="l" t="t" r="r" b="b"/>
            <a:pathLst>
              <a:path w="968" h="2481">
                <a:moveTo>
                  <a:pt x="6176" y="13717"/>
                </a:moveTo>
                <a:cubicBezTo>
                  <a:pt x="6114" y="13781"/>
                  <a:pt x="6238" y="13659"/>
                  <a:pt x="6251" y="13643"/>
                </a:cubicBezTo>
                <a:cubicBezTo>
                  <a:pt x="6287" y="13601"/>
                  <a:pt x="6372" y="13596"/>
                  <a:pt x="6424" y="13593"/>
                </a:cubicBezTo>
                <a:cubicBezTo>
                  <a:pt x="6483" y="13590"/>
                  <a:pt x="6574" y="13643"/>
                  <a:pt x="6598" y="13692"/>
                </a:cubicBezTo>
                <a:cubicBezTo>
                  <a:pt x="6635" y="13769"/>
                  <a:pt x="6659" y="13955"/>
                  <a:pt x="6648" y="14039"/>
                </a:cubicBezTo>
                <a:cubicBezTo>
                  <a:pt x="6635" y="14132"/>
                  <a:pt x="6614" y="14226"/>
                  <a:pt x="6573" y="14312"/>
                </a:cubicBezTo>
                <a:cubicBezTo>
                  <a:pt x="6536" y="14389"/>
                  <a:pt x="6527" y="14456"/>
                  <a:pt x="6424" y="14436"/>
                </a:cubicBezTo>
                <a:cubicBezTo>
                  <a:pt x="6362" y="14424"/>
                  <a:pt x="6326" y="14361"/>
                  <a:pt x="6300" y="14312"/>
                </a:cubicBezTo>
                <a:cubicBezTo>
                  <a:pt x="6265" y="14245"/>
                  <a:pt x="6276" y="14230"/>
                  <a:pt x="6300" y="14163"/>
                </a:cubicBezTo>
                <a:cubicBezTo>
                  <a:pt x="6394" y="14201"/>
                  <a:pt x="6418" y="14227"/>
                  <a:pt x="6474" y="14312"/>
                </a:cubicBezTo>
                <a:cubicBezTo>
                  <a:pt x="6538" y="14411"/>
                  <a:pt x="6593" y="14508"/>
                  <a:pt x="6648" y="14610"/>
                </a:cubicBezTo>
                <a:cubicBezTo>
                  <a:pt x="6674" y="14658"/>
                  <a:pt x="6651" y="14679"/>
                  <a:pt x="6697" y="14709"/>
                </a:cubicBezTo>
              </a:path>
              <a:path w="968" h="2481">
                <a:moveTo>
                  <a:pt x="6772" y="15131"/>
                </a:moveTo>
                <a:cubicBezTo>
                  <a:pt x="6741" y="15192"/>
                  <a:pt x="6703" y="15244"/>
                  <a:pt x="6672" y="15304"/>
                </a:cubicBezTo>
                <a:cubicBezTo>
                  <a:pt x="6641" y="15364"/>
                  <a:pt x="6607" y="15438"/>
                  <a:pt x="6598" y="15503"/>
                </a:cubicBezTo>
                <a:cubicBezTo>
                  <a:pt x="6586" y="15596"/>
                  <a:pt x="6572" y="15682"/>
                  <a:pt x="6598" y="15776"/>
                </a:cubicBezTo>
                <a:cubicBezTo>
                  <a:pt x="6621" y="15860"/>
                  <a:pt x="6659" y="16017"/>
                  <a:pt x="6747" y="16049"/>
                </a:cubicBezTo>
                <a:cubicBezTo>
                  <a:pt x="6853" y="16088"/>
                  <a:pt x="6931" y="16065"/>
                  <a:pt x="6995" y="15974"/>
                </a:cubicBezTo>
                <a:cubicBezTo>
                  <a:pt x="7048" y="15899"/>
                  <a:pt x="7107" y="15794"/>
                  <a:pt x="7119" y="15701"/>
                </a:cubicBezTo>
                <a:cubicBezTo>
                  <a:pt x="7136" y="15562"/>
                  <a:pt x="7132" y="15387"/>
                  <a:pt x="7094" y="15255"/>
                </a:cubicBezTo>
                <a:cubicBezTo>
                  <a:pt x="7071" y="15177"/>
                  <a:pt x="7051" y="15092"/>
                  <a:pt x="6995" y="15032"/>
                </a:cubicBezTo>
                <a:cubicBezTo>
                  <a:pt x="6953" y="14990"/>
                  <a:pt x="6945" y="14983"/>
                  <a:pt x="6921" y="14957"/>
                </a:cubicBezTo>
                <a:cubicBezTo>
                  <a:pt x="6866" y="15001"/>
                  <a:pt x="6830" y="15016"/>
                  <a:pt x="6796" y="15081"/>
                </a:cubicBezTo>
                <a:cubicBezTo>
                  <a:pt x="6771" y="15130"/>
                  <a:pt x="6773" y="15162"/>
                  <a:pt x="6747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49" name="Ink 38"/>
          <p:cNvSpPr/>
          <p:nvPr/>
        </p:nvSpPr>
        <p:spPr>
          <a:xfrm>
            <a:off x="5796000" y="2840040"/>
            <a:ext cx="320760" cy="27612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16545" y="7962"/>
                </a:moveTo>
                <a:cubicBezTo>
                  <a:pt x="16524" y="8060"/>
                  <a:pt x="16499" y="8160"/>
                  <a:pt x="16495" y="8260"/>
                </a:cubicBezTo>
                <a:cubicBezTo>
                  <a:pt x="16492" y="8333"/>
                  <a:pt x="16514" y="8377"/>
                  <a:pt x="16495" y="8434"/>
                </a:cubicBezTo>
              </a:path>
              <a:path w="894" h="770">
                <a:moveTo>
                  <a:pt x="16173" y="8434"/>
                </a:moveTo>
                <a:cubicBezTo>
                  <a:pt x="16327" y="8445"/>
                  <a:pt x="16425" y="8483"/>
                  <a:pt x="16570" y="8483"/>
                </a:cubicBezTo>
              </a:path>
              <a:path w="894" h="770">
                <a:moveTo>
                  <a:pt x="16148" y="8657"/>
                </a:moveTo>
                <a:cubicBezTo>
                  <a:pt x="16014" y="8657"/>
                  <a:pt x="16291" y="8633"/>
                  <a:pt x="16321" y="8632"/>
                </a:cubicBezTo>
                <a:cubicBezTo>
                  <a:pt x="16440" y="8632"/>
                  <a:pt x="16491" y="8626"/>
                  <a:pt x="16570" y="8582"/>
                </a:cubicBezTo>
              </a:path>
              <a:path w="894" h="770">
                <a:moveTo>
                  <a:pt x="16991" y="7888"/>
                </a:moveTo>
                <a:cubicBezTo>
                  <a:pt x="16991" y="7984"/>
                  <a:pt x="16969" y="8065"/>
                  <a:pt x="16966" y="8161"/>
                </a:cubicBezTo>
                <a:cubicBezTo>
                  <a:pt x="16963" y="8257"/>
                  <a:pt x="16942" y="8338"/>
                  <a:pt x="16942" y="8434"/>
                </a:cubicBezTo>
                <a:cubicBezTo>
                  <a:pt x="16942" y="8489"/>
                  <a:pt x="16964" y="8538"/>
                  <a:pt x="16991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0" name="Ink 39"/>
          <p:cNvSpPr/>
          <p:nvPr/>
        </p:nvSpPr>
        <p:spPr>
          <a:xfrm>
            <a:off x="1224000" y="2741760"/>
            <a:ext cx="1982880" cy="71280"/>
          </a:xfrm>
          <a:custGeom>
            <a:avLst/>
            <a:gdLst/>
            <a:ahLst/>
            <a:rect l="l" t="t" r="r" b="b"/>
            <a:pathLst>
              <a:path w="5508" h="199">
                <a:moveTo>
                  <a:pt x="3398" y="7615"/>
                </a:moveTo>
                <a:cubicBezTo>
                  <a:pt x="3481" y="7651"/>
                  <a:pt x="3497" y="7661"/>
                  <a:pt x="3597" y="7665"/>
                </a:cubicBezTo>
                <a:cubicBezTo>
                  <a:pt x="4621" y="7708"/>
                  <a:pt x="5650" y="7620"/>
                  <a:pt x="6672" y="7689"/>
                </a:cubicBezTo>
                <a:cubicBezTo>
                  <a:pt x="6953" y="7708"/>
                  <a:pt x="7235" y="7748"/>
                  <a:pt x="7516" y="7764"/>
                </a:cubicBezTo>
                <a:cubicBezTo>
                  <a:pt x="7764" y="7778"/>
                  <a:pt x="8012" y="7801"/>
                  <a:pt x="8260" y="7813"/>
                </a:cubicBezTo>
                <a:cubicBezTo>
                  <a:pt x="8431" y="7822"/>
                  <a:pt x="8644" y="7839"/>
                  <a:pt x="8806" y="7789"/>
                </a:cubicBezTo>
                <a:cubicBezTo>
                  <a:pt x="8889" y="7763"/>
                  <a:pt x="8871" y="7726"/>
                  <a:pt x="8905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1" name="Ink 40"/>
          <p:cNvSpPr/>
          <p:nvPr/>
        </p:nvSpPr>
        <p:spPr>
          <a:xfrm>
            <a:off x="1133640" y="4268880"/>
            <a:ext cx="3876480" cy="214200"/>
          </a:xfrm>
          <a:custGeom>
            <a:avLst/>
            <a:gdLst/>
            <a:ahLst/>
            <a:rect l="l" t="t" r="r" b="b"/>
            <a:pathLst>
              <a:path w="10766" h="596">
                <a:moveTo>
                  <a:pt x="3150" y="11857"/>
                </a:moveTo>
                <a:cubicBezTo>
                  <a:pt x="3253" y="11860"/>
                  <a:pt x="3350" y="11877"/>
                  <a:pt x="3448" y="11881"/>
                </a:cubicBezTo>
                <a:cubicBezTo>
                  <a:pt x="3641" y="11889"/>
                  <a:pt x="3827" y="11888"/>
                  <a:pt x="4018" y="11906"/>
                </a:cubicBezTo>
                <a:cubicBezTo>
                  <a:pt x="4134" y="11917"/>
                  <a:pt x="4250" y="11926"/>
                  <a:pt x="4366" y="11931"/>
                </a:cubicBezTo>
                <a:cubicBezTo>
                  <a:pt x="4516" y="11938"/>
                  <a:pt x="4664" y="11951"/>
                  <a:pt x="4812" y="11956"/>
                </a:cubicBezTo>
                <a:cubicBezTo>
                  <a:pt x="5052" y="11964"/>
                  <a:pt x="5294" y="11971"/>
                  <a:pt x="5531" y="11981"/>
                </a:cubicBezTo>
                <a:cubicBezTo>
                  <a:pt x="5880" y="11995"/>
                  <a:pt x="6226" y="11982"/>
                  <a:pt x="6573" y="12005"/>
                </a:cubicBezTo>
                <a:cubicBezTo>
                  <a:pt x="6787" y="12019"/>
                  <a:pt x="7004" y="12036"/>
                  <a:pt x="7218" y="12055"/>
                </a:cubicBezTo>
                <a:cubicBezTo>
                  <a:pt x="7390" y="12070"/>
                  <a:pt x="7567" y="12086"/>
                  <a:pt x="7739" y="12105"/>
                </a:cubicBezTo>
                <a:cubicBezTo>
                  <a:pt x="8045" y="12140"/>
                  <a:pt x="8353" y="12188"/>
                  <a:pt x="8657" y="12229"/>
                </a:cubicBezTo>
                <a:cubicBezTo>
                  <a:pt x="8865" y="12257"/>
                  <a:pt x="9070" y="12275"/>
                  <a:pt x="9277" y="12303"/>
                </a:cubicBezTo>
                <a:cubicBezTo>
                  <a:pt x="9501" y="12334"/>
                  <a:pt x="9723" y="12354"/>
                  <a:pt x="9947" y="12378"/>
                </a:cubicBezTo>
                <a:cubicBezTo>
                  <a:pt x="10163" y="12401"/>
                  <a:pt x="10377" y="12408"/>
                  <a:pt x="10592" y="12427"/>
                </a:cubicBezTo>
                <a:cubicBezTo>
                  <a:pt x="10870" y="12452"/>
                  <a:pt x="11154" y="12467"/>
                  <a:pt x="11435" y="12452"/>
                </a:cubicBezTo>
                <a:cubicBezTo>
                  <a:pt x="11704" y="12437"/>
                  <a:pt x="11963" y="12418"/>
                  <a:pt x="12229" y="12378"/>
                </a:cubicBezTo>
                <a:cubicBezTo>
                  <a:pt x="12421" y="12349"/>
                  <a:pt x="12607" y="12323"/>
                  <a:pt x="12799" y="12303"/>
                </a:cubicBezTo>
                <a:cubicBezTo>
                  <a:pt x="12956" y="12287"/>
                  <a:pt x="13114" y="12272"/>
                  <a:pt x="13271" y="12254"/>
                </a:cubicBezTo>
                <a:cubicBezTo>
                  <a:pt x="13395" y="12240"/>
                  <a:pt x="13517" y="12231"/>
                  <a:pt x="13643" y="12229"/>
                </a:cubicBezTo>
                <a:cubicBezTo>
                  <a:pt x="13738" y="12228"/>
                  <a:pt x="13828" y="12211"/>
                  <a:pt x="13915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53" name="Ink 3"/>
          <p:cNvSpPr/>
          <p:nvPr/>
        </p:nvSpPr>
        <p:spPr>
          <a:xfrm>
            <a:off x="322200" y="633240"/>
            <a:ext cx="312840" cy="509760"/>
          </a:xfrm>
          <a:custGeom>
            <a:avLst/>
            <a:gdLst/>
            <a:ahLst/>
            <a:rect l="l" t="t" r="r" b="b"/>
            <a:pathLst>
              <a:path w="869" h="1415">
                <a:moveTo>
                  <a:pt x="918" y="2158"/>
                </a:moveTo>
                <a:cubicBezTo>
                  <a:pt x="963" y="2226"/>
                  <a:pt x="967" y="2275"/>
                  <a:pt x="967" y="2356"/>
                </a:cubicBezTo>
                <a:cubicBezTo>
                  <a:pt x="967" y="2492"/>
                  <a:pt x="959" y="2624"/>
                  <a:pt x="943" y="2753"/>
                </a:cubicBezTo>
                <a:cubicBezTo>
                  <a:pt x="934" y="2831"/>
                  <a:pt x="906" y="2876"/>
                  <a:pt x="893" y="2952"/>
                </a:cubicBezTo>
                <a:cubicBezTo>
                  <a:pt x="893" y="3009"/>
                  <a:pt x="893" y="3017"/>
                  <a:pt x="893" y="2927"/>
                </a:cubicBezTo>
              </a:path>
              <a:path w="869" h="1415">
                <a:moveTo>
                  <a:pt x="1439" y="2183"/>
                </a:moveTo>
                <a:cubicBezTo>
                  <a:pt x="1452" y="2148"/>
                  <a:pt x="1450" y="2076"/>
                  <a:pt x="1389" y="2059"/>
                </a:cubicBezTo>
                <a:cubicBezTo>
                  <a:pt x="1322" y="2040"/>
                  <a:pt x="1290" y="2111"/>
                  <a:pt x="1265" y="2158"/>
                </a:cubicBezTo>
                <a:cubicBezTo>
                  <a:pt x="1232" y="2220"/>
                  <a:pt x="1202" y="2289"/>
                  <a:pt x="1191" y="2356"/>
                </a:cubicBezTo>
                <a:cubicBezTo>
                  <a:pt x="1186" y="2386"/>
                  <a:pt x="1216" y="2509"/>
                  <a:pt x="1265" y="2505"/>
                </a:cubicBezTo>
                <a:cubicBezTo>
                  <a:pt x="1349" y="2499"/>
                  <a:pt x="1399" y="2453"/>
                  <a:pt x="1439" y="2381"/>
                </a:cubicBezTo>
                <a:cubicBezTo>
                  <a:pt x="1470" y="2325"/>
                  <a:pt x="1484" y="2281"/>
                  <a:pt x="1513" y="2232"/>
                </a:cubicBezTo>
                <a:cubicBezTo>
                  <a:pt x="1486" y="2314"/>
                  <a:pt x="1466" y="2393"/>
                  <a:pt x="1463" y="2480"/>
                </a:cubicBezTo>
                <a:cubicBezTo>
                  <a:pt x="1458" y="2614"/>
                  <a:pt x="1435" y="3000"/>
                  <a:pt x="1488" y="2877"/>
                </a:cubicBezTo>
                <a:cubicBezTo>
                  <a:pt x="1488" y="2811"/>
                  <a:pt x="1488" y="2794"/>
                  <a:pt x="1488" y="2753"/>
                </a:cubicBezTo>
              </a:path>
              <a:path w="869" h="1415">
                <a:moveTo>
                  <a:pt x="1315" y="1761"/>
                </a:moveTo>
                <a:cubicBezTo>
                  <a:pt x="1408" y="1799"/>
                  <a:pt x="1432" y="1825"/>
                  <a:pt x="1488" y="1910"/>
                </a:cubicBezTo>
                <a:cubicBezTo>
                  <a:pt x="1563" y="2024"/>
                  <a:pt x="1657" y="2104"/>
                  <a:pt x="1712" y="2232"/>
                </a:cubicBezTo>
                <a:cubicBezTo>
                  <a:pt x="1756" y="2335"/>
                  <a:pt x="1780" y="2469"/>
                  <a:pt x="1761" y="2580"/>
                </a:cubicBezTo>
                <a:cubicBezTo>
                  <a:pt x="1741" y="2699"/>
                  <a:pt x="1653" y="2805"/>
                  <a:pt x="1588" y="2902"/>
                </a:cubicBezTo>
                <a:cubicBezTo>
                  <a:pt x="1524" y="2998"/>
                  <a:pt x="1452" y="3058"/>
                  <a:pt x="1364" y="3125"/>
                </a:cubicBezTo>
                <a:cubicBezTo>
                  <a:pt x="1314" y="3163"/>
                  <a:pt x="1307" y="3231"/>
                  <a:pt x="1339" y="31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4" name="Ink 4"/>
          <p:cNvSpPr/>
          <p:nvPr/>
        </p:nvSpPr>
        <p:spPr>
          <a:xfrm>
            <a:off x="795240" y="509760"/>
            <a:ext cx="1633680" cy="509400"/>
          </a:xfrm>
          <a:custGeom>
            <a:avLst/>
            <a:gdLst/>
            <a:ahLst/>
            <a:rect l="l" t="t" r="r" b="b"/>
            <a:pathLst>
              <a:path w="4540" h="1415">
                <a:moveTo>
                  <a:pt x="2729" y="1885"/>
                </a:moveTo>
                <a:cubicBezTo>
                  <a:pt x="2764" y="1867"/>
                  <a:pt x="2706" y="1830"/>
                  <a:pt x="2679" y="1786"/>
                </a:cubicBezTo>
                <a:cubicBezTo>
                  <a:pt x="2643" y="1726"/>
                  <a:pt x="2583" y="1683"/>
                  <a:pt x="2505" y="1712"/>
                </a:cubicBezTo>
                <a:cubicBezTo>
                  <a:pt x="2459" y="1729"/>
                  <a:pt x="2433" y="1843"/>
                  <a:pt x="2431" y="1885"/>
                </a:cubicBezTo>
                <a:cubicBezTo>
                  <a:pt x="2427" y="1970"/>
                  <a:pt x="2422" y="2073"/>
                  <a:pt x="2406" y="2158"/>
                </a:cubicBezTo>
                <a:cubicBezTo>
                  <a:pt x="2380" y="2295"/>
                  <a:pt x="2349" y="2440"/>
                  <a:pt x="2332" y="2580"/>
                </a:cubicBezTo>
                <a:cubicBezTo>
                  <a:pt x="2325" y="2640"/>
                  <a:pt x="2329" y="2746"/>
                  <a:pt x="2307" y="2803"/>
                </a:cubicBezTo>
                <a:cubicBezTo>
                  <a:pt x="2288" y="2853"/>
                  <a:pt x="2282" y="2757"/>
                  <a:pt x="2282" y="2704"/>
                </a:cubicBezTo>
              </a:path>
              <a:path w="4540" h="1415">
                <a:moveTo>
                  <a:pt x="2208" y="2480"/>
                </a:moveTo>
                <a:cubicBezTo>
                  <a:pt x="2267" y="2433"/>
                  <a:pt x="2315" y="2428"/>
                  <a:pt x="2381" y="2406"/>
                </a:cubicBezTo>
                <a:cubicBezTo>
                  <a:pt x="2463" y="2379"/>
                  <a:pt x="2549" y="2341"/>
                  <a:pt x="2629" y="2307"/>
                </a:cubicBezTo>
                <a:cubicBezTo>
                  <a:pt x="2646" y="2299"/>
                  <a:pt x="2662" y="2290"/>
                  <a:pt x="2679" y="2282"/>
                </a:cubicBezTo>
              </a:path>
              <a:path w="4540" h="1415">
                <a:moveTo>
                  <a:pt x="2952" y="2034"/>
                </a:moveTo>
                <a:cubicBezTo>
                  <a:pt x="2913" y="2112"/>
                  <a:pt x="2907" y="2176"/>
                  <a:pt x="2877" y="2257"/>
                </a:cubicBezTo>
                <a:cubicBezTo>
                  <a:pt x="2851" y="2328"/>
                  <a:pt x="2813" y="2407"/>
                  <a:pt x="2803" y="2480"/>
                </a:cubicBezTo>
                <a:cubicBezTo>
                  <a:pt x="2792" y="2562"/>
                  <a:pt x="2802" y="2640"/>
                  <a:pt x="2853" y="2704"/>
                </a:cubicBezTo>
                <a:cubicBezTo>
                  <a:pt x="2900" y="2763"/>
                  <a:pt x="2939" y="2717"/>
                  <a:pt x="2977" y="2679"/>
                </a:cubicBezTo>
              </a:path>
              <a:path w="4540" h="1415">
                <a:moveTo>
                  <a:pt x="3051" y="2307"/>
                </a:moveTo>
                <a:cubicBezTo>
                  <a:pt x="3079" y="2380"/>
                  <a:pt x="3097" y="2454"/>
                  <a:pt x="3125" y="2530"/>
                </a:cubicBezTo>
                <a:cubicBezTo>
                  <a:pt x="3149" y="2594"/>
                  <a:pt x="3198" y="2661"/>
                  <a:pt x="3274" y="2679"/>
                </a:cubicBezTo>
                <a:cubicBezTo>
                  <a:pt x="3329" y="2692"/>
                  <a:pt x="3340" y="2663"/>
                  <a:pt x="3373" y="2629"/>
                </a:cubicBezTo>
              </a:path>
              <a:path w="4540" h="1415">
                <a:moveTo>
                  <a:pt x="3249" y="2257"/>
                </a:moveTo>
                <a:cubicBezTo>
                  <a:pt x="3170" y="2367"/>
                  <a:pt x="3097" y="2466"/>
                  <a:pt x="3026" y="2580"/>
                </a:cubicBezTo>
                <a:cubicBezTo>
                  <a:pt x="3002" y="2618"/>
                  <a:pt x="2938" y="2689"/>
                  <a:pt x="2927" y="2729"/>
                </a:cubicBezTo>
                <a:cubicBezTo>
                  <a:pt x="2900" y="2829"/>
                  <a:pt x="2947" y="2738"/>
                  <a:pt x="2952" y="2704"/>
                </a:cubicBezTo>
              </a:path>
              <a:path w="4540" h="1415">
                <a:moveTo>
                  <a:pt x="3324" y="1811"/>
                </a:moveTo>
                <a:cubicBezTo>
                  <a:pt x="3407" y="1894"/>
                  <a:pt x="3398" y="1924"/>
                  <a:pt x="3423" y="2034"/>
                </a:cubicBezTo>
                <a:cubicBezTo>
                  <a:pt x="3449" y="2151"/>
                  <a:pt x="3448" y="2259"/>
                  <a:pt x="3448" y="2381"/>
                </a:cubicBezTo>
                <a:cubicBezTo>
                  <a:pt x="3448" y="2479"/>
                  <a:pt x="3441" y="2539"/>
                  <a:pt x="3398" y="2629"/>
                </a:cubicBezTo>
                <a:cubicBezTo>
                  <a:pt x="3371" y="2685"/>
                  <a:pt x="3325" y="2729"/>
                  <a:pt x="3324" y="2729"/>
                </a:cubicBezTo>
              </a:path>
              <a:path w="4540" h="1415">
                <a:moveTo>
                  <a:pt x="3770" y="2282"/>
                </a:moveTo>
                <a:cubicBezTo>
                  <a:pt x="3845" y="2282"/>
                  <a:pt x="3919" y="2282"/>
                  <a:pt x="3994" y="2282"/>
                </a:cubicBezTo>
              </a:path>
              <a:path w="4540" h="1415">
                <a:moveTo>
                  <a:pt x="3696" y="2456"/>
                </a:moveTo>
                <a:cubicBezTo>
                  <a:pt x="3770" y="2456"/>
                  <a:pt x="3936" y="2480"/>
                  <a:pt x="3969" y="2431"/>
                </a:cubicBezTo>
              </a:path>
              <a:path w="4540" h="1415">
                <a:moveTo>
                  <a:pt x="4316" y="1984"/>
                </a:moveTo>
                <a:cubicBezTo>
                  <a:pt x="4410" y="2079"/>
                  <a:pt x="4401" y="2092"/>
                  <a:pt x="4440" y="2208"/>
                </a:cubicBezTo>
                <a:cubicBezTo>
                  <a:pt x="4469" y="2293"/>
                  <a:pt x="4474" y="2373"/>
                  <a:pt x="4514" y="2456"/>
                </a:cubicBezTo>
                <a:cubicBezTo>
                  <a:pt x="4535" y="2500"/>
                  <a:pt x="4597" y="2575"/>
                  <a:pt x="4638" y="2604"/>
                </a:cubicBezTo>
                <a:cubicBezTo>
                  <a:pt x="4710" y="2655"/>
                  <a:pt x="4731" y="2660"/>
                  <a:pt x="4812" y="2629"/>
                </a:cubicBezTo>
              </a:path>
              <a:path w="4540" h="1415">
                <a:moveTo>
                  <a:pt x="4762" y="1960"/>
                </a:moveTo>
                <a:cubicBezTo>
                  <a:pt x="4706" y="2016"/>
                  <a:pt x="4696" y="2061"/>
                  <a:pt x="4663" y="2133"/>
                </a:cubicBezTo>
                <a:cubicBezTo>
                  <a:pt x="4612" y="2247"/>
                  <a:pt x="4543" y="2345"/>
                  <a:pt x="4490" y="2456"/>
                </a:cubicBezTo>
                <a:cubicBezTo>
                  <a:pt x="4449" y="2542"/>
                  <a:pt x="4415" y="2625"/>
                  <a:pt x="4366" y="2704"/>
                </a:cubicBezTo>
                <a:cubicBezTo>
                  <a:pt x="4336" y="2734"/>
                  <a:pt x="4331" y="2736"/>
                  <a:pt x="4366" y="2679"/>
                </a:cubicBezTo>
              </a:path>
              <a:path w="4540" h="1415">
                <a:moveTo>
                  <a:pt x="4936" y="1563"/>
                </a:moveTo>
                <a:cubicBezTo>
                  <a:pt x="4928" y="1626"/>
                  <a:pt x="4917" y="1685"/>
                  <a:pt x="4887" y="1736"/>
                </a:cubicBezTo>
                <a:cubicBezTo>
                  <a:pt x="4933" y="1764"/>
                  <a:pt x="5026" y="1782"/>
                  <a:pt x="5085" y="1761"/>
                </a:cubicBezTo>
                <a:cubicBezTo>
                  <a:pt x="5110" y="1736"/>
                  <a:pt x="5118" y="1728"/>
                  <a:pt x="5135" y="1712"/>
                </a:cubicBezTo>
              </a:path>
              <a:path w="4540" h="1415">
                <a:moveTo>
                  <a:pt x="5085" y="1414"/>
                </a:moveTo>
                <a:cubicBezTo>
                  <a:pt x="5052" y="1469"/>
                  <a:pt x="5060" y="1520"/>
                  <a:pt x="5060" y="1588"/>
                </a:cubicBezTo>
                <a:cubicBezTo>
                  <a:pt x="5060" y="1673"/>
                  <a:pt x="5017" y="1748"/>
                  <a:pt x="5035" y="1836"/>
                </a:cubicBezTo>
                <a:cubicBezTo>
                  <a:pt x="5057" y="1901"/>
                  <a:pt x="5065" y="1916"/>
                  <a:pt x="5060" y="1960"/>
                </a:cubicBezTo>
              </a:path>
              <a:path w="4540" h="1415">
                <a:moveTo>
                  <a:pt x="5333" y="2108"/>
                </a:moveTo>
                <a:cubicBezTo>
                  <a:pt x="5451" y="2108"/>
                  <a:pt x="5570" y="2120"/>
                  <a:pt x="5680" y="2084"/>
                </a:cubicBezTo>
              </a:path>
              <a:path w="4540" h="1415">
                <a:moveTo>
                  <a:pt x="6325" y="1811"/>
                </a:moveTo>
                <a:cubicBezTo>
                  <a:pt x="6238" y="1724"/>
                  <a:pt x="6202" y="1678"/>
                  <a:pt x="6077" y="1736"/>
                </a:cubicBezTo>
                <a:cubicBezTo>
                  <a:pt x="6053" y="1747"/>
                  <a:pt x="5960" y="1804"/>
                  <a:pt x="5953" y="1836"/>
                </a:cubicBezTo>
                <a:cubicBezTo>
                  <a:pt x="5937" y="1910"/>
                  <a:pt x="6007" y="2004"/>
                  <a:pt x="6052" y="2059"/>
                </a:cubicBezTo>
                <a:cubicBezTo>
                  <a:pt x="6114" y="2135"/>
                  <a:pt x="6159" y="2194"/>
                  <a:pt x="6201" y="2282"/>
                </a:cubicBezTo>
                <a:cubicBezTo>
                  <a:pt x="6232" y="2348"/>
                  <a:pt x="6278" y="2393"/>
                  <a:pt x="6226" y="2456"/>
                </a:cubicBezTo>
                <a:cubicBezTo>
                  <a:pt x="6187" y="2504"/>
                  <a:pt x="6162" y="2526"/>
                  <a:pt x="6102" y="2530"/>
                </a:cubicBezTo>
                <a:cubicBezTo>
                  <a:pt x="6017" y="2535"/>
                  <a:pt x="5938" y="2513"/>
                  <a:pt x="5928" y="2431"/>
                </a:cubicBezTo>
                <a:cubicBezTo>
                  <a:pt x="5918" y="2344"/>
                  <a:pt x="5982" y="2294"/>
                  <a:pt x="6028" y="2232"/>
                </a:cubicBezTo>
                <a:cubicBezTo>
                  <a:pt x="6084" y="2156"/>
                  <a:pt x="6150" y="2086"/>
                  <a:pt x="6201" y="2009"/>
                </a:cubicBezTo>
                <a:cubicBezTo>
                  <a:pt x="6237" y="1954"/>
                  <a:pt x="6268" y="1893"/>
                  <a:pt x="6300" y="1836"/>
                </a:cubicBezTo>
              </a:path>
              <a:path w="4540" h="1415">
                <a:moveTo>
                  <a:pt x="6697" y="1712"/>
                </a:moveTo>
                <a:cubicBezTo>
                  <a:pt x="6675" y="1819"/>
                  <a:pt x="6671" y="1930"/>
                  <a:pt x="6648" y="2034"/>
                </a:cubicBezTo>
                <a:cubicBezTo>
                  <a:pt x="6627" y="2129"/>
                  <a:pt x="6643" y="2235"/>
                  <a:pt x="6672" y="2332"/>
                </a:cubicBezTo>
                <a:cubicBezTo>
                  <a:pt x="6694" y="2406"/>
                  <a:pt x="6737" y="2452"/>
                  <a:pt x="6747" y="25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5" name="Ink 5"/>
          <p:cNvSpPr/>
          <p:nvPr/>
        </p:nvSpPr>
        <p:spPr>
          <a:xfrm>
            <a:off x="642960" y="1125360"/>
            <a:ext cx="1098360" cy="428760"/>
          </a:xfrm>
          <a:custGeom>
            <a:avLst/>
            <a:gdLst/>
            <a:ahLst/>
            <a:rect l="l" t="t" r="r" b="b"/>
            <a:pathLst>
              <a:path w="3052" h="1192">
                <a:moveTo>
                  <a:pt x="2034" y="3423"/>
                </a:moveTo>
                <a:cubicBezTo>
                  <a:pt x="2067" y="3512"/>
                  <a:pt x="2048" y="3535"/>
                  <a:pt x="2034" y="3621"/>
                </a:cubicBezTo>
                <a:cubicBezTo>
                  <a:pt x="2023" y="3687"/>
                  <a:pt x="2059" y="3752"/>
                  <a:pt x="2059" y="3820"/>
                </a:cubicBezTo>
              </a:path>
              <a:path w="3052" h="1192">
                <a:moveTo>
                  <a:pt x="1836" y="3696"/>
                </a:moveTo>
                <a:cubicBezTo>
                  <a:pt x="1919" y="3696"/>
                  <a:pt x="2146" y="3665"/>
                  <a:pt x="2183" y="3721"/>
                </a:cubicBezTo>
              </a:path>
              <a:path w="3052" h="1192">
                <a:moveTo>
                  <a:pt x="1786" y="4068"/>
                </a:moveTo>
                <a:cubicBezTo>
                  <a:pt x="1856" y="4094"/>
                  <a:pt x="1908" y="4093"/>
                  <a:pt x="1984" y="4093"/>
                </a:cubicBezTo>
                <a:cubicBezTo>
                  <a:pt x="2061" y="4093"/>
                  <a:pt x="2120" y="4087"/>
                  <a:pt x="2183" y="4068"/>
                </a:cubicBezTo>
                <a:cubicBezTo>
                  <a:pt x="2191" y="4068"/>
                  <a:pt x="2200" y="4068"/>
                  <a:pt x="2208" y="4068"/>
                </a:cubicBezTo>
              </a:path>
              <a:path w="3052" h="1192">
                <a:moveTo>
                  <a:pt x="2580" y="3249"/>
                </a:moveTo>
                <a:cubicBezTo>
                  <a:pt x="2580" y="3522"/>
                  <a:pt x="2580" y="3795"/>
                  <a:pt x="2580" y="4068"/>
                </a:cubicBezTo>
              </a:path>
              <a:path w="3052" h="1192">
                <a:moveTo>
                  <a:pt x="2877" y="3994"/>
                </a:moveTo>
                <a:cubicBezTo>
                  <a:pt x="2877" y="4001"/>
                  <a:pt x="2877" y="4334"/>
                  <a:pt x="2877" y="4291"/>
                </a:cubicBezTo>
              </a:path>
              <a:path w="3052" h="1192">
                <a:moveTo>
                  <a:pt x="3423" y="3125"/>
                </a:moveTo>
                <a:cubicBezTo>
                  <a:pt x="3423" y="3250"/>
                  <a:pt x="3463" y="3489"/>
                  <a:pt x="3398" y="3597"/>
                </a:cubicBezTo>
              </a:path>
              <a:path w="3052" h="1192">
                <a:moveTo>
                  <a:pt x="3200" y="3473"/>
                </a:moveTo>
                <a:cubicBezTo>
                  <a:pt x="3316" y="3473"/>
                  <a:pt x="3431" y="3473"/>
                  <a:pt x="3547" y="3473"/>
                </a:cubicBezTo>
              </a:path>
              <a:path w="3052" h="1192">
                <a:moveTo>
                  <a:pt x="3225" y="3845"/>
                </a:moveTo>
                <a:cubicBezTo>
                  <a:pt x="3316" y="3876"/>
                  <a:pt x="3429" y="3880"/>
                  <a:pt x="3522" y="3845"/>
                </a:cubicBezTo>
                <a:cubicBezTo>
                  <a:pt x="3552" y="3815"/>
                  <a:pt x="3566" y="3804"/>
                  <a:pt x="3597" y="3795"/>
                </a:cubicBezTo>
              </a:path>
              <a:path w="3052" h="1192">
                <a:moveTo>
                  <a:pt x="3870" y="3225"/>
                </a:moveTo>
                <a:cubicBezTo>
                  <a:pt x="3917" y="3178"/>
                  <a:pt x="3959" y="3137"/>
                  <a:pt x="4018" y="3125"/>
                </a:cubicBezTo>
                <a:cubicBezTo>
                  <a:pt x="4115" y="3106"/>
                  <a:pt x="4158" y="3189"/>
                  <a:pt x="4142" y="3274"/>
                </a:cubicBezTo>
                <a:cubicBezTo>
                  <a:pt x="4131" y="3333"/>
                  <a:pt x="4042" y="3416"/>
                  <a:pt x="3994" y="3448"/>
                </a:cubicBezTo>
                <a:cubicBezTo>
                  <a:pt x="3954" y="3475"/>
                  <a:pt x="3887" y="3528"/>
                  <a:pt x="3845" y="3547"/>
                </a:cubicBezTo>
                <a:cubicBezTo>
                  <a:pt x="3837" y="3547"/>
                  <a:pt x="3828" y="3547"/>
                  <a:pt x="3820" y="3547"/>
                </a:cubicBezTo>
                <a:cubicBezTo>
                  <a:pt x="3882" y="3509"/>
                  <a:pt x="3930" y="3527"/>
                  <a:pt x="3994" y="3572"/>
                </a:cubicBezTo>
                <a:cubicBezTo>
                  <a:pt x="4060" y="3618"/>
                  <a:pt x="4064" y="3671"/>
                  <a:pt x="4068" y="3746"/>
                </a:cubicBezTo>
                <a:cubicBezTo>
                  <a:pt x="4070" y="3789"/>
                  <a:pt x="4028" y="3865"/>
                  <a:pt x="3994" y="3894"/>
                </a:cubicBezTo>
                <a:cubicBezTo>
                  <a:pt x="3979" y="3907"/>
                  <a:pt x="3778" y="3994"/>
                  <a:pt x="3770" y="3969"/>
                </a:cubicBezTo>
                <a:cubicBezTo>
                  <a:pt x="3778" y="3952"/>
                  <a:pt x="3787" y="3936"/>
                  <a:pt x="3795" y="3919"/>
                </a:cubicBezTo>
              </a:path>
              <a:path w="3052" h="1192">
                <a:moveTo>
                  <a:pt x="4291" y="3919"/>
                </a:moveTo>
                <a:cubicBezTo>
                  <a:pt x="4253" y="4030"/>
                  <a:pt x="4157" y="4125"/>
                  <a:pt x="4167" y="4242"/>
                </a:cubicBezTo>
                <a:cubicBezTo>
                  <a:pt x="4189" y="4264"/>
                  <a:pt x="4198" y="4275"/>
                  <a:pt x="4192" y="4242"/>
                </a:cubicBezTo>
              </a:path>
              <a:path w="3052" h="1192">
                <a:moveTo>
                  <a:pt x="4713" y="3200"/>
                </a:moveTo>
                <a:cubicBezTo>
                  <a:pt x="4727" y="3309"/>
                  <a:pt x="4738" y="3392"/>
                  <a:pt x="4738" y="3497"/>
                </a:cubicBezTo>
              </a:path>
              <a:path w="3052" h="1192">
                <a:moveTo>
                  <a:pt x="4539" y="3349"/>
                </a:moveTo>
                <a:cubicBezTo>
                  <a:pt x="4621" y="3349"/>
                  <a:pt x="4687" y="3361"/>
                  <a:pt x="4762" y="3373"/>
                </a:cubicBezTo>
                <a:cubicBezTo>
                  <a:pt x="4779" y="3373"/>
                  <a:pt x="4795" y="3373"/>
                  <a:pt x="4812" y="3373"/>
                </a:cubicBezTo>
              </a:path>
              <a:path w="3052" h="1192">
                <a:moveTo>
                  <a:pt x="4465" y="3746"/>
                </a:moveTo>
                <a:cubicBezTo>
                  <a:pt x="4559" y="3780"/>
                  <a:pt x="4619" y="3757"/>
                  <a:pt x="4713" y="3746"/>
                </a:cubicBezTo>
                <a:cubicBezTo>
                  <a:pt x="4781" y="3746"/>
                  <a:pt x="4800" y="3749"/>
                  <a:pt x="4837" y="37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6" name="Ink 6"/>
          <p:cNvSpPr/>
          <p:nvPr/>
        </p:nvSpPr>
        <p:spPr>
          <a:xfrm>
            <a:off x="1982880" y="1089000"/>
            <a:ext cx="179280" cy="38412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5904" y="3200"/>
                </a:moveTo>
                <a:cubicBezTo>
                  <a:pt x="5840" y="3283"/>
                  <a:pt x="5884" y="3184"/>
                  <a:pt x="5854" y="3125"/>
                </a:cubicBezTo>
                <a:cubicBezTo>
                  <a:pt x="5842" y="3101"/>
                  <a:pt x="5748" y="3025"/>
                  <a:pt x="5730" y="3026"/>
                </a:cubicBezTo>
                <a:cubicBezTo>
                  <a:pt x="5636" y="3032"/>
                  <a:pt x="5626" y="3118"/>
                  <a:pt x="5581" y="3175"/>
                </a:cubicBezTo>
                <a:cubicBezTo>
                  <a:pt x="5534" y="3236"/>
                  <a:pt x="5491" y="3337"/>
                  <a:pt x="5507" y="3423"/>
                </a:cubicBezTo>
                <a:cubicBezTo>
                  <a:pt x="5520" y="3494"/>
                  <a:pt x="5619" y="3520"/>
                  <a:pt x="5680" y="3497"/>
                </a:cubicBezTo>
                <a:cubicBezTo>
                  <a:pt x="5725" y="3480"/>
                  <a:pt x="5814" y="3429"/>
                  <a:pt x="5854" y="3398"/>
                </a:cubicBezTo>
                <a:cubicBezTo>
                  <a:pt x="5911" y="3354"/>
                  <a:pt x="5932" y="3299"/>
                  <a:pt x="5978" y="3249"/>
                </a:cubicBezTo>
                <a:cubicBezTo>
                  <a:pt x="5986" y="3241"/>
                  <a:pt x="5995" y="3233"/>
                  <a:pt x="6003" y="3225"/>
                </a:cubicBezTo>
                <a:cubicBezTo>
                  <a:pt x="5990" y="3338"/>
                  <a:pt x="5945" y="3435"/>
                  <a:pt x="5928" y="3547"/>
                </a:cubicBezTo>
                <a:cubicBezTo>
                  <a:pt x="5914" y="3639"/>
                  <a:pt x="5883" y="3776"/>
                  <a:pt x="5904" y="3870"/>
                </a:cubicBezTo>
                <a:cubicBezTo>
                  <a:pt x="5921" y="3947"/>
                  <a:pt x="5928" y="4010"/>
                  <a:pt x="5928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7" name="Ink 7"/>
          <p:cNvSpPr/>
          <p:nvPr/>
        </p:nvSpPr>
        <p:spPr>
          <a:xfrm>
            <a:off x="2741760" y="1438200"/>
            <a:ext cx="17280" cy="1256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7665" y="3994"/>
                </a:moveTo>
                <a:cubicBezTo>
                  <a:pt x="7665" y="4083"/>
                  <a:pt x="7677" y="4230"/>
                  <a:pt x="7640" y="4316"/>
                </a:cubicBezTo>
                <a:cubicBezTo>
                  <a:pt x="7632" y="4324"/>
                  <a:pt x="7623" y="4333"/>
                  <a:pt x="7615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8" name="Ink 8"/>
          <p:cNvSpPr/>
          <p:nvPr/>
        </p:nvSpPr>
        <p:spPr>
          <a:xfrm>
            <a:off x="2938320" y="1035000"/>
            <a:ext cx="963720" cy="36684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9872" y="2877"/>
                </a:moveTo>
                <a:cubicBezTo>
                  <a:pt x="9894" y="2958"/>
                  <a:pt x="9918" y="3041"/>
                  <a:pt x="9922" y="3125"/>
                </a:cubicBezTo>
                <a:cubicBezTo>
                  <a:pt x="9922" y="3150"/>
                  <a:pt x="9922" y="3175"/>
                  <a:pt x="9922" y="3200"/>
                </a:cubicBezTo>
              </a:path>
              <a:path w="2680" h="1018">
                <a:moveTo>
                  <a:pt x="9723" y="3076"/>
                </a:moveTo>
                <a:cubicBezTo>
                  <a:pt x="9799" y="3076"/>
                  <a:pt x="9902" y="3070"/>
                  <a:pt x="9971" y="3101"/>
                </a:cubicBezTo>
                <a:cubicBezTo>
                  <a:pt x="9994" y="3123"/>
                  <a:pt x="9999" y="3131"/>
                  <a:pt x="10021" y="3125"/>
                </a:cubicBezTo>
              </a:path>
              <a:path w="2680" h="1018">
                <a:moveTo>
                  <a:pt x="9599" y="3522"/>
                </a:moveTo>
                <a:cubicBezTo>
                  <a:pt x="9671" y="3540"/>
                  <a:pt x="9770" y="3568"/>
                  <a:pt x="9847" y="3547"/>
                </a:cubicBezTo>
                <a:cubicBezTo>
                  <a:pt x="9895" y="3523"/>
                  <a:pt x="9910" y="3515"/>
                  <a:pt x="9947" y="3522"/>
                </a:cubicBezTo>
              </a:path>
              <a:path w="2680" h="1018">
                <a:moveTo>
                  <a:pt x="10468" y="3051"/>
                </a:moveTo>
                <a:cubicBezTo>
                  <a:pt x="10405" y="3041"/>
                  <a:pt x="10311" y="3025"/>
                  <a:pt x="10244" y="3051"/>
                </a:cubicBezTo>
                <a:cubicBezTo>
                  <a:pt x="10220" y="3076"/>
                  <a:pt x="10212" y="3085"/>
                  <a:pt x="10195" y="3101"/>
                </a:cubicBezTo>
                <a:cubicBezTo>
                  <a:pt x="10205" y="3167"/>
                  <a:pt x="10240" y="3232"/>
                  <a:pt x="10269" y="3299"/>
                </a:cubicBezTo>
                <a:cubicBezTo>
                  <a:pt x="10306" y="3386"/>
                  <a:pt x="10340" y="3453"/>
                  <a:pt x="10344" y="3547"/>
                </a:cubicBezTo>
                <a:cubicBezTo>
                  <a:pt x="10346" y="3592"/>
                  <a:pt x="10320" y="3702"/>
                  <a:pt x="10269" y="3721"/>
                </a:cubicBezTo>
                <a:cubicBezTo>
                  <a:pt x="10236" y="3733"/>
                  <a:pt x="10129" y="3681"/>
                  <a:pt x="10120" y="3646"/>
                </a:cubicBezTo>
                <a:cubicBezTo>
                  <a:pt x="10097" y="3561"/>
                  <a:pt x="10184" y="3427"/>
                  <a:pt x="10244" y="3373"/>
                </a:cubicBezTo>
                <a:cubicBezTo>
                  <a:pt x="10333" y="3292"/>
                  <a:pt x="10371" y="3217"/>
                  <a:pt x="10443" y="3125"/>
                </a:cubicBezTo>
              </a:path>
              <a:path w="2680" h="1018">
                <a:moveTo>
                  <a:pt x="10765" y="2977"/>
                </a:moveTo>
                <a:cubicBezTo>
                  <a:pt x="10765" y="3115"/>
                  <a:pt x="10745" y="3238"/>
                  <a:pt x="10740" y="3373"/>
                </a:cubicBezTo>
                <a:cubicBezTo>
                  <a:pt x="10737" y="3457"/>
                  <a:pt x="10752" y="3521"/>
                  <a:pt x="10765" y="3597"/>
                </a:cubicBezTo>
                <a:cubicBezTo>
                  <a:pt x="10776" y="3662"/>
                  <a:pt x="10808" y="3706"/>
                  <a:pt x="10840" y="3770"/>
                </a:cubicBezTo>
              </a:path>
              <a:path w="2680" h="1018">
                <a:moveTo>
                  <a:pt x="8334" y="3125"/>
                </a:moveTo>
                <a:cubicBezTo>
                  <a:pt x="8360" y="3195"/>
                  <a:pt x="8340" y="3255"/>
                  <a:pt x="8359" y="3324"/>
                </a:cubicBezTo>
                <a:cubicBezTo>
                  <a:pt x="8378" y="3392"/>
                  <a:pt x="8395" y="3387"/>
                  <a:pt x="8359" y="3448"/>
                </a:cubicBezTo>
              </a:path>
              <a:path w="2680" h="1018">
                <a:moveTo>
                  <a:pt x="8210" y="3324"/>
                </a:moveTo>
                <a:cubicBezTo>
                  <a:pt x="8308" y="3303"/>
                  <a:pt x="8384" y="3299"/>
                  <a:pt x="8483" y="3299"/>
                </a:cubicBezTo>
                <a:cubicBezTo>
                  <a:pt x="8524" y="3299"/>
                  <a:pt x="8566" y="3299"/>
                  <a:pt x="8607" y="3299"/>
                </a:cubicBezTo>
              </a:path>
              <a:path w="2680" h="1018">
                <a:moveTo>
                  <a:pt x="8161" y="3770"/>
                </a:moveTo>
                <a:cubicBezTo>
                  <a:pt x="8262" y="3798"/>
                  <a:pt x="8288" y="3775"/>
                  <a:pt x="8384" y="3770"/>
                </a:cubicBezTo>
                <a:cubicBezTo>
                  <a:pt x="8444" y="3767"/>
                  <a:pt x="8498" y="3752"/>
                  <a:pt x="8558" y="3746"/>
                </a:cubicBezTo>
              </a:path>
              <a:path w="2680" h="1018">
                <a:moveTo>
                  <a:pt x="8632" y="3274"/>
                </a:moveTo>
                <a:cubicBezTo>
                  <a:pt x="8715" y="3222"/>
                  <a:pt x="8755" y="3190"/>
                  <a:pt x="8830" y="3200"/>
                </a:cubicBezTo>
                <a:cubicBezTo>
                  <a:pt x="8914" y="3211"/>
                  <a:pt x="8929" y="3258"/>
                  <a:pt x="8905" y="3349"/>
                </a:cubicBezTo>
                <a:cubicBezTo>
                  <a:pt x="8881" y="3439"/>
                  <a:pt x="8821" y="3496"/>
                  <a:pt x="8781" y="3572"/>
                </a:cubicBezTo>
                <a:cubicBezTo>
                  <a:pt x="8752" y="3628"/>
                  <a:pt x="8695" y="3733"/>
                  <a:pt x="8682" y="3795"/>
                </a:cubicBezTo>
                <a:cubicBezTo>
                  <a:pt x="8655" y="3920"/>
                  <a:pt x="8739" y="3881"/>
                  <a:pt x="8806" y="3870"/>
                </a:cubicBezTo>
                <a:cubicBezTo>
                  <a:pt x="8857" y="3870"/>
                  <a:pt x="8875" y="3868"/>
                  <a:pt x="8880" y="3820"/>
                </a:cubicBezTo>
              </a:path>
              <a:path w="2680" h="1018">
                <a:moveTo>
                  <a:pt x="9004" y="3200"/>
                </a:moveTo>
                <a:cubicBezTo>
                  <a:pt x="9087" y="3179"/>
                  <a:pt x="9169" y="3155"/>
                  <a:pt x="9252" y="3150"/>
                </a:cubicBezTo>
                <a:cubicBezTo>
                  <a:pt x="9302" y="3150"/>
                  <a:pt x="9318" y="3150"/>
                  <a:pt x="9351" y="3150"/>
                </a:cubicBezTo>
                <a:cubicBezTo>
                  <a:pt x="9309" y="3246"/>
                  <a:pt x="9260" y="3350"/>
                  <a:pt x="9227" y="3448"/>
                </a:cubicBezTo>
                <a:cubicBezTo>
                  <a:pt x="9199" y="3531"/>
                  <a:pt x="9158" y="3635"/>
                  <a:pt x="9153" y="3721"/>
                </a:cubicBezTo>
                <a:cubicBezTo>
                  <a:pt x="9149" y="3785"/>
                  <a:pt x="9165" y="3818"/>
                  <a:pt x="9178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9" name="Ink 9"/>
          <p:cNvSpPr/>
          <p:nvPr/>
        </p:nvSpPr>
        <p:spPr>
          <a:xfrm>
            <a:off x="5911920" y="946080"/>
            <a:ext cx="1901880" cy="598680"/>
          </a:xfrm>
          <a:custGeom>
            <a:avLst/>
            <a:gdLst/>
            <a:ahLst/>
            <a:rect l="l" t="t" r="r" b="b"/>
            <a:pathLst>
              <a:path w="5284" h="1663">
                <a:moveTo>
                  <a:pt x="16446" y="3299"/>
                </a:moveTo>
                <a:cubicBezTo>
                  <a:pt x="16413" y="3244"/>
                  <a:pt x="16425" y="3188"/>
                  <a:pt x="16446" y="3125"/>
                </a:cubicBezTo>
                <a:cubicBezTo>
                  <a:pt x="16462" y="3076"/>
                  <a:pt x="16514" y="2992"/>
                  <a:pt x="16545" y="2952"/>
                </a:cubicBezTo>
                <a:cubicBezTo>
                  <a:pt x="16591" y="2892"/>
                  <a:pt x="16638" y="2821"/>
                  <a:pt x="16718" y="2803"/>
                </a:cubicBezTo>
                <a:cubicBezTo>
                  <a:pt x="16775" y="2790"/>
                  <a:pt x="16851" y="2848"/>
                  <a:pt x="16867" y="2902"/>
                </a:cubicBezTo>
                <a:cubicBezTo>
                  <a:pt x="16890" y="2982"/>
                  <a:pt x="16842" y="3078"/>
                  <a:pt x="16818" y="3150"/>
                </a:cubicBezTo>
                <a:cubicBezTo>
                  <a:pt x="16789" y="3238"/>
                  <a:pt x="16732" y="3305"/>
                  <a:pt x="16669" y="3373"/>
                </a:cubicBezTo>
                <a:cubicBezTo>
                  <a:pt x="16630" y="3415"/>
                  <a:pt x="16617" y="3439"/>
                  <a:pt x="16570" y="3473"/>
                </a:cubicBezTo>
                <a:cubicBezTo>
                  <a:pt x="16621" y="3381"/>
                  <a:pt x="16662" y="3378"/>
                  <a:pt x="16768" y="3373"/>
                </a:cubicBezTo>
                <a:cubicBezTo>
                  <a:pt x="16836" y="3370"/>
                  <a:pt x="16920" y="3402"/>
                  <a:pt x="16942" y="3473"/>
                </a:cubicBezTo>
                <a:cubicBezTo>
                  <a:pt x="16982" y="3602"/>
                  <a:pt x="16979" y="3655"/>
                  <a:pt x="16892" y="3746"/>
                </a:cubicBezTo>
                <a:cubicBezTo>
                  <a:pt x="16833" y="3808"/>
                  <a:pt x="16720" y="3891"/>
                  <a:pt x="16644" y="3919"/>
                </a:cubicBezTo>
                <a:cubicBezTo>
                  <a:pt x="16613" y="3930"/>
                  <a:pt x="16442" y="3977"/>
                  <a:pt x="16421" y="3919"/>
                </a:cubicBezTo>
                <a:cubicBezTo>
                  <a:pt x="16429" y="3911"/>
                  <a:pt x="16438" y="3902"/>
                  <a:pt x="16446" y="3894"/>
                </a:cubicBezTo>
              </a:path>
              <a:path w="5284" h="1663">
                <a:moveTo>
                  <a:pt x="17115" y="3894"/>
                </a:moveTo>
                <a:cubicBezTo>
                  <a:pt x="17102" y="4028"/>
                  <a:pt x="17126" y="4411"/>
                  <a:pt x="17066" y="4291"/>
                </a:cubicBezTo>
                <a:cubicBezTo>
                  <a:pt x="17066" y="4275"/>
                  <a:pt x="17066" y="4258"/>
                  <a:pt x="17066" y="4242"/>
                </a:cubicBezTo>
              </a:path>
              <a:path w="5284" h="1663">
                <a:moveTo>
                  <a:pt x="17314" y="3225"/>
                </a:moveTo>
                <a:cubicBezTo>
                  <a:pt x="17396" y="3207"/>
                  <a:pt x="17483" y="3188"/>
                  <a:pt x="17562" y="3175"/>
                </a:cubicBezTo>
                <a:cubicBezTo>
                  <a:pt x="17611" y="3175"/>
                  <a:pt x="17628" y="3175"/>
                  <a:pt x="17661" y="3175"/>
                </a:cubicBezTo>
              </a:path>
              <a:path w="5284" h="1663">
                <a:moveTo>
                  <a:pt x="17611" y="2853"/>
                </a:moveTo>
                <a:cubicBezTo>
                  <a:pt x="17680" y="2794"/>
                  <a:pt x="17803" y="2675"/>
                  <a:pt x="17909" y="2679"/>
                </a:cubicBezTo>
                <a:cubicBezTo>
                  <a:pt x="17992" y="2682"/>
                  <a:pt x="18067" y="2710"/>
                  <a:pt x="18107" y="2778"/>
                </a:cubicBezTo>
                <a:cubicBezTo>
                  <a:pt x="18159" y="2867"/>
                  <a:pt x="18128" y="2903"/>
                  <a:pt x="18083" y="2977"/>
                </a:cubicBezTo>
                <a:cubicBezTo>
                  <a:pt x="18034" y="3057"/>
                  <a:pt x="17962" y="3121"/>
                  <a:pt x="17884" y="3175"/>
                </a:cubicBezTo>
                <a:cubicBezTo>
                  <a:pt x="17833" y="3210"/>
                  <a:pt x="17810" y="3238"/>
                  <a:pt x="17760" y="3274"/>
                </a:cubicBezTo>
                <a:cubicBezTo>
                  <a:pt x="17856" y="3274"/>
                  <a:pt x="17943" y="3264"/>
                  <a:pt x="18033" y="3299"/>
                </a:cubicBezTo>
                <a:cubicBezTo>
                  <a:pt x="18122" y="3333"/>
                  <a:pt x="18179" y="3369"/>
                  <a:pt x="18231" y="3448"/>
                </a:cubicBezTo>
                <a:cubicBezTo>
                  <a:pt x="18272" y="3511"/>
                  <a:pt x="18271" y="3631"/>
                  <a:pt x="18231" y="3696"/>
                </a:cubicBezTo>
                <a:cubicBezTo>
                  <a:pt x="18168" y="3800"/>
                  <a:pt x="18017" y="3871"/>
                  <a:pt x="17909" y="3919"/>
                </a:cubicBezTo>
                <a:cubicBezTo>
                  <a:pt x="17897" y="3924"/>
                  <a:pt x="17692" y="3970"/>
                  <a:pt x="17711" y="3944"/>
                </a:cubicBezTo>
                <a:cubicBezTo>
                  <a:pt x="17727" y="3936"/>
                  <a:pt x="17744" y="3927"/>
                  <a:pt x="17760" y="3919"/>
                </a:cubicBezTo>
              </a:path>
              <a:path w="5284" h="1663">
                <a:moveTo>
                  <a:pt x="18479" y="3770"/>
                </a:moveTo>
                <a:cubicBezTo>
                  <a:pt x="18458" y="3916"/>
                  <a:pt x="18439" y="3989"/>
                  <a:pt x="18380" y="4118"/>
                </a:cubicBezTo>
                <a:cubicBezTo>
                  <a:pt x="18365" y="4151"/>
                  <a:pt x="18303" y="4270"/>
                  <a:pt x="18355" y="4217"/>
                </a:cubicBezTo>
                <a:cubicBezTo>
                  <a:pt x="18363" y="4209"/>
                  <a:pt x="18372" y="4200"/>
                  <a:pt x="18380" y="4192"/>
                </a:cubicBezTo>
              </a:path>
              <a:path w="5284" h="1663">
                <a:moveTo>
                  <a:pt x="18777" y="2803"/>
                </a:moveTo>
                <a:cubicBezTo>
                  <a:pt x="18899" y="2710"/>
                  <a:pt x="18949" y="2660"/>
                  <a:pt x="19100" y="2654"/>
                </a:cubicBezTo>
                <a:cubicBezTo>
                  <a:pt x="19142" y="2652"/>
                  <a:pt x="19262" y="2663"/>
                  <a:pt x="19273" y="2729"/>
                </a:cubicBezTo>
                <a:cubicBezTo>
                  <a:pt x="19293" y="2849"/>
                  <a:pt x="19239" y="2930"/>
                  <a:pt x="19149" y="3001"/>
                </a:cubicBezTo>
                <a:cubicBezTo>
                  <a:pt x="19081" y="3054"/>
                  <a:pt x="19000" y="3109"/>
                  <a:pt x="18926" y="3150"/>
                </a:cubicBezTo>
                <a:cubicBezTo>
                  <a:pt x="18882" y="3172"/>
                  <a:pt x="18871" y="3175"/>
                  <a:pt x="18852" y="3200"/>
                </a:cubicBezTo>
                <a:cubicBezTo>
                  <a:pt x="18918" y="3234"/>
                  <a:pt x="18976" y="3209"/>
                  <a:pt x="19050" y="3225"/>
                </a:cubicBezTo>
                <a:cubicBezTo>
                  <a:pt x="19146" y="3245"/>
                  <a:pt x="19200" y="3318"/>
                  <a:pt x="19248" y="3398"/>
                </a:cubicBezTo>
                <a:cubicBezTo>
                  <a:pt x="19303" y="3490"/>
                  <a:pt x="19261" y="3569"/>
                  <a:pt x="19199" y="3646"/>
                </a:cubicBezTo>
                <a:cubicBezTo>
                  <a:pt x="19128" y="3734"/>
                  <a:pt x="19051" y="3775"/>
                  <a:pt x="18951" y="3820"/>
                </a:cubicBezTo>
                <a:cubicBezTo>
                  <a:pt x="18924" y="3832"/>
                  <a:pt x="18755" y="3914"/>
                  <a:pt x="18728" y="3870"/>
                </a:cubicBezTo>
                <a:cubicBezTo>
                  <a:pt x="18765" y="3832"/>
                  <a:pt x="18783" y="3808"/>
                  <a:pt x="18802" y="3770"/>
                </a:cubicBezTo>
              </a:path>
              <a:path w="5284" h="1663">
                <a:moveTo>
                  <a:pt x="19472" y="3497"/>
                </a:moveTo>
                <a:cubicBezTo>
                  <a:pt x="19472" y="3571"/>
                  <a:pt x="19418" y="3904"/>
                  <a:pt x="19546" y="3919"/>
                </a:cubicBezTo>
                <a:cubicBezTo>
                  <a:pt x="19649" y="3931"/>
                  <a:pt x="19744" y="3805"/>
                  <a:pt x="19794" y="3746"/>
                </a:cubicBezTo>
              </a:path>
              <a:path w="5284" h="1663">
                <a:moveTo>
                  <a:pt x="19546" y="3076"/>
                </a:moveTo>
                <a:cubicBezTo>
                  <a:pt x="19587" y="3096"/>
                  <a:pt x="19593" y="3105"/>
                  <a:pt x="19621" y="3101"/>
                </a:cubicBezTo>
              </a:path>
              <a:path w="5284" h="1663">
                <a:moveTo>
                  <a:pt x="20166" y="3820"/>
                </a:moveTo>
                <a:cubicBezTo>
                  <a:pt x="20151" y="3927"/>
                  <a:pt x="20123" y="4038"/>
                  <a:pt x="20117" y="4142"/>
                </a:cubicBezTo>
                <a:cubicBezTo>
                  <a:pt x="20117" y="4159"/>
                  <a:pt x="20117" y="4175"/>
                  <a:pt x="20117" y="4192"/>
                </a:cubicBezTo>
              </a:path>
              <a:path w="5284" h="1663">
                <a:moveTo>
                  <a:pt x="20216" y="3274"/>
                </a:moveTo>
                <a:cubicBezTo>
                  <a:pt x="20316" y="3251"/>
                  <a:pt x="20416" y="3224"/>
                  <a:pt x="20513" y="3200"/>
                </a:cubicBezTo>
                <a:cubicBezTo>
                  <a:pt x="20538" y="3192"/>
                  <a:pt x="20563" y="3183"/>
                  <a:pt x="20588" y="3175"/>
                </a:cubicBezTo>
              </a:path>
              <a:path w="5284" h="1663">
                <a:moveTo>
                  <a:pt x="20737" y="2753"/>
                </a:moveTo>
                <a:cubicBezTo>
                  <a:pt x="20806" y="2666"/>
                  <a:pt x="20843" y="2634"/>
                  <a:pt x="20960" y="2629"/>
                </a:cubicBezTo>
                <a:cubicBezTo>
                  <a:pt x="21087" y="2624"/>
                  <a:pt x="21110" y="2639"/>
                  <a:pt x="21208" y="2704"/>
                </a:cubicBezTo>
                <a:cubicBezTo>
                  <a:pt x="21312" y="2773"/>
                  <a:pt x="21252" y="2853"/>
                  <a:pt x="21183" y="2927"/>
                </a:cubicBezTo>
                <a:cubicBezTo>
                  <a:pt x="21115" y="3000"/>
                  <a:pt x="21021" y="3052"/>
                  <a:pt x="20935" y="3101"/>
                </a:cubicBezTo>
                <a:cubicBezTo>
                  <a:pt x="20870" y="3138"/>
                  <a:pt x="20815" y="3146"/>
                  <a:pt x="20762" y="3200"/>
                </a:cubicBezTo>
                <a:cubicBezTo>
                  <a:pt x="20808" y="3216"/>
                  <a:pt x="20897" y="3217"/>
                  <a:pt x="20960" y="3225"/>
                </a:cubicBezTo>
                <a:cubicBezTo>
                  <a:pt x="21048" y="3237"/>
                  <a:pt x="21102" y="3270"/>
                  <a:pt x="21158" y="3349"/>
                </a:cubicBezTo>
                <a:cubicBezTo>
                  <a:pt x="21212" y="3426"/>
                  <a:pt x="21219" y="3488"/>
                  <a:pt x="21183" y="3572"/>
                </a:cubicBezTo>
                <a:cubicBezTo>
                  <a:pt x="21150" y="3650"/>
                  <a:pt x="21087" y="3691"/>
                  <a:pt x="21010" y="3721"/>
                </a:cubicBezTo>
                <a:cubicBezTo>
                  <a:pt x="20919" y="3757"/>
                  <a:pt x="20859" y="3770"/>
                  <a:pt x="20762" y="3770"/>
                </a:cubicBezTo>
                <a:cubicBezTo>
                  <a:pt x="20694" y="3770"/>
                  <a:pt x="20822" y="3685"/>
                  <a:pt x="20836" y="3671"/>
                </a:cubicBezTo>
              </a:path>
              <a:path w="5284" h="1663">
                <a:moveTo>
                  <a:pt x="21506" y="3299"/>
                </a:moveTo>
                <a:cubicBezTo>
                  <a:pt x="21506" y="3378"/>
                  <a:pt x="21483" y="3521"/>
                  <a:pt x="21530" y="3597"/>
                </a:cubicBezTo>
                <a:cubicBezTo>
                  <a:pt x="21567" y="3657"/>
                  <a:pt x="21626" y="3611"/>
                  <a:pt x="21654" y="3572"/>
                </a:cubicBezTo>
                <a:cubicBezTo>
                  <a:pt x="21671" y="3547"/>
                  <a:pt x="21687" y="3522"/>
                  <a:pt x="21704" y="3497"/>
                </a:cubicBezTo>
              </a:path>
              <a:path w="5284" h="1663">
                <a:moveTo>
                  <a:pt x="21555" y="2853"/>
                </a:moveTo>
                <a:cubicBezTo>
                  <a:pt x="21583" y="2894"/>
                  <a:pt x="21597" y="2926"/>
                  <a:pt x="21605" y="29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0" name="Ink 10"/>
          <p:cNvSpPr/>
          <p:nvPr/>
        </p:nvSpPr>
        <p:spPr>
          <a:xfrm>
            <a:off x="527040" y="1847880"/>
            <a:ext cx="482760" cy="447480"/>
          </a:xfrm>
          <a:custGeom>
            <a:avLst/>
            <a:gdLst/>
            <a:ahLst/>
            <a:rect l="l" t="t" r="r" b="b"/>
            <a:pathLst>
              <a:path w="1341" h="1241">
                <a:moveTo>
                  <a:pt x="1960" y="5482"/>
                </a:moveTo>
                <a:cubicBezTo>
                  <a:pt x="1935" y="5507"/>
                  <a:pt x="1927" y="5515"/>
                  <a:pt x="1910" y="5531"/>
                </a:cubicBezTo>
                <a:cubicBezTo>
                  <a:pt x="1923" y="5440"/>
                  <a:pt x="1989" y="5404"/>
                  <a:pt x="2084" y="5383"/>
                </a:cubicBezTo>
                <a:cubicBezTo>
                  <a:pt x="2136" y="5371"/>
                  <a:pt x="2217" y="5408"/>
                  <a:pt x="2232" y="5457"/>
                </a:cubicBezTo>
                <a:cubicBezTo>
                  <a:pt x="2254" y="5530"/>
                  <a:pt x="2189" y="5605"/>
                  <a:pt x="2158" y="5655"/>
                </a:cubicBezTo>
                <a:cubicBezTo>
                  <a:pt x="2116" y="5723"/>
                  <a:pt x="2071" y="5733"/>
                  <a:pt x="2009" y="5779"/>
                </a:cubicBezTo>
                <a:cubicBezTo>
                  <a:pt x="1951" y="5822"/>
                  <a:pt x="2059" y="5765"/>
                  <a:pt x="2108" y="5779"/>
                </a:cubicBezTo>
                <a:cubicBezTo>
                  <a:pt x="2183" y="5800"/>
                  <a:pt x="2223" y="5840"/>
                  <a:pt x="2257" y="5904"/>
                </a:cubicBezTo>
                <a:cubicBezTo>
                  <a:pt x="2299" y="5983"/>
                  <a:pt x="2228" y="6013"/>
                  <a:pt x="2158" y="6052"/>
                </a:cubicBezTo>
                <a:cubicBezTo>
                  <a:pt x="2101" y="6083"/>
                  <a:pt x="2024" y="6098"/>
                  <a:pt x="1960" y="6102"/>
                </a:cubicBezTo>
                <a:cubicBezTo>
                  <a:pt x="1901" y="6105"/>
                  <a:pt x="1858" y="6072"/>
                  <a:pt x="1836" y="6028"/>
                </a:cubicBezTo>
              </a:path>
              <a:path w="1341" h="1241">
                <a:moveTo>
                  <a:pt x="2753" y="5135"/>
                </a:moveTo>
                <a:cubicBezTo>
                  <a:pt x="2762" y="5229"/>
                  <a:pt x="2778" y="5309"/>
                  <a:pt x="2778" y="5407"/>
                </a:cubicBezTo>
                <a:cubicBezTo>
                  <a:pt x="2778" y="5509"/>
                  <a:pt x="2803" y="5601"/>
                  <a:pt x="2803" y="5705"/>
                </a:cubicBezTo>
                <a:cubicBezTo>
                  <a:pt x="2803" y="5805"/>
                  <a:pt x="2868" y="6224"/>
                  <a:pt x="2778" y="6300"/>
                </a:cubicBezTo>
                <a:cubicBezTo>
                  <a:pt x="2638" y="6419"/>
                  <a:pt x="1953" y="6304"/>
                  <a:pt x="1761" y="6325"/>
                </a:cubicBezTo>
                <a:cubicBezTo>
                  <a:pt x="1675" y="6334"/>
                  <a:pt x="1595" y="6336"/>
                  <a:pt x="1513" y="6350"/>
                </a:cubicBezTo>
                <a:cubicBezTo>
                  <a:pt x="1471" y="6350"/>
                  <a:pt x="1455" y="6342"/>
                  <a:pt x="1463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1" name="Ink 11"/>
          <p:cNvSpPr/>
          <p:nvPr/>
        </p:nvSpPr>
        <p:spPr>
          <a:xfrm>
            <a:off x="1285920" y="1911240"/>
            <a:ext cx="17280" cy="366840"/>
          </a:xfrm>
          <a:custGeom>
            <a:avLst/>
            <a:gdLst/>
            <a:ahLst/>
            <a:rect l="l" t="t" r="r" b="b"/>
            <a:pathLst>
              <a:path w="50" h="1018">
                <a:moveTo>
                  <a:pt x="3572" y="5308"/>
                </a:moveTo>
                <a:cubicBezTo>
                  <a:pt x="3608" y="5368"/>
                  <a:pt x="3597" y="5433"/>
                  <a:pt x="3597" y="5507"/>
                </a:cubicBezTo>
                <a:cubicBezTo>
                  <a:pt x="3597" y="5591"/>
                  <a:pt x="3621" y="5668"/>
                  <a:pt x="3621" y="5755"/>
                </a:cubicBezTo>
                <a:cubicBezTo>
                  <a:pt x="3621" y="5945"/>
                  <a:pt x="3621" y="6135"/>
                  <a:pt x="3621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2" name="Ink 12"/>
          <p:cNvSpPr/>
          <p:nvPr/>
        </p:nvSpPr>
        <p:spPr>
          <a:xfrm>
            <a:off x="1901880" y="1938240"/>
            <a:ext cx="295200" cy="276480"/>
          </a:xfrm>
          <a:custGeom>
            <a:avLst/>
            <a:gdLst/>
            <a:ahLst/>
            <a:rect l="l" t="t" r="r" b="b"/>
            <a:pathLst>
              <a:path w="820" h="770">
                <a:moveTo>
                  <a:pt x="5507" y="5383"/>
                </a:moveTo>
                <a:cubicBezTo>
                  <a:pt x="5500" y="5456"/>
                  <a:pt x="5469" y="5494"/>
                  <a:pt x="5457" y="5556"/>
                </a:cubicBezTo>
                <a:cubicBezTo>
                  <a:pt x="5442" y="5631"/>
                  <a:pt x="5432" y="5699"/>
                  <a:pt x="5432" y="5779"/>
                </a:cubicBezTo>
                <a:cubicBezTo>
                  <a:pt x="5432" y="5874"/>
                  <a:pt x="5468" y="5964"/>
                  <a:pt x="5507" y="6052"/>
                </a:cubicBezTo>
                <a:cubicBezTo>
                  <a:pt x="5550" y="6148"/>
                  <a:pt x="5612" y="6152"/>
                  <a:pt x="5705" y="6152"/>
                </a:cubicBezTo>
                <a:cubicBezTo>
                  <a:pt x="5810" y="6152"/>
                  <a:pt x="5820" y="6134"/>
                  <a:pt x="5904" y="6077"/>
                </a:cubicBezTo>
                <a:cubicBezTo>
                  <a:pt x="5961" y="6039"/>
                  <a:pt x="6056" y="5998"/>
                  <a:pt x="6077" y="5928"/>
                </a:cubicBezTo>
                <a:cubicBezTo>
                  <a:pt x="6102" y="5843"/>
                  <a:pt x="6110" y="5765"/>
                  <a:pt x="6077" y="5680"/>
                </a:cubicBezTo>
                <a:cubicBezTo>
                  <a:pt x="6044" y="5594"/>
                  <a:pt x="6003" y="5556"/>
                  <a:pt x="5928" y="5507"/>
                </a:cubicBezTo>
                <a:cubicBezTo>
                  <a:pt x="5837" y="5448"/>
                  <a:pt x="5763" y="5419"/>
                  <a:pt x="5655" y="5407"/>
                </a:cubicBezTo>
                <a:cubicBezTo>
                  <a:pt x="5566" y="5397"/>
                  <a:pt x="5466" y="5400"/>
                  <a:pt x="5383" y="5432"/>
                </a:cubicBezTo>
                <a:cubicBezTo>
                  <a:pt x="5331" y="5452"/>
                  <a:pt x="5296" y="5481"/>
                  <a:pt x="5283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3" name="Ink 13"/>
          <p:cNvSpPr/>
          <p:nvPr/>
        </p:nvSpPr>
        <p:spPr>
          <a:xfrm>
            <a:off x="2724120" y="1874880"/>
            <a:ext cx="347760" cy="322200"/>
          </a:xfrm>
          <a:custGeom>
            <a:avLst/>
            <a:gdLst/>
            <a:ahLst/>
            <a:rect l="l" t="t" r="r" b="b"/>
            <a:pathLst>
              <a:path w="969" h="894">
                <a:moveTo>
                  <a:pt x="7739" y="5283"/>
                </a:moveTo>
                <a:cubicBezTo>
                  <a:pt x="7728" y="5369"/>
                  <a:pt x="7681" y="5443"/>
                  <a:pt x="7665" y="5531"/>
                </a:cubicBezTo>
                <a:cubicBezTo>
                  <a:pt x="7647" y="5633"/>
                  <a:pt x="7677" y="5735"/>
                  <a:pt x="7689" y="5829"/>
                </a:cubicBezTo>
                <a:cubicBezTo>
                  <a:pt x="7702" y="5936"/>
                  <a:pt x="7719" y="5966"/>
                  <a:pt x="7813" y="6028"/>
                </a:cubicBezTo>
                <a:cubicBezTo>
                  <a:pt x="7864" y="6061"/>
                  <a:pt x="8002" y="6107"/>
                  <a:pt x="8062" y="6102"/>
                </a:cubicBezTo>
                <a:cubicBezTo>
                  <a:pt x="8174" y="6093"/>
                  <a:pt x="8306" y="6052"/>
                  <a:pt x="8409" y="6003"/>
                </a:cubicBezTo>
                <a:cubicBezTo>
                  <a:pt x="8467" y="5975"/>
                  <a:pt x="8518" y="5895"/>
                  <a:pt x="8533" y="5829"/>
                </a:cubicBezTo>
                <a:cubicBezTo>
                  <a:pt x="8554" y="5736"/>
                  <a:pt x="8524" y="5676"/>
                  <a:pt x="8483" y="5606"/>
                </a:cubicBezTo>
                <a:cubicBezTo>
                  <a:pt x="8439" y="5530"/>
                  <a:pt x="8379" y="5440"/>
                  <a:pt x="8310" y="5383"/>
                </a:cubicBezTo>
                <a:cubicBezTo>
                  <a:pt x="8236" y="5322"/>
                  <a:pt x="8147" y="5284"/>
                  <a:pt x="8062" y="5259"/>
                </a:cubicBezTo>
                <a:cubicBezTo>
                  <a:pt x="7960" y="5229"/>
                  <a:pt x="7920" y="5207"/>
                  <a:pt x="7813" y="5234"/>
                </a:cubicBezTo>
                <a:cubicBezTo>
                  <a:pt x="7728" y="5256"/>
                  <a:pt x="7659" y="5284"/>
                  <a:pt x="7615" y="5358"/>
                </a:cubicBezTo>
                <a:cubicBezTo>
                  <a:pt x="7581" y="5416"/>
                  <a:pt x="7545" y="5486"/>
                  <a:pt x="7565" y="5556"/>
                </a:cubicBezTo>
                <a:cubicBezTo>
                  <a:pt x="7573" y="5573"/>
                  <a:pt x="7582" y="5589"/>
                  <a:pt x="7590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4" name="Ink 14"/>
          <p:cNvSpPr/>
          <p:nvPr/>
        </p:nvSpPr>
        <p:spPr>
          <a:xfrm>
            <a:off x="3429000" y="1839960"/>
            <a:ext cx="349200" cy="322200"/>
          </a:xfrm>
          <a:custGeom>
            <a:avLst/>
            <a:gdLst/>
            <a:ahLst/>
            <a:rect l="l" t="t" r="r" b="b"/>
            <a:pathLst>
              <a:path w="968" h="894">
                <a:moveTo>
                  <a:pt x="9723" y="5308"/>
                </a:moveTo>
                <a:cubicBezTo>
                  <a:pt x="9681" y="5362"/>
                  <a:pt x="9674" y="5406"/>
                  <a:pt x="9649" y="5457"/>
                </a:cubicBezTo>
                <a:cubicBezTo>
                  <a:pt x="9618" y="5519"/>
                  <a:pt x="9624" y="5579"/>
                  <a:pt x="9624" y="5655"/>
                </a:cubicBezTo>
                <a:cubicBezTo>
                  <a:pt x="9624" y="5744"/>
                  <a:pt x="9658" y="5786"/>
                  <a:pt x="9699" y="5854"/>
                </a:cubicBezTo>
                <a:cubicBezTo>
                  <a:pt x="9741" y="5924"/>
                  <a:pt x="9798" y="5941"/>
                  <a:pt x="9872" y="5978"/>
                </a:cubicBezTo>
                <a:cubicBezTo>
                  <a:pt x="9984" y="6035"/>
                  <a:pt x="10077" y="5967"/>
                  <a:pt x="10195" y="5953"/>
                </a:cubicBezTo>
                <a:cubicBezTo>
                  <a:pt x="10280" y="5943"/>
                  <a:pt x="10328" y="5915"/>
                  <a:pt x="10393" y="5854"/>
                </a:cubicBezTo>
                <a:cubicBezTo>
                  <a:pt x="10461" y="5791"/>
                  <a:pt x="10480" y="5721"/>
                  <a:pt x="10492" y="5631"/>
                </a:cubicBezTo>
                <a:cubicBezTo>
                  <a:pt x="10503" y="5551"/>
                  <a:pt x="10453" y="5472"/>
                  <a:pt x="10418" y="5407"/>
                </a:cubicBezTo>
                <a:cubicBezTo>
                  <a:pt x="10373" y="5322"/>
                  <a:pt x="10340" y="5294"/>
                  <a:pt x="10269" y="5234"/>
                </a:cubicBezTo>
                <a:cubicBezTo>
                  <a:pt x="10180" y="5159"/>
                  <a:pt x="10124" y="5164"/>
                  <a:pt x="10021" y="5135"/>
                </a:cubicBezTo>
                <a:cubicBezTo>
                  <a:pt x="9928" y="5109"/>
                  <a:pt x="9870" y="5146"/>
                  <a:pt x="9773" y="5159"/>
                </a:cubicBezTo>
                <a:cubicBezTo>
                  <a:pt x="9703" y="5169"/>
                  <a:pt x="9636" y="5192"/>
                  <a:pt x="9575" y="5234"/>
                </a:cubicBezTo>
                <a:cubicBezTo>
                  <a:pt x="9537" y="5260"/>
                  <a:pt x="9539" y="5298"/>
                  <a:pt x="9525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5" name="Ink 15"/>
          <p:cNvSpPr/>
          <p:nvPr/>
        </p:nvSpPr>
        <p:spPr>
          <a:xfrm>
            <a:off x="4098960" y="1820880"/>
            <a:ext cx="517320" cy="33192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11385" y="5358"/>
                </a:moveTo>
                <a:cubicBezTo>
                  <a:pt x="11480" y="5349"/>
                  <a:pt x="11559" y="5333"/>
                  <a:pt x="11658" y="5333"/>
                </a:cubicBezTo>
                <a:cubicBezTo>
                  <a:pt x="11743" y="5333"/>
                  <a:pt x="11800" y="5329"/>
                  <a:pt x="11881" y="5308"/>
                </a:cubicBezTo>
              </a:path>
              <a:path w="1440" h="919">
                <a:moveTo>
                  <a:pt x="12502" y="5085"/>
                </a:moveTo>
                <a:cubicBezTo>
                  <a:pt x="12448" y="5058"/>
                  <a:pt x="12346" y="5044"/>
                  <a:pt x="12278" y="5060"/>
                </a:cubicBezTo>
                <a:cubicBezTo>
                  <a:pt x="12175" y="5085"/>
                  <a:pt x="12089" y="5141"/>
                  <a:pt x="12080" y="5234"/>
                </a:cubicBezTo>
                <a:cubicBezTo>
                  <a:pt x="12071" y="5327"/>
                  <a:pt x="12201" y="5392"/>
                  <a:pt x="12254" y="5457"/>
                </a:cubicBezTo>
                <a:cubicBezTo>
                  <a:pt x="12318" y="5536"/>
                  <a:pt x="12399" y="5618"/>
                  <a:pt x="12378" y="5730"/>
                </a:cubicBezTo>
                <a:cubicBezTo>
                  <a:pt x="12363" y="5814"/>
                  <a:pt x="12272" y="5820"/>
                  <a:pt x="12204" y="5804"/>
                </a:cubicBezTo>
                <a:cubicBezTo>
                  <a:pt x="12129" y="5786"/>
                  <a:pt x="12057" y="5741"/>
                  <a:pt x="12080" y="5655"/>
                </a:cubicBezTo>
                <a:cubicBezTo>
                  <a:pt x="12095" y="5598"/>
                  <a:pt x="12184" y="5518"/>
                  <a:pt x="12229" y="5482"/>
                </a:cubicBezTo>
                <a:cubicBezTo>
                  <a:pt x="12341" y="5395"/>
                  <a:pt x="12404" y="5309"/>
                  <a:pt x="12477" y="5184"/>
                </a:cubicBezTo>
                <a:cubicBezTo>
                  <a:pt x="12497" y="5144"/>
                  <a:pt x="12506" y="5138"/>
                  <a:pt x="12502" y="5110"/>
                </a:cubicBezTo>
              </a:path>
              <a:path w="1440" h="919">
                <a:moveTo>
                  <a:pt x="12750" y="5110"/>
                </a:moveTo>
                <a:cubicBezTo>
                  <a:pt x="12750" y="5256"/>
                  <a:pt x="12738" y="5391"/>
                  <a:pt x="12725" y="5531"/>
                </a:cubicBezTo>
                <a:cubicBezTo>
                  <a:pt x="12716" y="5633"/>
                  <a:pt x="12744" y="5760"/>
                  <a:pt x="12774" y="5854"/>
                </a:cubicBezTo>
                <a:cubicBezTo>
                  <a:pt x="12797" y="5921"/>
                  <a:pt x="12802" y="5939"/>
                  <a:pt x="12824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6" name="Ink 16"/>
          <p:cNvSpPr/>
          <p:nvPr/>
        </p:nvSpPr>
        <p:spPr>
          <a:xfrm>
            <a:off x="5929200" y="1751040"/>
            <a:ext cx="1258920" cy="480960"/>
          </a:xfrm>
          <a:custGeom>
            <a:avLst/>
            <a:gdLst/>
            <a:ahLst/>
            <a:rect l="l" t="t" r="r" b="b"/>
            <a:pathLst>
              <a:path w="3499" h="1340">
                <a:moveTo>
                  <a:pt x="16743" y="5060"/>
                </a:moveTo>
                <a:cubicBezTo>
                  <a:pt x="16765" y="5167"/>
                  <a:pt x="16778" y="5276"/>
                  <a:pt x="16793" y="5383"/>
                </a:cubicBezTo>
                <a:cubicBezTo>
                  <a:pt x="16805" y="5467"/>
                  <a:pt x="16824" y="5499"/>
                  <a:pt x="16793" y="5581"/>
                </a:cubicBezTo>
              </a:path>
              <a:path w="3499" h="1340">
                <a:moveTo>
                  <a:pt x="16470" y="5457"/>
                </a:moveTo>
                <a:cubicBezTo>
                  <a:pt x="16632" y="5457"/>
                  <a:pt x="16785" y="5460"/>
                  <a:pt x="16942" y="5482"/>
                </a:cubicBezTo>
                <a:cubicBezTo>
                  <a:pt x="16958" y="5482"/>
                  <a:pt x="16975" y="5482"/>
                  <a:pt x="16991" y="5482"/>
                </a:cubicBezTo>
              </a:path>
              <a:path w="3499" h="1340">
                <a:moveTo>
                  <a:pt x="16495" y="5779"/>
                </a:moveTo>
                <a:cubicBezTo>
                  <a:pt x="16624" y="5798"/>
                  <a:pt x="16737" y="5804"/>
                  <a:pt x="16867" y="5804"/>
                </a:cubicBezTo>
                <a:cubicBezTo>
                  <a:pt x="16892" y="5804"/>
                  <a:pt x="16917" y="5804"/>
                  <a:pt x="16942" y="5804"/>
                </a:cubicBezTo>
              </a:path>
              <a:path w="3499" h="1340">
                <a:moveTo>
                  <a:pt x="17338" y="5035"/>
                </a:moveTo>
                <a:cubicBezTo>
                  <a:pt x="17440" y="4999"/>
                  <a:pt x="17528" y="4976"/>
                  <a:pt x="17636" y="5011"/>
                </a:cubicBezTo>
                <a:cubicBezTo>
                  <a:pt x="17702" y="5032"/>
                  <a:pt x="17703" y="5119"/>
                  <a:pt x="17686" y="5159"/>
                </a:cubicBezTo>
                <a:cubicBezTo>
                  <a:pt x="17640" y="5271"/>
                  <a:pt x="17556" y="5324"/>
                  <a:pt x="17462" y="5383"/>
                </a:cubicBezTo>
                <a:cubicBezTo>
                  <a:pt x="17404" y="5420"/>
                  <a:pt x="17341" y="5425"/>
                  <a:pt x="17289" y="5457"/>
                </a:cubicBezTo>
                <a:cubicBezTo>
                  <a:pt x="17387" y="5457"/>
                  <a:pt x="17467" y="5458"/>
                  <a:pt x="17562" y="5482"/>
                </a:cubicBezTo>
                <a:cubicBezTo>
                  <a:pt x="17666" y="5508"/>
                  <a:pt x="17759" y="5565"/>
                  <a:pt x="17785" y="5680"/>
                </a:cubicBezTo>
                <a:cubicBezTo>
                  <a:pt x="17804" y="5767"/>
                  <a:pt x="17724" y="5819"/>
                  <a:pt x="17661" y="5854"/>
                </a:cubicBezTo>
                <a:cubicBezTo>
                  <a:pt x="17585" y="5896"/>
                  <a:pt x="17499" y="5924"/>
                  <a:pt x="17413" y="5928"/>
                </a:cubicBezTo>
                <a:cubicBezTo>
                  <a:pt x="17361" y="5928"/>
                  <a:pt x="17343" y="5927"/>
                  <a:pt x="17314" y="5904"/>
                </a:cubicBezTo>
              </a:path>
              <a:path w="3499" h="1340">
                <a:moveTo>
                  <a:pt x="18083" y="5928"/>
                </a:moveTo>
                <a:cubicBezTo>
                  <a:pt x="18071" y="6034"/>
                  <a:pt x="18058" y="6104"/>
                  <a:pt x="18058" y="6201"/>
                </a:cubicBezTo>
              </a:path>
              <a:path w="3499" h="1340">
                <a:moveTo>
                  <a:pt x="18479" y="4936"/>
                </a:moveTo>
                <a:cubicBezTo>
                  <a:pt x="18485" y="5022"/>
                  <a:pt x="18482" y="5133"/>
                  <a:pt x="18529" y="5209"/>
                </a:cubicBezTo>
                <a:cubicBezTo>
                  <a:pt x="18550" y="5243"/>
                  <a:pt x="18569" y="5245"/>
                  <a:pt x="18579" y="5283"/>
                </a:cubicBezTo>
              </a:path>
              <a:path w="3499" h="1340">
                <a:moveTo>
                  <a:pt x="18207" y="5209"/>
                </a:moveTo>
                <a:cubicBezTo>
                  <a:pt x="18342" y="5228"/>
                  <a:pt x="18471" y="5248"/>
                  <a:pt x="18604" y="5259"/>
                </a:cubicBezTo>
              </a:path>
              <a:path w="3499" h="1340">
                <a:moveTo>
                  <a:pt x="18479" y="5655"/>
                </a:moveTo>
                <a:cubicBezTo>
                  <a:pt x="18601" y="5655"/>
                  <a:pt x="18708" y="5642"/>
                  <a:pt x="18827" y="5631"/>
                </a:cubicBezTo>
              </a:path>
              <a:path w="3499" h="1340">
                <a:moveTo>
                  <a:pt x="19050" y="4936"/>
                </a:moveTo>
                <a:cubicBezTo>
                  <a:pt x="19104" y="4882"/>
                  <a:pt x="19139" y="4838"/>
                  <a:pt x="19224" y="4862"/>
                </a:cubicBezTo>
                <a:cubicBezTo>
                  <a:pt x="19307" y="4885"/>
                  <a:pt x="19326" y="4941"/>
                  <a:pt x="19298" y="5011"/>
                </a:cubicBezTo>
                <a:cubicBezTo>
                  <a:pt x="19271" y="5080"/>
                  <a:pt x="19209" y="5148"/>
                  <a:pt x="19149" y="5184"/>
                </a:cubicBezTo>
                <a:cubicBezTo>
                  <a:pt x="19105" y="5210"/>
                  <a:pt x="19065" y="5227"/>
                  <a:pt x="19025" y="5259"/>
                </a:cubicBezTo>
                <a:cubicBezTo>
                  <a:pt x="19091" y="5323"/>
                  <a:pt x="19163" y="5325"/>
                  <a:pt x="19248" y="5358"/>
                </a:cubicBezTo>
                <a:cubicBezTo>
                  <a:pt x="19359" y="5402"/>
                  <a:pt x="19392" y="5443"/>
                  <a:pt x="19397" y="5556"/>
                </a:cubicBezTo>
                <a:cubicBezTo>
                  <a:pt x="19403" y="5679"/>
                  <a:pt x="19292" y="5724"/>
                  <a:pt x="19199" y="5779"/>
                </a:cubicBezTo>
                <a:cubicBezTo>
                  <a:pt x="19129" y="5820"/>
                  <a:pt x="19067" y="5809"/>
                  <a:pt x="19025" y="5755"/>
                </a:cubicBezTo>
              </a:path>
              <a:path w="3499" h="1340">
                <a:moveTo>
                  <a:pt x="19670" y="5556"/>
                </a:moveTo>
                <a:cubicBezTo>
                  <a:pt x="19704" y="5652"/>
                  <a:pt x="19725" y="5796"/>
                  <a:pt x="19844" y="5829"/>
                </a:cubicBezTo>
                <a:cubicBezTo>
                  <a:pt x="19902" y="5829"/>
                  <a:pt x="19927" y="5829"/>
                  <a:pt x="19968" y="5829"/>
                </a:cubicBezTo>
              </a:path>
              <a:path w="3499" h="1340">
                <a:moveTo>
                  <a:pt x="19720" y="5035"/>
                </a:moveTo>
                <a:cubicBezTo>
                  <a:pt x="19685" y="5070"/>
                  <a:pt x="19664" y="5085"/>
                  <a:pt x="19621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7" name="Ink 17"/>
          <p:cNvSpPr/>
          <p:nvPr/>
        </p:nvSpPr>
        <p:spPr>
          <a:xfrm>
            <a:off x="4232160" y="2286000"/>
            <a:ext cx="420840" cy="849240"/>
          </a:xfrm>
          <a:custGeom>
            <a:avLst/>
            <a:gdLst/>
            <a:ahLst/>
            <a:rect l="l" t="t" r="r" b="b"/>
            <a:pathLst>
              <a:path w="1167" h="2357">
                <a:moveTo>
                  <a:pt x="12030" y="6350"/>
                </a:moveTo>
                <a:cubicBezTo>
                  <a:pt x="11954" y="6350"/>
                  <a:pt x="11874" y="6334"/>
                  <a:pt x="11807" y="6375"/>
                </a:cubicBezTo>
                <a:cubicBezTo>
                  <a:pt x="11743" y="6414"/>
                  <a:pt x="11748" y="6464"/>
                  <a:pt x="11782" y="6524"/>
                </a:cubicBezTo>
                <a:cubicBezTo>
                  <a:pt x="11840" y="6626"/>
                  <a:pt x="11917" y="6721"/>
                  <a:pt x="11981" y="6821"/>
                </a:cubicBezTo>
                <a:cubicBezTo>
                  <a:pt x="12022" y="6885"/>
                  <a:pt x="12087" y="6985"/>
                  <a:pt x="12055" y="7069"/>
                </a:cubicBezTo>
                <a:cubicBezTo>
                  <a:pt x="12030" y="7094"/>
                  <a:pt x="12022" y="7102"/>
                  <a:pt x="12005" y="7119"/>
                </a:cubicBezTo>
                <a:cubicBezTo>
                  <a:pt x="11940" y="7110"/>
                  <a:pt x="11928" y="7093"/>
                  <a:pt x="11881" y="7045"/>
                </a:cubicBezTo>
                <a:cubicBezTo>
                  <a:pt x="11835" y="6998"/>
                  <a:pt x="11847" y="6900"/>
                  <a:pt x="11881" y="6846"/>
                </a:cubicBezTo>
                <a:cubicBezTo>
                  <a:pt x="11942" y="6747"/>
                  <a:pt x="12032" y="6662"/>
                  <a:pt x="12105" y="6573"/>
                </a:cubicBezTo>
                <a:cubicBezTo>
                  <a:pt x="12138" y="6532"/>
                  <a:pt x="12171" y="6490"/>
                  <a:pt x="12204" y="6449"/>
                </a:cubicBezTo>
              </a:path>
              <a:path w="1167" h="2357">
                <a:moveTo>
                  <a:pt x="12303" y="6375"/>
                </a:moveTo>
                <a:cubicBezTo>
                  <a:pt x="12309" y="6536"/>
                  <a:pt x="12306" y="6711"/>
                  <a:pt x="12328" y="6871"/>
                </a:cubicBezTo>
                <a:cubicBezTo>
                  <a:pt x="12342" y="6972"/>
                  <a:pt x="12375" y="7098"/>
                  <a:pt x="12402" y="7193"/>
                </a:cubicBezTo>
                <a:cubicBezTo>
                  <a:pt x="12416" y="7243"/>
                  <a:pt x="12427" y="7263"/>
                  <a:pt x="12427" y="7317"/>
                </a:cubicBezTo>
              </a:path>
              <a:path w="1167" h="2357">
                <a:moveTo>
                  <a:pt x="12477" y="7764"/>
                </a:moveTo>
                <a:cubicBezTo>
                  <a:pt x="12430" y="7858"/>
                  <a:pt x="12359" y="7941"/>
                  <a:pt x="12328" y="8037"/>
                </a:cubicBezTo>
                <a:cubicBezTo>
                  <a:pt x="12291" y="8153"/>
                  <a:pt x="12265" y="8246"/>
                  <a:pt x="12303" y="8359"/>
                </a:cubicBezTo>
                <a:cubicBezTo>
                  <a:pt x="12337" y="8460"/>
                  <a:pt x="12408" y="8574"/>
                  <a:pt x="12502" y="8632"/>
                </a:cubicBezTo>
                <a:cubicBezTo>
                  <a:pt x="12600" y="8692"/>
                  <a:pt x="12684" y="8726"/>
                  <a:pt x="12774" y="8632"/>
                </a:cubicBezTo>
                <a:cubicBezTo>
                  <a:pt x="12850" y="8552"/>
                  <a:pt x="12911" y="8446"/>
                  <a:pt x="12923" y="8334"/>
                </a:cubicBezTo>
                <a:cubicBezTo>
                  <a:pt x="12945" y="8121"/>
                  <a:pt x="12821" y="7995"/>
                  <a:pt x="12650" y="7888"/>
                </a:cubicBezTo>
                <a:cubicBezTo>
                  <a:pt x="12555" y="7829"/>
                  <a:pt x="12468" y="7880"/>
                  <a:pt x="12378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8" name="Ink 18"/>
          <p:cNvSpPr/>
          <p:nvPr/>
        </p:nvSpPr>
        <p:spPr>
          <a:xfrm>
            <a:off x="3402000" y="2320920"/>
            <a:ext cx="403200" cy="841320"/>
          </a:xfrm>
          <a:custGeom>
            <a:avLst/>
            <a:gdLst/>
            <a:ahLst/>
            <a:rect l="l" t="t" r="r" b="b"/>
            <a:pathLst>
              <a:path w="1117" h="2333">
                <a:moveTo>
                  <a:pt x="9525" y="6648"/>
                </a:moveTo>
                <a:cubicBezTo>
                  <a:pt x="9525" y="6664"/>
                  <a:pt x="9525" y="6681"/>
                  <a:pt x="9525" y="6697"/>
                </a:cubicBezTo>
                <a:cubicBezTo>
                  <a:pt x="9475" y="6722"/>
                  <a:pt x="9547" y="6578"/>
                  <a:pt x="9575" y="6524"/>
                </a:cubicBezTo>
                <a:cubicBezTo>
                  <a:pt x="9607" y="6462"/>
                  <a:pt x="9708" y="6407"/>
                  <a:pt x="9748" y="6499"/>
                </a:cubicBezTo>
                <a:cubicBezTo>
                  <a:pt x="9781" y="6575"/>
                  <a:pt x="9795" y="6687"/>
                  <a:pt x="9798" y="6772"/>
                </a:cubicBezTo>
                <a:cubicBezTo>
                  <a:pt x="9801" y="6869"/>
                  <a:pt x="9785" y="6981"/>
                  <a:pt x="9748" y="7069"/>
                </a:cubicBezTo>
                <a:cubicBezTo>
                  <a:pt x="9727" y="7119"/>
                  <a:pt x="9662" y="7196"/>
                  <a:pt x="9599" y="7193"/>
                </a:cubicBezTo>
                <a:cubicBezTo>
                  <a:pt x="9544" y="7190"/>
                  <a:pt x="9487" y="7131"/>
                  <a:pt x="9451" y="7094"/>
                </a:cubicBezTo>
                <a:cubicBezTo>
                  <a:pt x="9572" y="7067"/>
                  <a:pt x="9575" y="7118"/>
                  <a:pt x="9674" y="7169"/>
                </a:cubicBezTo>
                <a:cubicBezTo>
                  <a:pt x="9738" y="7202"/>
                  <a:pt x="9826" y="7239"/>
                  <a:pt x="9897" y="7243"/>
                </a:cubicBezTo>
                <a:cubicBezTo>
                  <a:pt x="9914" y="7243"/>
                  <a:pt x="9930" y="7243"/>
                  <a:pt x="9947" y="7243"/>
                </a:cubicBezTo>
              </a:path>
              <a:path w="1117" h="2333">
                <a:moveTo>
                  <a:pt x="10096" y="6474"/>
                </a:moveTo>
                <a:cubicBezTo>
                  <a:pt x="10174" y="6460"/>
                  <a:pt x="10242" y="6496"/>
                  <a:pt x="10319" y="6474"/>
                </a:cubicBezTo>
                <a:cubicBezTo>
                  <a:pt x="10367" y="6450"/>
                  <a:pt x="10381" y="6441"/>
                  <a:pt x="10418" y="6449"/>
                </a:cubicBezTo>
                <a:cubicBezTo>
                  <a:pt x="10406" y="6556"/>
                  <a:pt x="10362" y="6602"/>
                  <a:pt x="10319" y="6697"/>
                </a:cubicBezTo>
                <a:cubicBezTo>
                  <a:pt x="10280" y="6783"/>
                  <a:pt x="10294" y="6878"/>
                  <a:pt x="10294" y="6970"/>
                </a:cubicBezTo>
                <a:cubicBezTo>
                  <a:pt x="10294" y="7019"/>
                  <a:pt x="10310" y="7049"/>
                  <a:pt x="10319" y="7094"/>
                </a:cubicBezTo>
              </a:path>
              <a:path w="1117" h="2333">
                <a:moveTo>
                  <a:pt x="9649" y="7962"/>
                </a:moveTo>
                <a:cubicBezTo>
                  <a:pt x="9679" y="7902"/>
                  <a:pt x="9703" y="7838"/>
                  <a:pt x="9748" y="7789"/>
                </a:cubicBezTo>
                <a:cubicBezTo>
                  <a:pt x="9816" y="7714"/>
                  <a:pt x="9870" y="7774"/>
                  <a:pt x="9897" y="7838"/>
                </a:cubicBezTo>
                <a:cubicBezTo>
                  <a:pt x="9946" y="7955"/>
                  <a:pt x="9946" y="8062"/>
                  <a:pt x="9922" y="8186"/>
                </a:cubicBezTo>
                <a:cubicBezTo>
                  <a:pt x="9902" y="8286"/>
                  <a:pt x="9823" y="8350"/>
                  <a:pt x="9773" y="8434"/>
                </a:cubicBezTo>
                <a:cubicBezTo>
                  <a:pt x="9757" y="8460"/>
                  <a:pt x="9657" y="8561"/>
                  <a:pt x="9649" y="8558"/>
                </a:cubicBezTo>
                <a:cubicBezTo>
                  <a:pt x="9612" y="8543"/>
                  <a:pt x="9584" y="8464"/>
                  <a:pt x="9575" y="8434"/>
                </a:cubicBezTo>
                <a:cubicBezTo>
                  <a:pt x="9626" y="8496"/>
                  <a:pt x="9688" y="8484"/>
                  <a:pt x="9748" y="8558"/>
                </a:cubicBezTo>
                <a:cubicBezTo>
                  <a:pt x="9819" y="8644"/>
                  <a:pt x="9885" y="8696"/>
                  <a:pt x="9996" y="8706"/>
                </a:cubicBezTo>
                <a:cubicBezTo>
                  <a:pt x="10053" y="8706"/>
                  <a:pt x="10074" y="8701"/>
                  <a:pt x="10096" y="8657"/>
                </a:cubicBezTo>
              </a:path>
              <a:path w="1117" h="2333">
                <a:moveTo>
                  <a:pt x="10145" y="7789"/>
                </a:moveTo>
                <a:cubicBezTo>
                  <a:pt x="10261" y="7804"/>
                  <a:pt x="10355" y="7813"/>
                  <a:pt x="10468" y="7813"/>
                </a:cubicBezTo>
                <a:cubicBezTo>
                  <a:pt x="10484" y="7813"/>
                  <a:pt x="10501" y="7813"/>
                  <a:pt x="10517" y="7813"/>
                </a:cubicBezTo>
                <a:cubicBezTo>
                  <a:pt x="10508" y="7926"/>
                  <a:pt x="10472" y="8025"/>
                  <a:pt x="10443" y="8136"/>
                </a:cubicBezTo>
                <a:cubicBezTo>
                  <a:pt x="10405" y="8284"/>
                  <a:pt x="10436" y="8365"/>
                  <a:pt x="10468" y="8508"/>
                </a:cubicBezTo>
                <a:cubicBezTo>
                  <a:pt x="10488" y="8599"/>
                  <a:pt x="10500" y="8731"/>
                  <a:pt x="10567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69" name="Ink 19"/>
          <p:cNvSpPr/>
          <p:nvPr/>
        </p:nvSpPr>
        <p:spPr>
          <a:xfrm>
            <a:off x="3241800" y="3510000"/>
            <a:ext cx="588960" cy="392040"/>
          </a:xfrm>
          <a:custGeom>
            <a:avLst/>
            <a:gdLst/>
            <a:ahLst/>
            <a:rect l="l" t="t" r="r" b="b"/>
            <a:pathLst>
              <a:path w="1638" h="1093">
                <a:moveTo>
                  <a:pt x="9004" y="10294"/>
                </a:moveTo>
                <a:cubicBezTo>
                  <a:pt x="9080" y="10275"/>
                  <a:pt x="9142" y="10312"/>
                  <a:pt x="9227" y="10294"/>
                </a:cubicBezTo>
                <a:cubicBezTo>
                  <a:pt x="9292" y="10272"/>
                  <a:pt x="9307" y="10264"/>
                  <a:pt x="9351" y="10269"/>
                </a:cubicBezTo>
              </a:path>
              <a:path w="1638" h="1093">
                <a:moveTo>
                  <a:pt x="9624" y="9897"/>
                </a:moveTo>
                <a:cubicBezTo>
                  <a:pt x="9685" y="9872"/>
                  <a:pt x="9828" y="9789"/>
                  <a:pt x="9897" y="9847"/>
                </a:cubicBezTo>
                <a:cubicBezTo>
                  <a:pt x="9958" y="9899"/>
                  <a:pt x="9966" y="9980"/>
                  <a:pt x="9947" y="10046"/>
                </a:cubicBezTo>
                <a:cubicBezTo>
                  <a:pt x="9917" y="10150"/>
                  <a:pt x="9874" y="10210"/>
                  <a:pt x="9823" y="10294"/>
                </a:cubicBezTo>
                <a:cubicBezTo>
                  <a:pt x="9778" y="10368"/>
                  <a:pt x="9740" y="10444"/>
                  <a:pt x="9699" y="10517"/>
                </a:cubicBezTo>
                <a:cubicBezTo>
                  <a:pt x="9665" y="10578"/>
                  <a:pt x="9653" y="10663"/>
                  <a:pt x="9699" y="10716"/>
                </a:cubicBezTo>
                <a:cubicBezTo>
                  <a:pt x="9740" y="10763"/>
                  <a:pt x="9833" y="10829"/>
                  <a:pt x="9897" y="10840"/>
                </a:cubicBezTo>
                <a:cubicBezTo>
                  <a:pt x="10014" y="10860"/>
                  <a:pt x="10057" y="10805"/>
                  <a:pt x="10145" y="10740"/>
                </a:cubicBezTo>
              </a:path>
              <a:path w="1638" h="1093">
                <a:moveTo>
                  <a:pt x="10220" y="9823"/>
                </a:moveTo>
                <a:cubicBezTo>
                  <a:pt x="10436" y="9738"/>
                  <a:pt x="10371" y="9763"/>
                  <a:pt x="10542" y="9773"/>
                </a:cubicBezTo>
                <a:cubicBezTo>
                  <a:pt x="10637" y="9778"/>
                  <a:pt x="10636" y="9826"/>
                  <a:pt x="10616" y="9897"/>
                </a:cubicBezTo>
                <a:cubicBezTo>
                  <a:pt x="10593" y="9976"/>
                  <a:pt x="10547" y="10042"/>
                  <a:pt x="10517" y="10120"/>
                </a:cubicBezTo>
                <a:cubicBezTo>
                  <a:pt x="10476" y="10228"/>
                  <a:pt x="10487" y="10333"/>
                  <a:pt x="10517" y="10443"/>
                </a:cubicBezTo>
                <a:cubicBezTo>
                  <a:pt x="10543" y="10539"/>
                  <a:pt x="10573" y="10644"/>
                  <a:pt x="10592" y="10740"/>
                </a:cubicBezTo>
                <a:cubicBezTo>
                  <a:pt x="10592" y="10757"/>
                  <a:pt x="10592" y="10773"/>
                  <a:pt x="10592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0" name="Ink 20"/>
          <p:cNvSpPr/>
          <p:nvPr/>
        </p:nvSpPr>
        <p:spPr>
          <a:xfrm>
            <a:off x="3724200" y="4187880"/>
            <a:ext cx="241200" cy="304920"/>
          </a:xfrm>
          <a:custGeom>
            <a:avLst/>
            <a:gdLst/>
            <a:ahLst/>
            <a:rect l="l" t="t" r="r" b="b"/>
            <a:pathLst>
              <a:path w="670" h="845">
                <a:moveTo>
                  <a:pt x="10542" y="11633"/>
                </a:moveTo>
                <a:cubicBezTo>
                  <a:pt x="10504" y="11708"/>
                  <a:pt x="10463" y="11764"/>
                  <a:pt x="10418" y="11832"/>
                </a:cubicBezTo>
                <a:cubicBezTo>
                  <a:pt x="10376" y="11895"/>
                  <a:pt x="10333" y="12004"/>
                  <a:pt x="10344" y="12080"/>
                </a:cubicBezTo>
                <a:cubicBezTo>
                  <a:pt x="10359" y="12178"/>
                  <a:pt x="10404" y="12282"/>
                  <a:pt x="10468" y="12353"/>
                </a:cubicBezTo>
                <a:cubicBezTo>
                  <a:pt x="10537" y="12431"/>
                  <a:pt x="10613" y="12473"/>
                  <a:pt x="10716" y="12477"/>
                </a:cubicBezTo>
                <a:cubicBezTo>
                  <a:pt x="10832" y="12482"/>
                  <a:pt x="10881" y="12417"/>
                  <a:pt x="10939" y="12328"/>
                </a:cubicBezTo>
                <a:cubicBezTo>
                  <a:pt x="11025" y="12196"/>
                  <a:pt x="11003" y="12152"/>
                  <a:pt x="10988" y="12005"/>
                </a:cubicBezTo>
                <a:cubicBezTo>
                  <a:pt x="10977" y="11896"/>
                  <a:pt x="10914" y="11773"/>
                  <a:pt x="10815" y="11708"/>
                </a:cubicBezTo>
                <a:cubicBezTo>
                  <a:pt x="10718" y="11645"/>
                  <a:pt x="10630" y="11633"/>
                  <a:pt x="10517" y="11633"/>
                </a:cubicBezTo>
                <a:cubicBezTo>
                  <a:pt x="10484" y="11633"/>
                  <a:pt x="10451" y="11633"/>
                  <a:pt x="10418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1" name="Ink 21"/>
          <p:cNvSpPr/>
          <p:nvPr/>
        </p:nvSpPr>
        <p:spPr>
          <a:xfrm>
            <a:off x="2705040" y="2340000"/>
            <a:ext cx="206280" cy="847800"/>
          </a:xfrm>
          <a:custGeom>
            <a:avLst/>
            <a:gdLst/>
            <a:ahLst/>
            <a:rect l="l" t="t" r="r" b="b"/>
            <a:pathLst>
              <a:path w="571" h="2357">
                <a:moveTo>
                  <a:pt x="7987" y="6722"/>
                </a:moveTo>
                <a:cubicBezTo>
                  <a:pt x="8017" y="6737"/>
                  <a:pt x="8070" y="6728"/>
                  <a:pt x="8086" y="6672"/>
                </a:cubicBezTo>
                <a:cubicBezTo>
                  <a:pt x="8102" y="6615"/>
                  <a:pt x="8087" y="6556"/>
                  <a:pt x="8037" y="6524"/>
                </a:cubicBezTo>
                <a:cubicBezTo>
                  <a:pt x="7937" y="6460"/>
                  <a:pt x="7836" y="6530"/>
                  <a:pt x="7764" y="6598"/>
                </a:cubicBezTo>
                <a:cubicBezTo>
                  <a:pt x="7695" y="6663"/>
                  <a:pt x="7633" y="6750"/>
                  <a:pt x="7615" y="6846"/>
                </a:cubicBezTo>
                <a:cubicBezTo>
                  <a:pt x="7603" y="6907"/>
                  <a:pt x="7651" y="6931"/>
                  <a:pt x="7689" y="6970"/>
                </a:cubicBezTo>
                <a:cubicBezTo>
                  <a:pt x="7725" y="7006"/>
                  <a:pt x="7812" y="7006"/>
                  <a:pt x="7863" y="6995"/>
                </a:cubicBezTo>
                <a:cubicBezTo>
                  <a:pt x="7946" y="6977"/>
                  <a:pt x="7975" y="6941"/>
                  <a:pt x="8012" y="6871"/>
                </a:cubicBezTo>
                <a:cubicBezTo>
                  <a:pt x="8036" y="6823"/>
                  <a:pt x="8044" y="6809"/>
                  <a:pt x="8037" y="6772"/>
                </a:cubicBezTo>
                <a:cubicBezTo>
                  <a:pt x="8012" y="6864"/>
                  <a:pt x="7991" y="6950"/>
                  <a:pt x="7987" y="7045"/>
                </a:cubicBezTo>
                <a:cubicBezTo>
                  <a:pt x="7984" y="7136"/>
                  <a:pt x="7999" y="7209"/>
                  <a:pt x="8012" y="7293"/>
                </a:cubicBezTo>
                <a:cubicBezTo>
                  <a:pt x="8021" y="7347"/>
                  <a:pt x="8012" y="7376"/>
                  <a:pt x="7987" y="7417"/>
                </a:cubicBezTo>
              </a:path>
              <a:path w="571" h="2357">
                <a:moveTo>
                  <a:pt x="7938" y="8285"/>
                </a:moveTo>
                <a:cubicBezTo>
                  <a:pt x="7962" y="8222"/>
                  <a:pt x="7925" y="8183"/>
                  <a:pt x="7913" y="8111"/>
                </a:cubicBezTo>
                <a:cubicBezTo>
                  <a:pt x="7901" y="8041"/>
                  <a:pt x="7888" y="7993"/>
                  <a:pt x="7838" y="7938"/>
                </a:cubicBezTo>
                <a:cubicBezTo>
                  <a:pt x="7774" y="7868"/>
                  <a:pt x="7692" y="7837"/>
                  <a:pt x="7615" y="7913"/>
                </a:cubicBezTo>
                <a:cubicBezTo>
                  <a:pt x="7562" y="7965"/>
                  <a:pt x="7520" y="8037"/>
                  <a:pt x="7516" y="8111"/>
                </a:cubicBezTo>
                <a:cubicBezTo>
                  <a:pt x="7512" y="8178"/>
                  <a:pt x="7544" y="8243"/>
                  <a:pt x="7615" y="8260"/>
                </a:cubicBezTo>
                <a:cubicBezTo>
                  <a:pt x="7679" y="8275"/>
                  <a:pt x="7763" y="8260"/>
                  <a:pt x="7813" y="8235"/>
                </a:cubicBezTo>
                <a:cubicBezTo>
                  <a:pt x="7884" y="8199"/>
                  <a:pt x="7893" y="8172"/>
                  <a:pt x="7938" y="8111"/>
                </a:cubicBezTo>
                <a:cubicBezTo>
                  <a:pt x="7946" y="8103"/>
                  <a:pt x="7954" y="8094"/>
                  <a:pt x="7962" y="8086"/>
                </a:cubicBezTo>
                <a:cubicBezTo>
                  <a:pt x="7953" y="8163"/>
                  <a:pt x="7924" y="8232"/>
                  <a:pt x="7913" y="8310"/>
                </a:cubicBezTo>
                <a:cubicBezTo>
                  <a:pt x="7901" y="8390"/>
                  <a:pt x="7903" y="8477"/>
                  <a:pt x="7888" y="8558"/>
                </a:cubicBezTo>
                <a:cubicBezTo>
                  <a:pt x="7872" y="8643"/>
                  <a:pt x="7863" y="8691"/>
                  <a:pt x="7863" y="8781"/>
                </a:cubicBezTo>
                <a:cubicBezTo>
                  <a:pt x="7863" y="8830"/>
                  <a:pt x="7869" y="8835"/>
                  <a:pt x="783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2" name="Ink 22"/>
          <p:cNvSpPr/>
          <p:nvPr/>
        </p:nvSpPr>
        <p:spPr>
          <a:xfrm>
            <a:off x="2705040" y="3490920"/>
            <a:ext cx="268200" cy="1027080"/>
          </a:xfrm>
          <a:custGeom>
            <a:avLst/>
            <a:gdLst/>
            <a:ahLst/>
            <a:rect l="l" t="t" r="r" b="b"/>
            <a:pathLst>
              <a:path w="745" h="2853">
                <a:moveTo>
                  <a:pt x="7640" y="9773"/>
                </a:moveTo>
                <a:cubicBezTo>
                  <a:pt x="7618" y="9854"/>
                  <a:pt x="7596" y="9922"/>
                  <a:pt x="7565" y="9996"/>
                </a:cubicBezTo>
                <a:cubicBezTo>
                  <a:pt x="7535" y="10066"/>
                  <a:pt x="7505" y="10194"/>
                  <a:pt x="7516" y="10269"/>
                </a:cubicBezTo>
                <a:cubicBezTo>
                  <a:pt x="7532" y="10376"/>
                  <a:pt x="7542" y="10448"/>
                  <a:pt x="7615" y="10517"/>
                </a:cubicBezTo>
                <a:cubicBezTo>
                  <a:pt x="7688" y="10585"/>
                  <a:pt x="7758" y="10686"/>
                  <a:pt x="7838" y="10716"/>
                </a:cubicBezTo>
                <a:cubicBezTo>
                  <a:pt x="7885" y="10734"/>
                  <a:pt x="8007" y="10752"/>
                  <a:pt x="8062" y="10740"/>
                </a:cubicBezTo>
                <a:cubicBezTo>
                  <a:pt x="8179" y="10715"/>
                  <a:pt x="8182" y="10595"/>
                  <a:pt x="8186" y="10492"/>
                </a:cubicBezTo>
                <a:cubicBezTo>
                  <a:pt x="8190" y="10377"/>
                  <a:pt x="8140" y="10225"/>
                  <a:pt x="8086" y="10120"/>
                </a:cubicBezTo>
                <a:cubicBezTo>
                  <a:pt x="8030" y="10011"/>
                  <a:pt x="7947" y="9911"/>
                  <a:pt x="7863" y="9823"/>
                </a:cubicBezTo>
                <a:cubicBezTo>
                  <a:pt x="7820" y="9778"/>
                  <a:pt x="7718" y="9713"/>
                  <a:pt x="7665" y="9699"/>
                </a:cubicBezTo>
                <a:cubicBezTo>
                  <a:pt x="7597" y="9699"/>
                  <a:pt x="7575" y="9693"/>
                  <a:pt x="7565" y="9748"/>
                </a:cubicBezTo>
              </a:path>
              <a:path w="745" h="2853">
                <a:moveTo>
                  <a:pt x="8086" y="11906"/>
                </a:moveTo>
                <a:cubicBezTo>
                  <a:pt x="8086" y="11776"/>
                  <a:pt x="8077" y="11657"/>
                  <a:pt x="8062" y="11534"/>
                </a:cubicBezTo>
                <a:cubicBezTo>
                  <a:pt x="8054" y="11466"/>
                  <a:pt x="8044" y="11364"/>
                  <a:pt x="7987" y="11311"/>
                </a:cubicBezTo>
                <a:cubicBezTo>
                  <a:pt x="7934" y="11261"/>
                  <a:pt x="7872" y="11243"/>
                  <a:pt x="7813" y="11286"/>
                </a:cubicBezTo>
                <a:cubicBezTo>
                  <a:pt x="7741" y="11339"/>
                  <a:pt x="7719" y="11364"/>
                  <a:pt x="7714" y="11460"/>
                </a:cubicBezTo>
                <a:cubicBezTo>
                  <a:pt x="7710" y="11543"/>
                  <a:pt x="7760" y="11600"/>
                  <a:pt x="7813" y="11658"/>
                </a:cubicBezTo>
                <a:cubicBezTo>
                  <a:pt x="7849" y="11697"/>
                  <a:pt x="7926" y="11784"/>
                  <a:pt x="7987" y="11782"/>
                </a:cubicBezTo>
                <a:cubicBezTo>
                  <a:pt x="8079" y="11779"/>
                  <a:pt x="8105" y="11739"/>
                  <a:pt x="8161" y="11683"/>
                </a:cubicBezTo>
                <a:cubicBezTo>
                  <a:pt x="8169" y="11675"/>
                  <a:pt x="8178" y="11666"/>
                  <a:pt x="8186" y="11658"/>
                </a:cubicBezTo>
                <a:cubicBezTo>
                  <a:pt x="8176" y="11731"/>
                  <a:pt x="8161" y="11774"/>
                  <a:pt x="8161" y="11857"/>
                </a:cubicBezTo>
                <a:cubicBezTo>
                  <a:pt x="8161" y="11962"/>
                  <a:pt x="8172" y="12053"/>
                  <a:pt x="8186" y="12154"/>
                </a:cubicBezTo>
                <a:cubicBezTo>
                  <a:pt x="8197" y="12231"/>
                  <a:pt x="8223" y="12305"/>
                  <a:pt x="8235" y="12378"/>
                </a:cubicBezTo>
                <a:cubicBezTo>
                  <a:pt x="8246" y="12442"/>
                  <a:pt x="8251" y="12491"/>
                  <a:pt x="8260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3" name="Ink 23"/>
          <p:cNvSpPr/>
          <p:nvPr/>
        </p:nvSpPr>
        <p:spPr>
          <a:xfrm>
            <a:off x="1857240" y="2384280"/>
            <a:ext cx="1796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5259" y="6672"/>
                </a:moveTo>
                <a:cubicBezTo>
                  <a:pt x="5315" y="6744"/>
                  <a:pt x="5298" y="6683"/>
                  <a:pt x="5383" y="6648"/>
                </a:cubicBezTo>
                <a:cubicBezTo>
                  <a:pt x="5441" y="6625"/>
                  <a:pt x="5595" y="6588"/>
                  <a:pt x="5631" y="6672"/>
                </a:cubicBezTo>
                <a:cubicBezTo>
                  <a:pt x="5667" y="6756"/>
                  <a:pt x="5616" y="6854"/>
                  <a:pt x="5581" y="6921"/>
                </a:cubicBezTo>
                <a:cubicBezTo>
                  <a:pt x="5542" y="6995"/>
                  <a:pt x="5517" y="7016"/>
                  <a:pt x="5457" y="7069"/>
                </a:cubicBezTo>
                <a:cubicBezTo>
                  <a:pt x="5427" y="7099"/>
                  <a:pt x="5413" y="7110"/>
                  <a:pt x="5383" y="7119"/>
                </a:cubicBezTo>
                <a:cubicBezTo>
                  <a:pt x="5332" y="7093"/>
                  <a:pt x="5443" y="7057"/>
                  <a:pt x="5482" y="7069"/>
                </a:cubicBezTo>
                <a:cubicBezTo>
                  <a:pt x="5551" y="7090"/>
                  <a:pt x="5638" y="7191"/>
                  <a:pt x="5655" y="7268"/>
                </a:cubicBezTo>
                <a:cubicBezTo>
                  <a:pt x="5673" y="7349"/>
                  <a:pt x="5623" y="7388"/>
                  <a:pt x="5556" y="7392"/>
                </a:cubicBezTo>
                <a:cubicBezTo>
                  <a:pt x="5441" y="7399"/>
                  <a:pt x="5369" y="7385"/>
                  <a:pt x="5259" y="7342"/>
                </a:cubicBezTo>
                <a:cubicBezTo>
                  <a:pt x="5205" y="7315"/>
                  <a:pt x="5185" y="7303"/>
                  <a:pt x="5159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4" name="Ink 24"/>
          <p:cNvSpPr/>
          <p:nvPr/>
        </p:nvSpPr>
        <p:spPr>
          <a:xfrm>
            <a:off x="1866960" y="2874960"/>
            <a:ext cx="196920" cy="31284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5283" y="8210"/>
                </a:moveTo>
                <a:cubicBezTo>
                  <a:pt x="5334" y="8147"/>
                  <a:pt x="5365" y="8132"/>
                  <a:pt x="5432" y="8086"/>
                </a:cubicBezTo>
                <a:cubicBezTo>
                  <a:pt x="5503" y="8038"/>
                  <a:pt x="5514" y="7992"/>
                  <a:pt x="5606" y="7987"/>
                </a:cubicBezTo>
                <a:cubicBezTo>
                  <a:pt x="5735" y="7980"/>
                  <a:pt x="5726" y="8096"/>
                  <a:pt x="5730" y="8186"/>
                </a:cubicBezTo>
                <a:cubicBezTo>
                  <a:pt x="5733" y="8256"/>
                  <a:pt x="5676" y="8341"/>
                  <a:pt x="5606" y="8359"/>
                </a:cubicBezTo>
                <a:cubicBezTo>
                  <a:pt x="5554" y="8359"/>
                  <a:pt x="5536" y="8361"/>
                  <a:pt x="5531" y="8409"/>
                </a:cubicBezTo>
                <a:cubicBezTo>
                  <a:pt x="5490" y="8409"/>
                  <a:pt x="5575" y="8382"/>
                  <a:pt x="5606" y="8409"/>
                </a:cubicBezTo>
                <a:cubicBezTo>
                  <a:pt x="5645" y="8444"/>
                  <a:pt x="5718" y="8533"/>
                  <a:pt x="5730" y="8582"/>
                </a:cubicBezTo>
                <a:cubicBezTo>
                  <a:pt x="5750" y="8660"/>
                  <a:pt x="5725" y="8741"/>
                  <a:pt x="5680" y="8781"/>
                </a:cubicBezTo>
                <a:cubicBezTo>
                  <a:pt x="5654" y="8804"/>
                  <a:pt x="5562" y="8870"/>
                  <a:pt x="5531" y="8855"/>
                </a:cubicBezTo>
                <a:cubicBezTo>
                  <a:pt x="5451" y="8818"/>
                  <a:pt x="5381" y="8795"/>
                  <a:pt x="5283" y="8781"/>
                </a:cubicBezTo>
                <a:cubicBezTo>
                  <a:pt x="5227" y="8781"/>
                  <a:pt x="5205" y="8776"/>
                  <a:pt x="5184" y="87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5" name="Ink 25"/>
          <p:cNvSpPr/>
          <p:nvPr/>
        </p:nvSpPr>
        <p:spPr>
          <a:xfrm>
            <a:off x="1177920" y="2428920"/>
            <a:ext cx="250920" cy="31284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3547" y="6747"/>
                </a:moveTo>
                <a:cubicBezTo>
                  <a:pt x="3581" y="6859"/>
                  <a:pt x="3572" y="6974"/>
                  <a:pt x="3572" y="7094"/>
                </a:cubicBezTo>
                <a:cubicBezTo>
                  <a:pt x="3572" y="7201"/>
                  <a:pt x="3606" y="7292"/>
                  <a:pt x="3621" y="7392"/>
                </a:cubicBezTo>
                <a:cubicBezTo>
                  <a:pt x="3631" y="7459"/>
                  <a:pt x="3658" y="7479"/>
                  <a:pt x="3621" y="7541"/>
                </a:cubicBezTo>
              </a:path>
              <a:path w="696" h="869">
                <a:moveTo>
                  <a:pt x="3274" y="7367"/>
                </a:moveTo>
                <a:cubicBezTo>
                  <a:pt x="3299" y="7456"/>
                  <a:pt x="3294" y="7494"/>
                  <a:pt x="3373" y="7541"/>
                </a:cubicBezTo>
                <a:cubicBezTo>
                  <a:pt x="3435" y="7577"/>
                  <a:pt x="3474" y="7611"/>
                  <a:pt x="3547" y="7615"/>
                </a:cubicBezTo>
                <a:cubicBezTo>
                  <a:pt x="3632" y="7620"/>
                  <a:pt x="3682" y="7580"/>
                  <a:pt x="3746" y="7541"/>
                </a:cubicBezTo>
                <a:cubicBezTo>
                  <a:pt x="3831" y="7489"/>
                  <a:pt x="3872" y="7431"/>
                  <a:pt x="3919" y="7342"/>
                </a:cubicBezTo>
                <a:cubicBezTo>
                  <a:pt x="3945" y="7293"/>
                  <a:pt x="3943" y="7261"/>
                  <a:pt x="3969" y="72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6" name="Ink 26"/>
          <p:cNvSpPr/>
          <p:nvPr/>
        </p:nvSpPr>
        <p:spPr>
          <a:xfrm>
            <a:off x="1357200" y="2963880"/>
            <a:ext cx="17640" cy="250920"/>
          </a:xfrm>
          <a:custGeom>
            <a:avLst/>
            <a:gdLst/>
            <a:ahLst/>
            <a:rect l="l" t="t" r="r" b="b"/>
            <a:pathLst>
              <a:path w="51" h="696">
                <a:moveTo>
                  <a:pt x="3770" y="8235"/>
                </a:moveTo>
                <a:cubicBezTo>
                  <a:pt x="3770" y="8379"/>
                  <a:pt x="3771" y="8495"/>
                  <a:pt x="3795" y="8632"/>
                </a:cubicBezTo>
                <a:cubicBezTo>
                  <a:pt x="3808" y="8703"/>
                  <a:pt x="3811" y="8787"/>
                  <a:pt x="3820" y="8855"/>
                </a:cubicBezTo>
                <a:cubicBezTo>
                  <a:pt x="3820" y="8913"/>
                  <a:pt x="3837" y="8938"/>
                  <a:pt x="3795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7" name="Ink 27"/>
          <p:cNvSpPr/>
          <p:nvPr/>
        </p:nvSpPr>
        <p:spPr>
          <a:xfrm>
            <a:off x="1785960" y="3490920"/>
            <a:ext cx="519120" cy="938160"/>
          </a:xfrm>
          <a:custGeom>
            <a:avLst/>
            <a:gdLst/>
            <a:ahLst/>
            <a:rect l="l" t="t" r="r" b="b"/>
            <a:pathLst>
              <a:path w="1440" h="2605">
                <a:moveTo>
                  <a:pt x="4961" y="10046"/>
                </a:moveTo>
                <a:cubicBezTo>
                  <a:pt x="5073" y="10046"/>
                  <a:pt x="5118" y="10025"/>
                  <a:pt x="5209" y="9996"/>
                </a:cubicBezTo>
                <a:cubicBezTo>
                  <a:pt x="5248" y="9984"/>
                  <a:pt x="5317" y="9996"/>
                  <a:pt x="5358" y="9996"/>
                </a:cubicBezTo>
              </a:path>
              <a:path w="1440" h="2605">
                <a:moveTo>
                  <a:pt x="5432" y="9773"/>
                </a:moveTo>
                <a:cubicBezTo>
                  <a:pt x="5484" y="9645"/>
                  <a:pt x="5522" y="9722"/>
                  <a:pt x="5606" y="9748"/>
                </a:cubicBezTo>
                <a:cubicBezTo>
                  <a:pt x="5668" y="9767"/>
                  <a:pt x="5699" y="9761"/>
                  <a:pt x="5705" y="9847"/>
                </a:cubicBezTo>
                <a:cubicBezTo>
                  <a:pt x="5708" y="9889"/>
                  <a:pt x="5633" y="10026"/>
                  <a:pt x="5606" y="10046"/>
                </a:cubicBezTo>
                <a:cubicBezTo>
                  <a:pt x="5577" y="10067"/>
                  <a:pt x="5441" y="10109"/>
                  <a:pt x="5407" y="10120"/>
                </a:cubicBezTo>
                <a:cubicBezTo>
                  <a:pt x="5472" y="10120"/>
                  <a:pt x="5550" y="10104"/>
                  <a:pt x="5606" y="10145"/>
                </a:cubicBezTo>
                <a:cubicBezTo>
                  <a:pt x="5705" y="10218"/>
                  <a:pt x="5834" y="10286"/>
                  <a:pt x="5854" y="10418"/>
                </a:cubicBezTo>
                <a:cubicBezTo>
                  <a:pt x="5865" y="10488"/>
                  <a:pt x="5806" y="10540"/>
                  <a:pt x="5730" y="10567"/>
                </a:cubicBezTo>
                <a:cubicBezTo>
                  <a:pt x="5646" y="10596"/>
                  <a:pt x="5583" y="10525"/>
                  <a:pt x="5507" y="10517"/>
                </a:cubicBezTo>
                <a:cubicBezTo>
                  <a:pt x="5420" y="10508"/>
                  <a:pt x="5410" y="10515"/>
                  <a:pt x="5358" y="10567"/>
                </a:cubicBezTo>
              </a:path>
              <a:path w="1440" h="2605">
                <a:moveTo>
                  <a:pt x="5730" y="11460"/>
                </a:moveTo>
                <a:cubicBezTo>
                  <a:pt x="5699" y="11553"/>
                  <a:pt x="5683" y="11641"/>
                  <a:pt x="5655" y="11733"/>
                </a:cubicBezTo>
                <a:cubicBezTo>
                  <a:pt x="5622" y="11842"/>
                  <a:pt x="5641" y="11877"/>
                  <a:pt x="5680" y="11981"/>
                </a:cubicBezTo>
                <a:cubicBezTo>
                  <a:pt x="5714" y="12071"/>
                  <a:pt x="5776" y="12143"/>
                  <a:pt x="5854" y="12204"/>
                </a:cubicBezTo>
                <a:cubicBezTo>
                  <a:pt x="5949" y="12279"/>
                  <a:pt x="6059" y="12298"/>
                  <a:pt x="6176" y="12303"/>
                </a:cubicBezTo>
                <a:cubicBezTo>
                  <a:pt x="6278" y="12307"/>
                  <a:pt x="6325" y="12234"/>
                  <a:pt x="6375" y="12154"/>
                </a:cubicBezTo>
                <a:cubicBezTo>
                  <a:pt x="6430" y="12065"/>
                  <a:pt x="6398" y="11950"/>
                  <a:pt x="6375" y="11857"/>
                </a:cubicBezTo>
                <a:cubicBezTo>
                  <a:pt x="6334" y="11687"/>
                  <a:pt x="6281" y="11564"/>
                  <a:pt x="6152" y="11435"/>
                </a:cubicBezTo>
                <a:cubicBezTo>
                  <a:pt x="6072" y="11355"/>
                  <a:pt x="5957" y="11321"/>
                  <a:pt x="5854" y="11286"/>
                </a:cubicBezTo>
                <a:cubicBezTo>
                  <a:pt x="5768" y="11257"/>
                  <a:pt x="5696" y="11261"/>
                  <a:pt x="5606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8" name="Ink 28"/>
          <p:cNvSpPr/>
          <p:nvPr/>
        </p:nvSpPr>
        <p:spPr>
          <a:xfrm>
            <a:off x="438120" y="2741760"/>
            <a:ext cx="731880" cy="536400"/>
          </a:xfrm>
          <a:custGeom>
            <a:avLst/>
            <a:gdLst/>
            <a:ahLst/>
            <a:rect l="l" t="t" r="r" b="b"/>
            <a:pathLst>
              <a:path w="2035" h="1489">
                <a:moveTo>
                  <a:pt x="3101" y="7615"/>
                </a:moveTo>
                <a:cubicBezTo>
                  <a:pt x="3148" y="7727"/>
                  <a:pt x="3150" y="7769"/>
                  <a:pt x="3150" y="7888"/>
                </a:cubicBezTo>
                <a:cubicBezTo>
                  <a:pt x="3150" y="8041"/>
                  <a:pt x="3157" y="8190"/>
                  <a:pt x="3175" y="8334"/>
                </a:cubicBezTo>
                <a:cubicBezTo>
                  <a:pt x="3189" y="8442"/>
                  <a:pt x="3211" y="8549"/>
                  <a:pt x="3225" y="8657"/>
                </a:cubicBezTo>
                <a:cubicBezTo>
                  <a:pt x="3235" y="8733"/>
                  <a:pt x="3246" y="8802"/>
                  <a:pt x="3249" y="8880"/>
                </a:cubicBezTo>
                <a:cubicBezTo>
                  <a:pt x="3249" y="8946"/>
                  <a:pt x="3249" y="8963"/>
                  <a:pt x="3249" y="9004"/>
                </a:cubicBezTo>
                <a:cubicBezTo>
                  <a:pt x="3227" y="9006"/>
                  <a:pt x="3139" y="9011"/>
                  <a:pt x="3101" y="9029"/>
                </a:cubicBezTo>
                <a:cubicBezTo>
                  <a:pt x="2991" y="9082"/>
                  <a:pt x="2914" y="9079"/>
                  <a:pt x="2778" y="9079"/>
                </a:cubicBezTo>
                <a:cubicBezTo>
                  <a:pt x="2617" y="9079"/>
                  <a:pt x="2464" y="9094"/>
                  <a:pt x="2307" y="9103"/>
                </a:cubicBezTo>
                <a:cubicBezTo>
                  <a:pt x="2168" y="9111"/>
                  <a:pt x="2025" y="9103"/>
                  <a:pt x="1885" y="9103"/>
                </a:cubicBezTo>
              </a:path>
              <a:path w="2035" h="1489">
                <a:moveTo>
                  <a:pt x="1215" y="8434"/>
                </a:moveTo>
                <a:cubicBezTo>
                  <a:pt x="1295" y="8493"/>
                  <a:pt x="1335" y="8483"/>
                  <a:pt x="1439" y="8483"/>
                </a:cubicBezTo>
                <a:cubicBezTo>
                  <a:pt x="1530" y="8483"/>
                  <a:pt x="1621" y="8483"/>
                  <a:pt x="1712" y="8483"/>
                </a:cubicBezTo>
              </a:path>
              <a:path w="2035" h="1489">
                <a:moveTo>
                  <a:pt x="2034" y="8210"/>
                </a:moveTo>
                <a:cubicBezTo>
                  <a:pt x="2109" y="8162"/>
                  <a:pt x="2205" y="8093"/>
                  <a:pt x="2307" y="8136"/>
                </a:cubicBezTo>
                <a:cubicBezTo>
                  <a:pt x="2412" y="8180"/>
                  <a:pt x="2423" y="8228"/>
                  <a:pt x="2480" y="8310"/>
                </a:cubicBezTo>
                <a:cubicBezTo>
                  <a:pt x="2508" y="8350"/>
                  <a:pt x="2478" y="8436"/>
                  <a:pt x="2431" y="8483"/>
                </a:cubicBezTo>
                <a:cubicBezTo>
                  <a:pt x="2399" y="8515"/>
                  <a:pt x="2310" y="8572"/>
                  <a:pt x="2257" y="8582"/>
                </a:cubicBezTo>
                <a:cubicBezTo>
                  <a:pt x="2241" y="8582"/>
                  <a:pt x="2224" y="8582"/>
                  <a:pt x="2208" y="8582"/>
                </a:cubicBezTo>
                <a:cubicBezTo>
                  <a:pt x="2293" y="8629"/>
                  <a:pt x="2350" y="8652"/>
                  <a:pt x="2431" y="8706"/>
                </a:cubicBezTo>
                <a:cubicBezTo>
                  <a:pt x="2488" y="8744"/>
                  <a:pt x="2578" y="8790"/>
                  <a:pt x="2555" y="8880"/>
                </a:cubicBezTo>
                <a:cubicBezTo>
                  <a:pt x="2542" y="8934"/>
                  <a:pt x="2424" y="8989"/>
                  <a:pt x="2381" y="9004"/>
                </a:cubicBezTo>
                <a:cubicBezTo>
                  <a:pt x="2290" y="9035"/>
                  <a:pt x="2225" y="8975"/>
                  <a:pt x="2158" y="8954"/>
                </a:cubicBezTo>
                <a:cubicBezTo>
                  <a:pt x="2089" y="8932"/>
                  <a:pt x="2025" y="8962"/>
                  <a:pt x="1960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79" name="Ink 29"/>
          <p:cNvSpPr/>
          <p:nvPr/>
        </p:nvSpPr>
        <p:spPr>
          <a:xfrm>
            <a:off x="1357200" y="3375000"/>
            <a:ext cx="214560" cy="1019160"/>
          </a:xfrm>
          <a:custGeom>
            <a:avLst/>
            <a:gdLst/>
            <a:ahLst/>
            <a:rect l="l" t="t" r="r" b="b"/>
            <a:pathLst>
              <a:path w="597" h="2829">
                <a:moveTo>
                  <a:pt x="3994" y="9376"/>
                </a:moveTo>
                <a:cubicBezTo>
                  <a:pt x="3977" y="9520"/>
                  <a:pt x="4008" y="9630"/>
                  <a:pt x="4018" y="9773"/>
                </a:cubicBezTo>
                <a:cubicBezTo>
                  <a:pt x="4027" y="9899"/>
                  <a:pt x="4058" y="10021"/>
                  <a:pt x="4068" y="10145"/>
                </a:cubicBezTo>
                <a:cubicBezTo>
                  <a:pt x="4076" y="10248"/>
                  <a:pt x="4104" y="10581"/>
                  <a:pt x="4043" y="10641"/>
                </a:cubicBezTo>
              </a:path>
              <a:path w="597" h="2829">
                <a:moveTo>
                  <a:pt x="3770" y="10418"/>
                </a:moveTo>
                <a:cubicBezTo>
                  <a:pt x="3790" y="10498"/>
                  <a:pt x="3830" y="10544"/>
                  <a:pt x="3845" y="10592"/>
                </a:cubicBezTo>
                <a:cubicBezTo>
                  <a:pt x="3860" y="10641"/>
                  <a:pt x="3886" y="10744"/>
                  <a:pt x="3969" y="10716"/>
                </a:cubicBezTo>
                <a:cubicBezTo>
                  <a:pt x="4005" y="10704"/>
                  <a:pt x="4122" y="10658"/>
                  <a:pt x="4142" y="10641"/>
                </a:cubicBezTo>
                <a:cubicBezTo>
                  <a:pt x="4217" y="10578"/>
                  <a:pt x="4275" y="10526"/>
                  <a:pt x="4341" y="10443"/>
                </a:cubicBezTo>
                <a:cubicBezTo>
                  <a:pt x="4349" y="10435"/>
                  <a:pt x="4358" y="10426"/>
                  <a:pt x="4366" y="10418"/>
                </a:cubicBezTo>
              </a:path>
              <a:path w="597" h="2829">
                <a:moveTo>
                  <a:pt x="4142" y="11162"/>
                </a:moveTo>
                <a:cubicBezTo>
                  <a:pt x="4176" y="11312"/>
                  <a:pt x="4171" y="11386"/>
                  <a:pt x="4167" y="11534"/>
                </a:cubicBezTo>
                <a:cubicBezTo>
                  <a:pt x="4164" y="11652"/>
                  <a:pt x="4142" y="11762"/>
                  <a:pt x="4142" y="11881"/>
                </a:cubicBezTo>
                <a:cubicBezTo>
                  <a:pt x="4142" y="11970"/>
                  <a:pt x="4131" y="12049"/>
                  <a:pt x="4167" y="12129"/>
                </a:cubicBezTo>
                <a:cubicBezTo>
                  <a:pt x="4187" y="12170"/>
                  <a:pt x="4196" y="12176"/>
                  <a:pt x="4192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0" name="Ink 30"/>
          <p:cNvSpPr/>
          <p:nvPr/>
        </p:nvSpPr>
        <p:spPr>
          <a:xfrm>
            <a:off x="847800" y="4589640"/>
            <a:ext cx="1519200" cy="554040"/>
          </a:xfrm>
          <a:custGeom>
            <a:avLst/>
            <a:gdLst/>
            <a:ahLst/>
            <a:rect l="l" t="t" r="r" b="b"/>
            <a:pathLst>
              <a:path w="4218" h="1539">
                <a:moveTo>
                  <a:pt x="2580" y="13097"/>
                </a:moveTo>
                <a:cubicBezTo>
                  <a:pt x="2551" y="13146"/>
                  <a:pt x="2529" y="13211"/>
                  <a:pt x="2505" y="13271"/>
                </a:cubicBezTo>
                <a:cubicBezTo>
                  <a:pt x="2452" y="13404"/>
                  <a:pt x="2379" y="13553"/>
                  <a:pt x="2356" y="13692"/>
                </a:cubicBezTo>
                <a:cubicBezTo>
                  <a:pt x="2339" y="13796"/>
                  <a:pt x="2349" y="13940"/>
                  <a:pt x="2381" y="14039"/>
                </a:cubicBezTo>
                <a:cubicBezTo>
                  <a:pt x="2411" y="14133"/>
                  <a:pt x="2506" y="14237"/>
                  <a:pt x="2604" y="14263"/>
                </a:cubicBezTo>
                <a:cubicBezTo>
                  <a:pt x="2708" y="14291"/>
                  <a:pt x="2825" y="14199"/>
                  <a:pt x="2853" y="14114"/>
                </a:cubicBezTo>
                <a:cubicBezTo>
                  <a:pt x="2900" y="13971"/>
                  <a:pt x="2923" y="13816"/>
                  <a:pt x="2927" y="13667"/>
                </a:cubicBezTo>
                <a:cubicBezTo>
                  <a:pt x="2932" y="13484"/>
                  <a:pt x="2870" y="13327"/>
                  <a:pt x="2778" y="13171"/>
                </a:cubicBezTo>
                <a:cubicBezTo>
                  <a:pt x="2729" y="13088"/>
                  <a:pt x="2627" y="13041"/>
                  <a:pt x="2530" y="13022"/>
                </a:cubicBezTo>
                <a:cubicBezTo>
                  <a:pt x="2438" y="13004"/>
                  <a:pt x="2408" y="13016"/>
                  <a:pt x="2431" y="13097"/>
                </a:cubicBezTo>
              </a:path>
              <a:path w="4218" h="1539">
                <a:moveTo>
                  <a:pt x="3200" y="13519"/>
                </a:moveTo>
                <a:cubicBezTo>
                  <a:pt x="3283" y="13519"/>
                  <a:pt x="3365" y="13519"/>
                  <a:pt x="3448" y="13519"/>
                </a:cubicBezTo>
              </a:path>
              <a:path w="4218" h="1539">
                <a:moveTo>
                  <a:pt x="3200" y="13841"/>
                </a:moveTo>
                <a:cubicBezTo>
                  <a:pt x="3369" y="13855"/>
                  <a:pt x="3379" y="13864"/>
                  <a:pt x="3522" y="13816"/>
                </a:cubicBezTo>
              </a:path>
              <a:path w="4218" h="1539">
                <a:moveTo>
                  <a:pt x="3919" y="13370"/>
                </a:moveTo>
                <a:cubicBezTo>
                  <a:pt x="3983" y="13433"/>
                  <a:pt x="4016" y="13495"/>
                  <a:pt x="4068" y="13568"/>
                </a:cubicBezTo>
                <a:cubicBezTo>
                  <a:pt x="4153" y="13688"/>
                  <a:pt x="4261" y="13838"/>
                  <a:pt x="4366" y="13940"/>
                </a:cubicBezTo>
                <a:cubicBezTo>
                  <a:pt x="4455" y="14026"/>
                  <a:pt x="4562" y="14120"/>
                  <a:pt x="4663" y="14188"/>
                </a:cubicBezTo>
              </a:path>
              <a:path w="4218" h="1539">
                <a:moveTo>
                  <a:pt x="4341" y="13146"/>
                </a:moveTo>
                <a:cubicBezTo>
                  <a:pt x="4298" y="13231"/>
                  <a:pt x="4289" y="13303"/>
                  <a:pt x="4266" y="13395"/>
                </a:cubicBezTo>
                <a:cubicBezTo>
                  <a:pt x="4233" y="13528"/>
                  <a:pt x="4199" y="13658"/>
                  <a:pt x="4167" y="13791"/>
                </a:cubicBezTo>
                <a:cubicBezTo>
                  <a:pt x="4140" y="13906"/>
                  <a:pt x="4089" y="14023"/>
                  <a:pt x="4068" y="14139"/>
                </a:cubicBezTo>
                <a:cubicBezTo>
                  <a:pt x="4060" y="14182"/>
                  <a:pt x="4051" y="14221"/>
                  <a:pt x="4043" y="14263"/>
                </a:cubicBezTo>
              </a:path>
              <a:path w="4218" h="1539">
                <a:moveTo>
                  <a:pt x="4465" y="12799"/>
                </a:moveTo>
                <a:cubicBezTo>
                  <a:pt x="4627" y="12752"/>
                  <a:pt x="4603" y="12735"/>
                  <a:pt x="4688" y="12849"/>
                </a:cubicBezTo>
                <a:cubicBezTo>
                  <a:pt x="4715" y="12886"/>
                  <a:pt x="4732" y="12973"/>
                  <a:pt x="4713" y="13022"/>
                </a:cubicBezTo>
                <a:cubicBezTo>
                  <a:pt x="4690" y="13081"/>
                  <a:pt x="4605" y="13102"/>
                  <a:pt x="4589" y="13171"/>
                </a:cubicBezTo>
                <a:cubicBezTo>
                  <a:pt x="4565" y="13274"/>
                  <a:pt x="4693" y="13268"/>
                  <a:pt x="4762" y="13271"/>
                </a:cubicBezTo>
                <a:cubicBezTo>
                  <a:pt x="4826" y="13274"/>
                  <a:pt x="4886" y="13290"/>
                  <a:pt x="4936" y="13320"/>
                </a:cubicBezTo>
              </a:path>
              <a:path w="4218" h="1539">
                <a:moveTo>
                  <a:pt x="5457" y="13271"/>
                </a:moveTo>
                <a:cubicBezTo>
                  <a:pt x="5485" y="13372"/>
                  <a:pt x="5461" y="13398"/>
                  <a:pt x="5457" y="13494"/>
                </a:cubicBezTo>
                <a:cubicBezTo>
                  <a:pt x="5453" y="13584"/>
                  <a:pt x="5472" y="13660"/>
                  <a:pt x="5482" y="13742"/>
                </a:cubicBezTo>
                <a:cubicBezTo>
                  <a:pt x="5491" y="13814"/>
                  <a:pt x="5500" y="13868"/>
                  <a:pt x="5507" y="13940"/>
                </a:cubicBezTo>
              </a:path>
              <a:path w="4218" h="1539">
                <a:moveTo>
                  <a:pt x="5159" y="13419"/>
                </a:moveTo>
                <a:cubicBezTo>
                  <a:pt x="5242" y="13399"/>
                  <a:pt x="5317" y="13417"/>
                  <a:pt x="5407" y="13444"/>
                </a:cubicBezTo>
                <a:cubicBezTo>
                  <a:pt x="5490" y="13469"/>
                  <a:pt x="5577" y="13468"/>
                  <a:pt x="5655" y="13494"/>
                </a:cubicBezTo>
                <a:cubicBezTo>
                  <a:pt x="5729" y="13519"/>
                  <a:pt x="5730" y="13519"/>
                  <a:pt x="5730" y="13519"/>
                </a:cubicBezTo>
              </a:path>
              <a:path w="4218" h="1539">
                <a:moveTo>
                  <a:pt x="6499" y="13568"/>
                </a:moveTo>
                <a:cubicBezTo>
                  <a:pt x="6553" y="13501"/>
                  <a:pt x="6527" y="13469"/>
                  <a:pt x="6548" y="13395"/>
                </a:cubicBezTo>
                <a:cubicBezTo>
                  <a:pt x="6572" y="13308"/>
                  <a:pt x="6553" y="13284"/>
                  <a:pt x="6548" y="13196"/>
                </a:cubicBezTo>
                <a:cubicBezTo>
                  <a:pt x="6543" y="13105"/>
                  <a:pt x="6514" y="13075"/>
                  <a:pt x="6449" y="13022"/>
                </a:cubicBezTo>
                <a:cubicBezTo>
                  <a:pt x="6389" y="12973"/>
                  <a:pt x="6352" y="12973"/>
                  <a:pt x="6276" y="12973"/>
                </a:cubicBezTo>
                <a:cubicBezTo>
                  <a:pt x="6216" y="12973"/>
                  <a:pt x="6161" y="12993"/>
                  <a:pt x="6127" y="13047"/>
                </a:cubicBezTo>
                <a:cubicBezTo>
                  <a:pt x="6072" y="13132"/>
                  <a:pt x="6127" y="13218"/>
                  <a:pt x="6176" y="13295"/>
                </a:cubicBezTo>
                <a:cubicBezTo>
                  <a:pt x="6208" y="13346"/>
                  <a:pt x="6275" y="13389"/>
                  <a:pt x="6325" y="13419"/>
                </a:cubicBezTo>
                <a:cubicBezTo>
                  <a:pt x="6401" y="13464"/>
                  <a:pt x="6446" y="13423"/>
                  <a:pt x="6499" y="13370"/>
                </a:cubicBezTo>
                <a:cubicBezTo>
                  <a:pt x="6529" y="13340"/>
                  <a:pt x="6540" y="13326"/>
                  <a:pt x="6548" y="13295"/>
                </a:cubicBezTo>
                <a:cubicBezTo>
                  <a:pt x="6488" y="13296"/>
                  <a:pt x="6477" y="13405"/>
                  <a:pt x="6474" y="13494"/>
                </a:cubicBezTo>
                <a:cubicBezTo>
                  <a:pt x="6469" y="13614"/>
                  <a:pt x="6489" y="13724"/>
                  <a:pt x="6499" y="13841"/>
                </a:cubicBezTo>
                <a:cubicBezTo>
                  <a:pt x="6511" y="13988"/>
                  <a:pt x="6499" y="14141"/>
                  <a:pt x="6499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1" name="Ink 31"/>
          <p:cNvSpPr/>
          <p:nvPr/>
        </p:nvSpPr>
        <p:spPr>
          <a:xfrm>
            <a:off x="482760" y="5197320"/>
            <a:ext cx="1768320" cy="741600"/>
          </a:xfrm>
          <a:custGeom>
            <a:avLst/>
            <a:gdLst/>
            <a:ahLst/>
            <a:rect l="l" t="t" r="r" b="b"/>
            <a:pathLst>
              <a:path w="4913" h="2060">
                <a:moveTo>
                  <a:pt x="5234" y="14883"/>
                </a:moveTo>
                <a:cubicBezTo>
                  <a:pt x="5332" y="14883"/>
                  <a:pt x="5411" y="14876"/>
                  <a:pt x="5507" y="14858"/>
                </a:cubicBezTo>
              </a:path>
              <a:path w="4913" h="2060">
                <a:moveTo>
                  <a:pt x="6251" y="14610"/>
                </a:moveTo>
                <a:cubicBezTo>
                  <a:pt x="6188" y="14493"/>
                  <a:pt x="6185" y="14466"/>
                  <a:pt x="6052" y="14461"/>
                </a:cubicBezTo>
                <a:cubicBezTo>
                  <a:pt x="5989" y="14459"/>
                  <a:pt x="5856" y="14485"/>
                  <a:pt x="5829" y="14560"/>
                </a:cubicBezTo>
                <a:cubicBezTo>
                  <a:pt x="5808" y="14617"/>
                  <a:pt x="5833" y="14719"/>
                  <a:pt x="5879" y="14759"/>
                </a:cubicBezTo>
                <a:cubicBezTo>
                  <a:pt x="5940" y="14812"/>
                  <a:pt x="6033" y="14813"/>
                  <a:pt x="6102" y="14784"/>
                </a:cubicBezTo>
                <a:cubicBezTo>
                  <a:pt x="6146" y="14765"/>
                  <a:pt x="6190" y="14695"/>
                  <a:pt x="6226" y="14660"/>
                </a:cubicBezTo>
                <a:cubicBezTo>
                  <a:pt x="6178" y="14803"/>
                  <a:pt x="6217" y="14928"/>
                  <a:pt x="6226" y="15081"/>
                </a:cubicBezTo>
                <a:cubicBezTo>
                  <a:pt x="6237" y="15270"/>
                  <a:pt x="6226" y="15463"/>
                  <a:pt x="6226" y="15652"/>
                </a:cubicBezTo>
              </a:path>
              <a:path w="4913" h="2060">
                <a:moveTo>
                  <a:pt x="2084" y="14734"/>
                </a:moveTo>
                <a:cubicBezTo>
                  <a:pt x="2128" y="14734"/>
                  <a:pt x="2142" y="14737"/>
                  <a:pt x="2158" y="14709"/>
                </a:cubicBezTo>
              </a:path>
              <a:path w="4913" h="2060">
                <a:moveTo>
                  <a:pt x="2902" y="14560"/>
                </a:moveTo>
                <a:cubicBezTo>
                  <a:pt x="2910" y="14544"/>
                  <a:pt x="2919" y="14527"/>
                  <a:pt x="2927" y="14511"/>
                </a:cubicBezTo>
              </a:path>
              <a:path w="4913" h="2060">
                <a:moveTo>
                  <a:pt x="2977" y="14486"/>
                </a:moveTo>
                <a:cubicBezTo>
                  <a:pt x="2897" y="14422"/>
                  <a:pt x="2851" y="14432"/>
                  <a:pt x="2753" y="14461"/>
                </a:cubicBezTo>
                <a:cubicBezTo>
                  <a:pt x="2667" y="14487"/>
                  <a:pt x="2625" y="14509"/>
                  <a:pt x="2580" y="14585"/>
                </a:cubicBezTo>
                <a:cubicBezTo>
                  <a:pt x="2545" y="14644"/>
                  <a:pt x="2542" y="14714"/>
                  <a:pt x="2604" y="14759"/>
                </a:cubicBezTo>
                <a:cubicBezTo>
                  <a:pt x="2668" y="14805"/>
                  <a:pt x="2720" y="14791"/>
                  <a:pt x="2778" y="14784"/>
                </a:cubicBezTo>
                <a:cubicBezTo>
                  <a:pt x="2818" y="14779"/>
                  <a:pt x="2887" y="14761"/>
                  <a:pt x="2902" y="14709"/>
                </a:cubicBezTo>
                <a:cubicBezTo>
                  <a:pt x="2918" y="14652"/>
                  <a:pt x="2921" y="14625"/>
                  <a:pt x="2927" y="14560"/>
                </a:cubicBezTo>
                <a:cubicBezTo>
                  <a:pt x="2883" y="14658"/>
                  <a:pt x="2877" y="14726"/>
                  <a:pt x="2877" y="14833"/>
                </a:cubicBezTo>
                <a:cubicBezTo>
                  <a:pt x="2877" y="14955"/>
                  <a:pt x="2905" y="15067"/>
                  <a:pt x="2952" y="15180"/>
                </a:cubicBezTo>
                <a:cubicBezTo>
                  <a:pt x="2960" y="15197"/>
                  <a:pt x="2969" y="15213"/>
                  <a:pt x="2977" y="15230"/>
                </a:cubicBezTo>
              </a:path>
              <a:path w="4913" h="2060">
                <a:moveTo>
                  <a:pt x="2257" y="15925"/>
                </a:moveTo>
                <a:cubicBezTo>
                  <a:pt x="2327" y="15979"/>
                  <a:pt x="2367" y="15974"/>
                  <a:pt x="2456" y="15974"/>
                </a:cubicBezTo>
                <a:cubicBezTo>
                  <a:pt x="2524" y="15974"/>
                  <a:pt x="2586" y="15955"/>
                  <a:pt x="2654" y="15949"/>
                </a:cubicBezTo>
              </a:path>
              <a:path w="4913" h="2060">
                <a:moveTo>
                  <a:pt x="3175" y="15627"/>
                </a:moveTo>
                <a:cubicBezTo>
                  <a:pt x="3167" y="15586"/>
                  <a:pt x="3158" y="15544"/>
                  <a:pt x="3150" y="15503"/>
                </a:cubicBezTo>
                <a:cubicBezTo>
                  <a:pt x="3028" y="15503"/>
                  <a:pt x="2949" y="15535"/>
                  <a:pt x="2853" y="15627"/>
                </a:cubicBezTo>
                <a:cubicBezTo>
                  <a:pt x="2804" y="15674"/>
                  <a:pt x="2823" y="15776"/>
                  <a:pt x="2853" y="15825"/>
                </a:cubicBezTo>
                <a:cubicBezTo>
                  <a:pt x="2887" y="15882"/>
                  <a:pt x="2961" y="15916"/>
                  <a:pt x="3026" y="15900"/>
                </a:cubicBezTo>
                <a:cubicBezTo>
                  <a:pt x="3071" y="15889"/>
                  <a:pt x="3111" y="15826"/>
                  <a:pt x="3150" y="15801"/>
                </a:cubicBezTo>
                <a:cubicBezTo>
                  <a:pt x="3167" y="15793"/>
                  <a:pt x="3183" y="15784"/>
                  <a:pt x="3200" y="15776"/>
                </a:cubicBezTo>
                <a:cubicBezTo>
                  <a:pt x="3238" y="15839"/>
                  <a:pt x="3247" y="15920"/>
                  <a:pt x="3249" y="15999"/>
                </a:cubicBezTo>
                <a:cubicBezTo>
                  <a:pt x="3254" y="16164"/>
                  <a:pt x="3249" y="16330"/>
                  <a:pt x="3249" y="16495"/>
                </a:cubicBezTo>
              </a:path>
              <a:path w="4913" h="2060">
                <a:moveTo>
                  <a:pt x="3497" y="15825"/>
                </a:moveTo>
                <a:cubicBezTo>
                  <a:pt x="3603" y="15832"/>
                  <a:pt x="3700" y="15861"/>
                  <a:pt x="3795" y="15875"/>
                </a:cubicBezTo>
              </a:path>
              <a:path w="4913" h="2060">
                <a:moveTo>
                  <a:pt x="3522" y="16049"/>
                </a:moveTo>
                <a:cubicBezTo>
                  <a:pt x="3848" y="16070"/>
                  <a:pt x="3749" y="16086"/>
                  <a:pt x="4043" y="15900"/>
                </a:cubicBezTo>
              </a:path>
              <a:path w="4913" h="2060">
                <a:moveTo>
                  <a:pt x="4093" y="15577"/>
                </a:moveTo>
                <a:cubicBezTo>
                  <a:pt x="4170" y="15786"/>
                  <a:pt x="4249" y="15994"/>
                  <a:pt x="4341" y="16197"/>
                </a:cubicBezTo>
                <a:cubicBezTo>
                  <a:pt x="4379" y="16280"/>
                  <a:pt x="4405" y="16311"/>
                  <a:pt x="4465" y="16371"/>
                </a:cubicBezTo>
              </a:path>
              <a:path w="4913" h="2060">
                <a:moveTo>
                  <a:pt x="4366" y="15652"/>
                </a:moveTo>
                <a:cubicBezTo>
                  <a:pt x="4235" y="15864"/>
                  <a:pt x="4196" y="15995"/>
                  <a:pt x="4118" y="16222"/>
                </a:cubicBezTo>
                <a:cubicBezTo>
                  <a:pt x="4096" y="16287"/>
                  <a:pt x="4095" y="16342"/>
                  <a:pt x="4068" y="16396"/>
                </a:cubicBezTo>
              </a:path>
              <a:path w="4913" h="2060">
                <a:moveTo>
                  <a:pt x="4341" y="15106"/>
                </a:moveTo>
                <a:cubicBezTo>
                  <a:pt x="4378" y="15115"/>
                  <a:pt x="4661" y="15133"/>
                  <a:pt x="4638" y="15255"/>
                </a:cubicBezTo>
                <a:cubicBezTo>
                  <a:pt x="4629" y="15304"/>
                  <a:pt x="4528" y="15331"/>
                  <a:pt x="4514" y="15379"/>
                </a:cubicBezTo>
                <a:cubicBezTo>
                  <a:pt x="4484" y="15485"/>
                  <a:pt x="4576" y="15526"/>
                  <a:pt x="4638" y="15577"/>
                </a:cubicBezTo>
                <a:cubicBezTo>
                  <a:pt x="4711" y="15638"/>
                  <a:pt x="4774" y="15663"/>
                  <a:pt x="4862" y="15701"/>
                </a:cubicBezTo>
              </a:path>
              <a:path w="4913" h="2060">
                <a:moveTo>
                  <a:pt x="4068" y="15776"/>
                </a:moveTo>
                <a:cubicBezTo>
                  <a:pt x="4068" y="15883"/>
                  <a:pt x="4049" y="16000"/>
                  <a:pt x="4093" y="16098"/>
                </a:cubicBezTo>
                <a:cubicBezTo>
                  <a:pt x="4115" y="16142"/>
                  <a:pt x="4118" y="16153"/>
                  <a:pt x="4142" y="16173"/>
                </a:cubicBezTo>
                <a:cubicBezTo>
                  <a:pt x="4107" y="16075"/>
                  <a:pt x="4072" y="15978"/>
                  <a:pt x="4043" y="15875"/>
                </a:cubicBezTo>
                <a:cubicBezTo>
                  <a:pt x="3999" y="15717"/>
                  <a:pt x="3937" y="15542"/>
                  <a:pt x="3919" y="15379"/>
                </a:cubicBezTo>
                <a:cubicBezTo>
                  <a:pt x="3903" y="15233"/>
                  <a:pt x="3900" y="15062"/>
                  <a:pt x="4018" y="14957"/>
                </a:cubicBezTo>
                <a:cubicBezTo>
                  <a:pt x="4094" y="14889"/>
                  <a:pt x="4261" y="14950"/>
                  <a:pt x="4341" y="14982"/>
                </a:cubicBezTo>
                <a:cubicBezTo>
                  <a:pt x="4430" y="15027"/>
                  <a:pt x="4453" y="15040"/>
                  <a:pt x="4514" y="15056"/>
                </a:cubicBezTo>
              </a:path>
              <a:path w="4913" h="2060">
                <a:moveTo>
                  <a:pt x="1860" y="15553"/>
                </a:moveTo>
                <a:cubicBezTo>
                  <a:pt x="1828" y="15750"/>
                  <a:pt x="1783" y="15908"/>
                  <a:pt x="1836" y="16098"/>
                </a:cubicBezTo>
                <a:cubicBezTo>
                  <a:pt x="1860" y="16184"/>
                  <a:pt x="1869" y="16164"/>
                  <a:pt x="1910" y="16222"/>
                </a:cubicBezTo>
                <a:cubicBezTo>
                  <a:pt x="1956" y="16146"/>
                  <a:pt x="1920" y="16110"/>
                  <a:pt x="1910" y="16024"/>
                </a:cubicBezTo>
                <a:cubicBezTo>
                  <a:pt x="1898" y="15919"/>
                  <a:pt x="1888" y="15806"/>
                  <a:pt x="1885" y="15701"/>
                </a:cubicBezTo>
                <a:cubicBezTo>
                  <a:pt x="1881" y="15581"/>
                  <a:pt x="1904" y="15445"/>
                  <a:pt x="1935" y="15329"/>
                </a:cubicBezTo>
                <a:cubicBezTo>
                  <a:pt x="1956" y="15249"/>
                  <a:pt x="2039" y="15104"/>
                  <a:pt x="2108" y="15056"/>
                </a:cubicBezTo>
                <a:cubicBezTo>
                  <a:pt x="2187" y="15001"/>
                  <a:pt x="2291" y="15007"/>
                  <a:pt x="2381" y="15007"/>
                </a:cubicBezTo>
                <a:cubicBezTo>
                  <a:pt x="2522" y="15007"/>
                  <a:pt x="2667" y="15042"/>
                  <a:pt x="2803" y="15081"/>
                </a:cubicBezTo>
                <a:cubicBezTo>
                  <a:pt x="2877" y="15106"/>
                  <a:pt x="2902" y="15115"/>
                  <a:pt x="2952" y="15131"/>
                </a:cubicBezTo>
              </a:path>
              <a:path w="4913" h="2060">
                <a:moveTo>
                  <a:pt x="1513" y="14957"/>
                </a:moveTo>
                <a:cubicBezTo>
                  <a:pt x="1513" y="15092"/>
                  <a:pt x="1473" y="15383"/>
                  <a:pt x="1538" y="15528"/>
                </a:cubicBezTo>
                <a:cubicBezTo>
                  <a:pt x="1546" y="15536"/>
                  <a:pt x="1555" y="15545"/>
                  <a:pt x="1563" y="15553"/>
                </a:cubicBezTo>
              </a:path>
              <a:path w="4913" h="2060">
                <a:moveTo>
                  <a:pt x="1389" y="15156"/>
                </a:moveTo>
                <a:cubicBezTo>
                  <a:pt x="1467" y="15232"/>
                  <a:pt x="1554" y="15280"/>
                  <a:pt x="1662" y="15304"/>
                </a:cubicBezTo>
                <a:cubicBezTo>
                  <a:pt x="1679" y="15304"/>
                  <a:pt x="1695" y="15304"/>
                  <a:pt x="1712" y="15304"/>
                </a:cubicBezTo>
              </a:path>
              <a:path w="4913" h="2060">
                <a:moveTo>
                  <a:pt x="1339" y="15553"/>
                </a:moveTo>
                <a:cubicBezTo>
                  <a:pt x="1470" y="15568"/>
                  <a:pt x="1582" y="15577"/>
                  <a:pt x="1712" y="155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2" name="Ink 32"/>
          <p:cNvSpPr/>
          <p:nvPr/>
        </p:nvSpPr>
        <p:spPr>
          <a:xfrm>
            <a:off x="776160" y="5973840"/>
            <a:ext cx="920880" cy="376200"/>
          </a:xfrm>
          <a:custGeom>
            <a:avLst/>
            <a:gdLst/>
            <a:ahLst/>
            <a:rect l="l" t="t" r="r" b="b"/>
            <a:pathLst>
              <a:path w="2556" h="1043">
                <a:moveTo>
                  <a:pt x="2406" y="16594"/>
                </a:moveTo>
                <a:cubicBezTo>
                  <a:pt x="2406" y="16708"/>
                  <a:pt x="2397" y="16807"/>
                  <a:pt x="2381" y="16917"/>
                </a:cubicBezTo>
                <a:cubicBezTo>
                  <a:pt x="2375" y="16956"/>
                  <a:pt x="2381" y="17001"/>
                  <a:pt x="2381" y="17041"/>
                </a:cubicBezTo>
              </a:path>
              <a:path w="2556" h="1043">
                <a:moveTo>
                  <a:pt x="2183" y="16669"/>
                </a:moveTo>
                <a:cubicBezTo>
                  <a:pt x="2341" y="16708"/>
                  <a:pt x="2445" y="16718"/>
                  <a:pt x="2604" y="16718"/>
                </a:cubicBezTo>
              </a:path>
              <a:path w="2556" h="1043">
                <a:moveTo>
                  <a:pt x="2158" y="17115"/>
                </a:moveTo>
                <a:cubicBezTo>
                  <a:pt x="2295" y="17139"/>
                  <a:pt x="2350" y="17130"/>
                  <a:pt x="2480" y="17115"/>
                </a:cubicBezTo>
                <a:cubicBezTo>
                  <a:pt x="2505" y="17115"/>
                  <a:pt x="2530" y="17115"/>
                  <a:pt x="2555" y="17115"/>
                </a:cubicBezTo>
              </a:path>
              <a:path w="2556" h="1043">
                <a:moveTo>
                  <a:pt x="2853" y="16768"/>
                </a:moveTo>
                <a:cubicBezTo>
                  <a:pt x="2950" y="16768"/>
                  <a:pt x="3018" y="16761"/>
                  <a:pt x="3101" y="16818"/>
                </a:cubicBezTo>
                <a:cubicBezTo>
                  <a:pt x="3146" y="16849"/>
                  <a:pt x="3179" y="16901"/>
                  <a:pt x="3125" y="16942"/>
                </a:cubicBezTo>
                <a:cubicBezTo>
                  <a:pt x="3068" y="16985"/>
                  <a:pt x="3009" y="16989"/>
                  <a:pt x="2952" y="17016"/>
                </a:cubicBezTo>
                <a:cubicBezTo>
                  <a:pt x="2873" y="17053"/>
                  <a:pt x="2924" y="17110"/>
                  <a:pt x="2952" y="17165"/>
                </a:cubicBezTo>
                <a:cubicBezTo>
                  <a:pt x="2995" y="17249"/>
                  <a:pt x="3047" y="17372"/>
                  <a:pt x="2927" y="17388"/>
                </a:cubicBezTo>
                <a:cubicBezTo>
                  <a:pt x="2882" y="17394"/>
                  <a:pt x="2754" y="17364"/>
                  <a:pt x="2729" y="17314"/>
                </a:cubicBezTo>
                <a:cubicBezTo>
                  <a:pt x="2708" y="17271"/>
                  <a:pt x="2715" y="17243"/>
                  <a:pt x="2729" y="17214"/>
                </a:cubicBezTo>
              </a:path>
              <a:path w="2556" h="1043">
                <a:moveTo>
                  <a:pt x="3299" y="17165"/>
                </a:moveTo>
                <a:cubicBezTo>
                  <a:pt x="3273" y="17281"/>
                  <a:pt x="3223" y="17416"/>
                  <a:pt x="3249" y="17537"/>
                </a:cubicBezTo>
                <a:cubicBezTo>
                  <a:pt x="3274" y="17587"/>
                  <a:pt x="3282" y="17603"/>
                  <a:pt x="3299" y="17636"/>
                </a:cubicBezTo>
              </a:path>
              <a:path w="2556" h="1043">
                <a:moveTo>
                  <a:pt x="3398" y="16718"/>
                </a:moveTo>
                <a:cubicBezTo>
                  <a:pt x="3415" y="16735"/>
                  <a:pt x="3431" y="16751"/>
                  <a:pt x="3448" y="16768"/>
                </a:cubicBezTo>
              </a:path>
              <a:path w="2556" h="1043">
                <a:moveTo>
                  <a:pt x="3845" y="16991"/>
                </a:moveTo>
                <a:cubicBezTo>
                  <a:pt x="3988" y="17056"/>
                  <a:pt x="3971" y="17066"/>
                  <a:pt x="4093" y="17066"/>
                </a:cubicBezTo>
              </a:path>
              <a:path w="2556" h="1043">
                <a:moveTo>
                  <a:pt x="3746" y="17289"/>
                </a:moveTo>
                <a:cubicBezTo>
                  <a:pt x="3869" y="17371"/>
                  <a:pt x="3860" y="17385"/>
                  <a:pt x="3994" y="17363"/>
                </a:cubicBezTo>
              </a:path>
              <a:path w="2556" h="1043">
                <a:moveTo>
                  <a:pt x="4291" y="16867"/>
                </a:moveTo>
                <a:cubicBezTo>
                  <a:pt x="4299" y="17031"/>
                  <a:pt x="4330" y="17176"/>
                  <a:pt x="4366" y="17338"/>
                </a:cubicBezTo>
                <a:cubicBezTo>
                  <a:pt x="4391" y="17441"/>
                  <a:pt x="4400" y="17476"/>
                  <a:pt x="4440" y="17537"/>
                </a:cubicBezTo>
              </a:path>
              <a:path w="2556" h="1043">
                <a:moveTo>
                  <a:pt x="4713" y="16917"/>
                </a:moveTo>
                <a:cubicBezTo>
                  <a:pt x="4555" y="16978"/>
                  <a:pt x="4439" y="17047"/>
                  <a:pt x="4316" y="17165"/>
                </a:cubicBezTo>
                <a:cubicBezTo>
                  <a:pt x="4203" y="17272"/>
                  <a:pt x="4095" y="17371"/>
                  <a:pt x="3994" y="174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3" name="Ink 33"/>
          <p:cNvSpPr/>
          <p:nvPr/>
        </p:nvSpPr>
        <p:spPr>
          <a:xfrm>
            <a:off x="1152360" y="2652840"/>
            <a:ext cx="3330720" cy="125280"/>
          </a:xfrm>
          <a:custGeom>
            <a:avLst/>
            <a:gdLst/>
            <a:ahLst/>
            <a:rect l="l" t="t" r="r" b="b"/>
            <a:pathLst>
              <a:path w="9253" h="348">
                <a:moveTo>
                  <a:pt x="12452" y="7367"/>
                </a:moveTo>
                <a:cubicBezTo>
                  <a:pt x="12377" y="7376"/>
                  <a:pt x="12306" y="7381"/>
                  <a:pt x="12229" y="7392"/>
                </a:cubicBezTo>
                <a:cubicBezTo>
                  <a:pt x="12096" y="7410"/>
                  <a:pt x="11967" y="7415"/>
                  <a:pt x="11832" y="7417"/>
                </a:cubicBezTo>
                <a:cubicBezTo>
                  <a:pt x="10980" y="7427"/>
                  <a:pt x="10128" y="7441"/>
                  <a:pt x="9277" y="7441"/>
                </a:cubicBezTo>
                <a:cubicBezTo>
                  <a:pt x="9037" y="7441"/>
                  <a:pt x="8800" y="7466"/>
                  <a:pt x="8558" y="7466"/>
                </a:cubicBezTo>
                <a:cubicBezTo>
                  <a:pt x="8233" y="7466"/>
                  <a:pt x="7913" y="7477"/>
                  <a:pt x="7590" y="7491"/>
                </a:cubicBezTo>
                <a:cubicBezTo>
                  <a:pt x="7187" y="7508"/>
                  <a:pt x="6778" y="7511"/>
                  <a:pt x="6375" y="7516"/>
                </a:cubicBezTo>
                <a:cubicBezTo>
                  <a:pt x="6100" y="7520"/>
                  <a:pt x="5830" y="7537"/>
                  <a:pt x="5556" y="7541"/>
                </a:cubicBezTo>
                <a:cubicBezTo>
                  <a:pt x="5306" y="7544"/>
                  <a:pt x="5061" y="7578"/>
                  <a:pt x="4812" y="7590"/>
                </a:cubicBezTo>
                <a:cubicBezTo>
                  <a:pt x="4595" y="7600"/>
                  <a:pt x="4383" y="7617"/>
                  <a:pt x="4167" y="7640"/>
                </a:cubicBezTo>
                <a:cubicBezTo>
                  <a:pt x="4010" y="7657"/>
                  <a:pt x="3853" y="7652"/>
                  <a:pt x="3696" y="7665"/>
                </a:cubicBezTo>
                <a:cubicBezTo>
                  <a:pt x="3594" y="7673"/>
                  <a:pt x="3500" y="7684"/>
                  <a:pt x="3398" y="7689"/>
                </a:cubicBezTo>
                <a:cubicBezTo>
                  <a:pt x="3336" y="7692"/>
                  <a:pt x="3223" y="7711"/>
                  <a:pt x="3200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4" name="Ink 34"/>
          <p:cNvSpPr/>
          <p:nvPr/>
        </p:nvSpPr>
        <p:spPr>
          <a:xfrm>
            <a:off x="1133640" y="3938760"/>
            <a:ext cx="3554280" cy="125280"/>
          </a:xfrm>
          <a:custGeom>
            <a:avLst/>
            <a:gdLst/>
            <a:ahLst/>
            <a:rect l="l" t="t" r="r" b="b"/>
            <a:pathLst>
              <a:path w="9873" h="348">
                <a:moveTo>
                  <a:pt x="3150" y="10988"/>
                </a:moveTo>
                <a:cubicBezTo>
                  <a:pt x="3289" y="10965"/>
                  <a:pt x="3394" y="10959"/>
                  <a:pt x="3547" y="10964"/>
                </a:cubicBezTo>
                <a:cubicBezTo>
                  <a:pt x="3870" y="10974"/>
                  <a:pt x="4192" y="10984"/>
                  <a:pt x="4514" y="10988"/>
                </a:cubicBezTo>
                <a:cubicBezTo>
                  <a:pt x="4756" y="10991"/>
                  <a:pt x="4993" y="11028"/>
                  <a:pt x="5234" y="11038"/>
                </a:cubicBezTo>
                <a:cubicBezTo>
                  <a:pt x="5507" y="11050"/>
                  <a:pt x="5780" y="11042"/>
                  <a:pt x="6052" y="11063"/>
                </a:cubicBezTo>
                <a:cubicBezTo>
                  <a:pt x="6432" y="11092"/>
                  <a:pt x="6813" y="11084"/>
                  <a:pt x="7193" y="11112"/>
                </a:cubicBezTo>
                <a:cubicBezTo>
                  <a:pt x="7515" y="11136"/>
                  <a:pt x="7839" y="11140"/>
                  <a:pt x="8161" y="11162"/>
                </a:cubicBezTo>
                <a:cubicBezTo>
                  <a:pt x="8629" y="11194"/>
                  <a:pt x="9105" y="11206"/>
                  <a:pt x="9575" y="11212"/>
                </a:cubicBezTo>
                <a:cubicBezTo>
                  <a:pt x="10172" y="11219"/>
                  <a:pt x="10766" y="11213"/>
                  <a:pt x="11361" y="11237"/>
                </a:cubicBezTo>
                <a:cubicBezTo>
                  <a:pt x="11775" y="11254"/>
                  <a:pt x="12188" y="11269"/>
                  <a:pt x="12601" y="11286"/>
                </a:cubicBezTo>
                <a:cubicBezTo>
                  <a:pt x="12700" y="11290"/>
                  <a:pt x="12918" y="11326"/>
                  <a:pt x="12998" y="11261"/>
                </a:cubicBezTo>
                <a:cubicBezTo>
                  <a:pt x="13033" y="11226"/>
                  <a:pt x="13036" y="11204"/>
                  <a:pt x="12998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86" name="Ink 3"/>
          <p:cNvSpPr/>
          <p:nvPr/>
        </p:nvSpPr>
        <p:spPr>
          <a:xfrm>
            <a:off x="642960" y="982800"/>
            <a:ext cx="295200" cy="490320"/>
          </a:xfrm>
          <a:custGeom>
            <a:avLst/>
            <a:gdLst/>
            <a:ahLst/>
            <a:rect l="l" t="t" r="r" b="b"/>
            <a:pathLst>
              <a:path w="819" h="1365">
                <a:moveTo>
                  <a:pt x="1860" y="3200"/>
                </a:moveTo>
                <a:cubicBezTo>
                  <a:pt x="1852" y="3208"/>
                  <a:pt x="1844" y="3217"/>
                  <a:pt x="1836" y="3225"/>
                </a:cubicBezTo>
                <a:cubicBezTo>
                  <a:pt x="1910" y="3214"/>
                  <a:pt x="1901" y="3189"/>
                  <a:pt x="1960" y="3150"/>
                </a:cubicBezTo>
                <a:cubicBezTo>
                  <a:pt x="2001" y="3123"/>
                  <a:pt x="2041" y="3100"/>
                  <a:pt x="2084" y="3076"/>
                </a:cubicBezTo>
                <a:cubicBezTo>
                  <a:pt x="2117" y="3144"/>
                  <a:pt x="2107" y="3228"/>
                  <a:pt x="2059" y="3299"/>
                </a:cubicBezTo>
                <a:cubicBezTo>
                  <a:pt x="2005" y="3380"/>
                  <a:pt x="1930" y="3453"/>
                  <a:pt x="1860" y="3522"/>
                </a:cubicBezTo>
                <a:cubicBezTo>
                  <a:pt x="1796" y="3589"/>
                  <a:pt x="1927" y="3480"/>
                  <a:pt x="1935" y="3473"/>
                </a:cubicBezTo>
                <a:cubicBezTo>
                  <a:pt x="1980" y="3436"/>
                  <a:pt x="2055" y="3380"/>
                  <a:pt x="2108" y="3448"/>
                </a:cubicBezTo>
                <a:cubicBezTo>
                  <a:pt x="2183" y="3545"/>
                  <a:pt x="2136" y="3595"/>
                  <a:pt x="2084" y="3696"/>
                </a:cubicBezTo>
                <a:cubicBezTo>
                  <a:pt x="2049" y="3765"/>
                  <a:pt x="1964" y="3808"/>
                  <a:pt x="1885" y="3820"/>
                </a:cubicBezTo>
                <a:cubicBezTo>
                  <a:pt x="1760" y="3839"/>
                  <a:pt x="1796" y="3776"/>
                  <a:pt x="1811" y="3696"/>
                </a:cubicBezTo>
              </a:path>
              <a:path w="819" h="1365">
                <a:moveTo>
                  <a:pt x="2183" y="3051"/>
                </a:moveTo>
                <a:cubicBezTo>
                  <a:pt x="2229" y="3155"/>
                  <a:pt x="2253" y="3235"/>
                  <a:pt x="2257" y="3349"/>
                </a:cubicBezTo>
                <a:cubicBezTo>
                  <a:pt x="2260" y="3448"/>
                  <a:pt x="2264" y="3579"/>
                  <a:pt x="2232" y="3671"/>
                </a:cubicBezTo>
                <a:cubicBezTo>
                  <a:pt x="2208" y="3696"/>
                  <a:pt x="2200" y="3704"/>
                  <a:pt x="2232" y="3671"/>
                </a:cubicBezTo>
              </a:path>
              <a:path w="819" h="1365">
                <a:moveTo>
                  <a:pt x="2282" y="2729"/>
                </a:moveTo>
                <a:cubicBezTo>
                  <a:pt x="2436" y="2852"/>
                  <a:pt x="2528" y="2951"/>
                  <a:pt x="2580" y="3150"/>
                </a:cubicBezTo>
                <a:cubicBezTo>
                  <a:pt x="2633" y="3351"/>
                  <a:pt x="2574" y="3557"/>
                  <a:pt x="2505" y="3746"/>
                </a:cubicBezTo>
                <a:cubicBezTo>
                  <a:pt x="2462" y="3864"/>
                  <a:pt x="2405" y="3977"/>
                  <a:pt x="2356" y="40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7" name="Ink 4"/>
          <p:cNvSpPr/>
          <p:nvPr/>
        </p:nvSpPr>
        <p:spPr>
          <a:xfrm>
            <a:off x="1455840" y="901800"/>
            <a:ext cx="2428920" cy="447480"/>
          </a:xfrm>
          <a:custGeom>
            <a:avLst/>
            <a:gdLst/>
            <a:ahLst/>
            <a:rect l="l" t="t" r="r" b="b"/>
            <a:pathLst>
              <a:path w="6748" h="1242">
                <a:moveTo>
                  <a:pt x="4068" y="3001"/>
                </a:moveTo>
                <a:cubicBezTo>
                  <a:pt x="4097" y="2951"/>
                  <a:pt x="4146" y="2861"/>
                  <a:pt x="4192" y="2828"/>
                </a:cubicBezTo>
                <a:cubicBezTo>
                  <a:pt x="4232" y="2800"/>
                  <a:pt x="4373" y="2709"/>
                  <a:pt x="4415" y="2704"/>
                </a:cubicBezTo>
                <a:cubicBezTo>
                  <a:pt x="4594" y="2684"/>
                  <a:pt x="4589" y="2715"/>
                  <a:pt x="4589" y="2853"/>
                </a:cubicBezTo>
                <a:cubicBezTo>
                  <a:pt x="4589" y="2959"/>
                  <a:pt x="4521" y="3060"/>
                  <a:pt x="4465" y="3150"/>
                </a:cubicBezTo>
                <a:cubicBezTo>
                  <a:pt x="4393" y="3264"/>
                  <a:pt x="4319" y="3363"/>
                  <a:pt x="4242" y="3473"/>
                </a:cubicBezTo>
                <a:cubicBezTo>
                  <a:pt x="4184" y="3556"/>
                  <a:pt x="4128" y="3642"/>
                  <a:pt x="4068" y="3721"/>
                </a:cubicBezTo>
                <a:cubicBezTo>
                  <a:pt x="4060" y="3729"/>
                  <a:pt x="4051" y="3738"/>
                  <a:pt x="4043" y="3746"/>
                </a:cubicBezTo>
                <a:cubicBezTo>
                  <a:pt x="4133" y="3713"/>
                  <a:pt x="4221" y="3682"/>
                  <a:pt x="4316" y="3671"/>
                </a:cubicBezTo>
                <a:cubicBezTo>
                  <a:pt x="4406" y="3661"/>
                  <a:pt x="4501" y="3650"/>
                  <a:pt x="4589" y="3646"/>
                </a:cubicBezTo>
                <a:cubicBezTo>
                  <a:pt x="4666" y="3643"/>
                  <a:pt x="4680" y="3642"/>
                  <a:pt x="4738" y="3597"/>
                </a:cubicBezTo>
              </a:path>
              <a:path w="6748" h="1242">
                <a:moveTo>
                  <a:pt x="4812" y="3225"/>
                </a:moveTo>
                <a:cubicBezTo>
                  <a:pt x="4872" y="3344"/>
                  <a:pt x="4898" y="3410"/>
                  <a:pt x="4986" y="3497"/>
                </a:cubicBezTo>
                <a:cubicBezTo>
                  <a:pt x="5032" y="3543"/>
                  <a:pt x="5052" y="3569"/>
                  <a:pt x="5110" y="3522"/>
                </a:cubicBezTo>
                <a:cubicBezTo>
                  <a:pt x="5118" y="3514"/>
                  <a:pt x="5127" y="3505"/>
                  <a:pt x="5135" y="3497"/>
                </a:cubicBezTo>
              </a:path>
              <a:path w="6748" h="1242">
                <a:moveTo>
                  <a:pt x="4961" y="3249"/>
                </a:moveTo>
                <a:cubicBezTo>
                  <a:pt x="4905" y="3368"/>
                  <a:pt x="4848" y="3469"/>
                  <a:pt x="4762" y="3572"/>
                </a:cubicBezTo>
                <a:cubicBezTo>
                  <a:pt x="4695" y="3653"/>
                  <a:pt x="4784" y="3503"/>
                  <a:pt x="4787" y="3497"/>
                </a:cubicBezTo>
              </a:path>
              <a:path w="6748" h="1242">
                <a:moveTo>
                  <a:pt x="5184" y="2704"/>
                </a:moveTo>
                <a:cubicBezTo>
                  <a:pt x="5200" y="2751"/>
                  <a:pt x="5184" y="2825"/>
                  <a:pt x="5159" y="2877"/>
                </a:cubicBezTo>
                <a:cubicBezTo>
                  <a:pt x="5135" y="2902"/>
                  <a:pt x="5127" y="2910"/>
                  <a:pt x="5159" y="2927"/>
                </a:cubicBezTo>
                <a:cubicBezTo>
                  <a:pt x="5246" y="2927"/>
                  <a:pt x="5269" y="2895"/>
                  <a:pt x="5333" y="2877"/>
                </a:cubicBezTo>
                <a:cubicBezTo>
                  <a:pt x="5378" y="2877"/>
                  <a:pt x="5391" y="2881"/>
                  <a:pt x="5407" y="2853"/>
                </a:cubicBezTo>
              </a:path>
              <a:path w="6748" h="1242">
                <a:moveTo>
                  <a:pt x="5358" y="2580"/>
                </a:moveTo>
                <a:cubicBezTo>
                  <a:pt x="5326" y="2706"/>
                  <a:pt x="5301" y="2826"/>
                  <a:pt x="5283" y="2952"/>
                </a:cubicBezTo>
                <a:cubicBezTo>
                  <a:pt x="5273" y="3020"/>
                  <a:pt x="5297" y="3073"/>
                  <a:pt x="5308" y="3125"/>
                </a:cubicBezTo>
                <a:cubicBezTo>
                  <a:pt x="5308" y="3142"/>
                  <a:pt x="5308" y="3158"/>
                  <a:pt x="5308" y="3175"/>
                </a:cubicBezTo>
              </a:path>
              <a:path w="6748" h="1242">
                <a:moveTo>
                  <a:pt x="5655" y="3101"/>
                </a:moveTo>
                <a:cubicBezTo>
                  <a:pt x="5655" y="3211"/>
                  <a:pt x="5647" y="3297"/>
                  <a:pt x="5631" y="3398"/>
                </a:cubicBezTo>
                <a:cubicBezTo>
                  <a:pt x="5631" y="3415"/>
                  <a:pt x="5631" y="3431"/>
                  <a:pt x="5631" y="3448"/>
                </a:cubicBezTo>
              </a:path>
              <a:path w="6748" h="1242">
                <a:moveTo>
                  <a:pt x="5507" y="3274"/>
                </a:moveTo>
                <a:cubicBezTo>
                  <a:pt x="5590" y="3253"/>
                  <a:pt x="5671" y="3230"/>
                  <a:pt x="5755" y="3225"/>
                </a:cubicBezTo>
                <a:cubicBezTo>
                  <a:pt x="5818" y="3222"/>
                  <a:pt x="5864" y="3206"/>
                  <a:pt x="5928" y="3200"/>
                </a:cubicBezTo>
              </a:path>
              <a:path w="6748" h="1242">
                <a:moveTo>
                  <a:pt x="6077" y="2853"/>
                </a:moveTo>
                <a:cubicBezTo>
                  <a:pt x="6194" y="2833"/>
                  <a:pt x="6319" y="2805"/>
                  <a:pt x="6424" y="2778"/>
                </a:cubicBezTo>
              </a:path>
              <a:path w="6748" h="1242">
                <a:moveTo>
                  <a:pt x="6077" y="2803"/>
                </a:moveTo>
                <a:cubicBezTo>
                  <a:pt x="6064" y="2829"/>
                  <a:pt x="5929" y="3031"/>
                  <a:pt x="5953" y="3101"/>
                </a:cubicBezTo>
                <a:cubicBezTo>
                  <a:pt x="5974" y="3163"/>
                  <a:pt x="6060" y="3144"/>
                  <a:pt x="6102" y="3125"/>
                </a:cubicBezTo>
                <a:cubicBezTo>
                  <a:pt x="6164" y="3097"/>
                  <a:pt x="6181" y="3055"/>
                  <a:pt x="6251" y="3051"/>
                </a:cubicBezTo>
                <a:cubicBezTo>
                  <a:pt x="6334" y="3046"/>
                  <a:pt x="6346" y="3103"/>
                  <a:pt x="6350" y="3175"/>
                </a:cubicBezTo>
                <a:cubicBezTo>
                  <a:pt x="6354" y="3248"/>
                  <a:pt x="6354" y="3307"/>
                  <a:pt x="6325" y="3373"/>
                </a:cubicBezTo>
                <a:cubicBezTo>
                  <a:pt x="6301" y="3428"/>
                  <a:pt x="6242" y="3510"/>
                  <a:pt x="6176" y="3522"/>
                </a:cubicBezTo>
                <a:cubicBezTo>
                  <a:pt x="6119" y="3532"/>
                  <a:pt x="6040" y="3563"/>
                  <a:pt x="6003" y="3497"/>
                </a:cubicBezTo>
                <a:cubicBezTo>
                  <a:pt x="6003" y="3489"/>
                  <a:pt x="6003" y="3481"/>
                  <a:pt x="6003" y="3473"/>
                </a:cubicBezTo>
              </a:path>
              <a:path w="6748" h="1242">
                <a:moveTo>
                  <a:pt x="6648" y="3101"/>
                </a:moveTo>
                <a:cubicBezTo>
                  <a:pt x="6697" y="3184"/>
                  <a:pt x="6741" y="3293"/>
                  <a:pt x="6796" y="3373"/>
                </a:cubicBezTo>
                <a:cubicBezTo>
                  <a:pt x="6848" y="3449"/>
                  <a:pt x="6856" y="3444"/>
                  <a:pt x="6921" y="3398"/>
                </a:cubicBezTo>
              </a:path>
              <a:path w="6748" h="1242">
                <a:moveTo>
                  <a:pt x="6796" y="3101"/>
                </a:moveTo>
                <a:cubicBezTo>
                  <a:pt x="6729" y="3221"/>
                  <a:pt x="6683" y="3340"/>
                  <a:pt x="6598" y="3448"/>
                </a:cubicBezTo>
                <a:cubicBezTo>
                  <a:pt x="6573" y="3473"/>
                  <a:pt x="6565" y="3481"/>
                  <a:pt x="6548" y="3497"/>
                </a:cubicBezTo>
              </a:path>
              <a:path w="6748" h="1242">
                <a:moveTo>
                  <a:pt x="7144" y="2555"/>
                </a:moveTo>
                <a:cubicBezTo>
                  <a:pt x="7205" y="2555"/>
                  <a:pt x="7221" y="2546"/>
                  <a:pt x="7243" y="2580"/>
                </a:cubicBezTo>
                <a:cubicBezTo>
                  <a:pt x="7205" y="2673"/>
                  <a:pt x="7153" y="2746"/>
                  <a:pt x="7045" y="2778"/>
                </a:cubicBezTo>
                <a:cubicBezTo>
                  <a:pt x="7028" y="2778"/>
                  <a:pt x="7012" y="2778"/>
                  <a:pt x="6995" y="2778"/>
                </a:cubicBezTo>
                <a:cubicBezTo>
                  <a:pt x="7052" y="2807"/>
                  <a:pt x="7141" y="2774"/>
                  <a:pt x="7193" y="2803"/>
                </a:cubicBezTo>
                <a:cubicBezTo>
                  <a:pt x="7260" y="2840"/>
                  <a:pt x="7289" y="2908"/>
                  <a:pt x="7293" y="2977"/>
                </a:cubicBezTo>
                <a:cubicBezTo>
                  <a:pt x="7298" y="3058"/>
                  <a:pt x="7249" y="3059"/>
                  <a:pt x="7193" y="3101"/>
                </a:cubicBezTo>
                <a:cubicBezTo>
                  <a:pt x="7147" y="3135"/>
                  <a:pt x="7095" y="3138"/>
                  <a:pt x="7069" y="3101"/>
                </a:cubicBezTo>
              </a:path>
              <a:path w="6748" h="1242">
                <a:moveTo>
                  <a:pt x="7640" y="3026"/>
                </a:moveTo>
                <a:cubicBezTo>
                  <a:pt x="7630" y="3088"/>
                  <a:pt x="7634" y="3282"/>
                  <a:pt x="7541" y="3324"/>
                </a:cubicBezTo>
                <a:cubicBezTo>
                  <a:pt x="7533" y="3324"/>
                  <a:pt x="7524" y="3324"/>
                  <a:pt x="7516" y="3324"/>
                </a:cubicBezTo>
              </a:path>
              <a:path w="6748" h="1242">
                <a:moveTo>
                  <a:pt x="7392" y="3225"/>
                </a:moveTo>
                <a:cubicBezTo>
                  <a:pt x="7467" y="3215"/>
                  <a:pt x="7542" y="3184"/>
                  <a:pt x="7615" y="3175"/>
                </a:cubicBezTo>
                <a:cubicBezTo>
                  <a:pt x="7691" y="3175"/>
                  <a:pt x="7717" y="3174"/>
                  <a:pt x="7764" y="3150"/>
                </a:cubicBezTo>
              </a:path>
              <a:path w="6748" h="1242">
                <a:moveTo>
                  <a:pt x="7987" y="2803"/>
                </a:moveTo>
                <a:cubicBezTo>
                  <a:pt x="8001" y="2881"/>
                  <a:pt x="7965" y="2949"/>
                  <a:pt x="7987" y="3026"/>
                </a:cubicBezTo>
                <a:cubicBezTo>
                  <a:pt x="8018" y="3135"/>
                  <a:pt x="8090" y="3088"/>
                  <a:pt x="8161" y="3076"/>
                </a:cubicBezTo>
                <a:cubicBezTo>
                  <a:pt x="8235" y="3063"/>
                  <a:pt x="8224" y="3062"/>
                  <a:pt x="8285" y="3001"/>
                </a:cubicBezTo>
              </a:path>
              <a:path w="6748" h="1242">
                <a:moveTo>
                  <a:pt x="8210" y="2580"/>
                </a:moveTo>
                <a:cubicBezTo>
                  <a:pt x="8194" y="2728"/>
                  <a:pt x="8166" y="2879"/>
                  <a:pt x="8161" y="3026"/>
                </a:cubicBezTo>
                <a:cubicBezTo>
                  <a:pt x="8158" y="3120"/>
                  <a:pt x="8140" y="3247"/>
                  <a:pt x="8186" y="3324"/>
                </a:cubicBezTo>
              </a:path>
              <a:path w="6748" h="1242">
                <a:moveTo>
                  <a:pt x="8384" y="3001"/>
                </a:moveTo>
                <a:cubicBezTo>
                  <a:pt x="8455" y="3092"/>
                  <a:pt x="8514" y="3211"/>
                  <a:pt x="8632" y="3249"/>
                </a:cubicBezTo>
                <a:cubicBezTo>
                  <a:pt x="8640" y="3249"/>
                  <a:pt x="8649" y="3249"/>
                  <a:pt x="8657" y="3249"/>
                </a:cubicBezTo>
              </a:path>
              <a:path w="6748" h="1242">
                <a:moveTo>
                  <a:pt x="8508" y="3076"/>
                </a:moveTo>
                <a:cubicBezTo>
                  <a:pt x="8470" y="3153"/>
                  <a:pt x="8373" y="3384"/>
                  <a:pt x="8384" y="3299"/>
                </a:cubicBezTo>
                <a:cubicBezTo>
                  <a:pt x="8392" y="3274"/>
                  <a:pt x="8401" y="3250"/>
                  <a:pt x="8409" y="3225"/>
                </a:cubicBezTo>
              </a:path>
              <a:path w="6748" h="1242">
                <a:moveTo>
                  <a:pt x="8855" y="2530"/>
                </a:moveTo>
                <a:cubicBezTo>
                  <a:pt x="8949" y="2511"/>
                  <a:pt x="8969" y="2481"/>
                  <a:pt x="9004" y="2530"/>
                </a:cubicBezTo>
                <a:cubicBezTo>
                  <a:pt x="8995" y="2632"/>
                  <a:pt x="8968" y="2710"/>
                  <a:pt x="8880" y="2778"/>
                </a:cubicBezTo>
                <a:cubicBezTo>
                  <a:pt x="8841" y="2808"/>
                  <a:pt x="8795" y="2822"/>
                  <a:pt x="8756" y="2853"/>
                </a:cubicBezTo>
                <a:cubicBezTo>
                  <a:pt x="8816" y="2888"/>
                  <a:pt x="8881" y="2877"/>
                  <a:pt x="8954" y="2877"/>
                </a:cubicBezTo>
                <a:cubicBezTo>
                  <a:pt x="9022" y="2877"/>
                  <a:pt x="9042" y="2880"/>
                  <a:pt x="9079" y="2853"/>
                </a:cubicBezTo>
              </a:path>
              <a:path w="6748" h="1242">
                <a:moveTo>
                  <a:pt x="9475" y="2927"/>
                </a:moveTo>
                <a:cubicBezTo>
                  <a:pt x="9434" y="3052"/>
                  <a:pt x="9426" y="3121"/>
                  <a:pt x="9426" y="3249"/>
                </a:cubicBezTo>
                <a:cubicBezTo>
                  <a:pt x="9426" y="3291"/>
                  <a:pt x="9426" y="3299"/>
                  <a:pt x="9426" y="3324"/>
                </a:cubicBezTo>
              </a:path>
              <a:path w="6748" h="1242">
                <a:moveTo>
                  <a:pt x="9277" y="3125"/>
                </a:moveTo>
                <a:cubicBezTo>
                  <a:pt x="9374" y="3125"/>
                  <a:pt x="9457" y="3113"/>
                  <a:pt x="9550" y="3101"/>
                </a:cubicBezTo>
                <a:cubicBezTo>
                  <a:pt x="9608" y="3101"/>
                  <a:pt x="9633" y="3101"/>
                  <a:pt x="9674" y="3101"/>
                </a:cubicBezTo>
              </a:path>
              <a:path w="6748" h="1242">
                <a:moveTo>
                  <a:pt x="9897" y="2704"/>
                </a:moveTo>
                <a:cubicBezTo>
                  <a:pt x="9993" y="2697"/>
                  <a:pt x="10072" y="2679"/>
                  <a:pt x="10170" y="2679"/>
                </a:cubicBezTo>
                <a:cubicBezTo>
                  <a:pt x="10215" y="2679"/>
                  <a:pt x="10228" y="2683"/>
                  <a:pt x="10244" y="2654"/>
                </a:cubicBezTo>
              </a:path>
              <a:path w="6748" h="1242">
                <a:moveTo>
                  <a:pt x="9897" y="2704"/>
                </a:moveTo>
                <a:cubicBezTo>
                  <a:pt x="9841" y="2853"/>
                  <a:pt x="9794" y="2872"/>
                  <a:pt x="9847" y="2952"/>
                </a:cubicBezTo>
                <a:cubicBezTo>
                  <a:pt x="9924" y="2978"/>
                  <a:pt x="9989" y="2977"/>
                  <a:pt x="10071" y="2977"/>
                </a:cubicBezTo>
                <a:cubicBezTo>
                  <a:pt x="10144" y="2977"/>
                  <a:pt x="10201" y="2938"/>
                  <a:pt x="10269" y="2927"/>
                </a:cubicBezTo>
                <a:cubicBezTo>
                  <a:pt x="10380" y="2908"/>
                  <a:pt x="10350" y="3014"/>
                  <a:pt x="10344" y="3076"/>
                </a:cubicBezTo>
                <a:cubicBezTo>
                  <a:pt x="10335" y="3168"/>
                  <a:pt x="10310" y="3194"/>
                  <a:pt x="10244" y="3249"/>
                </a:cubicBezTo>
                <a:cubicBezTo>
                  <a:pt x="10190" y="3294"/>
                  <a:pt x="10142" y="3320"/>
                  <a:pt x="10071" y="3324"/>
                </a:cubicBezTo>
                <a:cubicBezTo>
                  <a:pt x="10016" y="3327"/>
                  <a:pt x="9940" y="3305"/>
                  <a:pt x="9922" y="3249"/>
                </a:cubicBezTo>
                <a:cubicBezTo>
                  <a:pt x="9922" y="3233"/>
                  <a:pt x="9922" y="3216"/>
                  <a:pt x="9922" y="3200"/>
                </a:cubicBezTo>
              </a:path>
              <a:path w="6748" h="1242">
                <a:moveTo>
                  <a:pt x="10517" y="3001"/>
                </a:moveTo>
                <a:cubicBezTo>
                  <a:pt x="10525" y="3017"/>
                  <a:pt x="10603" y="3232"/>
                  <a:pt x="10666" y="3249"/>
                </a:cubicBezTo>
                <a:cubicBezTo>
                  <a:pt x="10716" y="3263"/>
                  <a:pt x="10753" y="3247"/>
                  <a:pt x="10790" y="3225"/>
                </a:cubicBezTo>
              </a:path>
              <a:path w="6748" h="1242">
                <a:moveTo>
                  <a:pt x="10641" y="2902"/>
                </a:moveTo>
                <a:cubicBezTo>
                  <a:pt x="10544" y="2999"/>
                  <a:pt x="10461" y="3102"/>
                  <a:pt x="10368" y="3200"/>
                </a:cubicBezTo>
                <a:cubicBezTo>
                  <a:pt x="10312" y="3259"/>
                  <a:pt x="10253" y="3316"/>
                  <a:pt x="10195" y="33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8" name="Ink 5"/>
          <p:cNvSpPr/>
          <p:nvPr/>
        </p:nvSpPr>
        <p:spPr>
          <a:xfrm>
            <a:off x="4037040" y="928800"/>
            <a:ext cx="561960" cy="277560"/>
          </a:xfrm>
          <a:custGeom>
            <a:avLst/>
            <a:gdLst/>
            <a:ahLst/>
            <a:rect l="l" t="t" r="r" b="b"/>
            <a:pathLst>
              <a:path w="1563" h="770">
                <a:moveTo>
                  <a:pt x="11212" y="2977"/>
                </a:moveTo>
                <a:cubicBezTo>
                  <a:pt x="11308" y="2977"/>
                  <a:pt x="11393" y="2991"/>
                  <a:pt x="11485" y="3001"/>
                </a:cubicBezTo>
                <a:cubicBezTo>
                  <a:pt x="11566" y="3010"/>
                  <a:pt x="11652" y="3001"/>
                  <a:pt x="11733" y="3001"/>
                </a:cubicBezTo>
              </a:path>
              <a:path w="1563" h="770">
                <a:moveTo>
                  <a:pt x="11410" y="2778"/>
                </a:moveTo>
                <a:cubicBezTo>
                  <a:pt x="11360" y="2914"/>
                  <a:pt x="11336" y="3007"/>
                  <a:pt x="11336" y="3150"/>
                </a:cubicBezTo>
                <a:cubicBezTo>
                  <a:pt x="11336" y="3199"/>
                  <a:pt x="11312" y="3318"/>
                  <a:pt x="11361" y="3349"/>
                </a:cubicBezTo>
                <a:cubicBezTo>
                  <a:pt x="11369" y="3349"/>
                  <a:pt x="11377" y="3349"/>
                  <a:pt x="11385" y="3349"/>
                </a:cubicBezTo>
              </a:path>
              <a:path w="1563" h="770">
                <a:moveTo>
                  <a:pt x="12055" y="2604"/>
                </a:moveTo>
                <a:cubicBezTo>
                  <a:pt x="12102" y="2594"/>
                  <a:pt x="12250" y="2551"/>
                  <a:pt x="12303" y="2580"/>
                </a:cubicBezTo>
                <a:cubicBezTo>
                  <a:pt x="12414" y="2641"/>
                  <a:pt x="12376" y="2784"/>
                  <a:pt x="12353" y="2877"/>
                </a:cubicBezTo>
                <a:cubicBezTo>
                  <a:pt x="12324" y="2991"/>
                  <a:pt x="12264" y="3055"/>
                  <a:pt x="12204" y="3150"/>
                </a:cubicBezTo>
                <a:cubicBezTo>
                  <a:pt x="12172" y="3200"/>
                  <a:pt x="12151" y="3213"/>
                  <a:pt x="12105" y="3249"/>
                </a:cubicBezTo>
                <a:cubicBezTo>
                  <a:pt x="12157" y="3342"/>
                  <a:pt x="12211" y="3339"/>
                  <a:pt x="12328" y="3349"/>
                </a:cubicBezTo>
                <a:cubicBezTo>
                  <a:pt x="12452" y="3359"/>
                  <a:pt x="12606" y="3355"/>
                  <a:pt x="12725" y="3324"/>
                </a:cubicBezTo>
                <a:cubicBezTo>
                  <a:pt x="12741" y="3316"/>
                  <a:pt x="12758" y="3307"/>
                  <a:pt x="12774" y="32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89" name="Ink 6"/>
          <p:cNvSpPr/>
          <p:nvPr/>
        </p:nvSpPr>
        <p:spPr>
          <a:xfrm>
            <a:off x="5429160" y="276120"/>
            <a:ext cx="1822680" cy="777960"/>
          </a:xfrm>
          <a:custGeom>
            <a:avLst/>
            <a:gdLst/>
            <a:ahLst/>
            <a:rect l="l" t="t" r="r" b="b"/>
            <a:pathLst>
              <a:path w="5061" h="2159">
                <a:moveTo>
                  <a:pt x="15081" y="1712"/>
                </a:moveTo>
                <a:cubicBezTo>
                  <a:pt x="15136" y="1744"/>
                  <a:pt x="15188" y="1736"/>
                  <a:pt x="15255" y="1736"/>
                </a:cubicBezTo>
                <a:cubicBezTo>
                  <a:pt x="15343" y="1736"/>
                  <a:pt x="15417" y="1715"/>
                  <a:pt x="15503" y="1712"/>
                </a:cubicBezTo>
                <a:cubicBezTo>
                  <a:pt x="15569" y="1712"/>
                  <a:pt x="15586" y="1712"/>
                  <a:pt x="15627" y="1712"/>
                </a:cubicBezTo>
              </a:path>
              <a:path w="5061" h="2159">
                <a:moveTo>
                  <a:pt x="15925" y="1339"/>
                </a:moveTo>
                <a:cubicBezTo>
                  <a:pt x="15933" y="1260"/>
                  <a:pt x="15943" y="1221"/>
                  <a:pt x="15999" y="1166"/>
                </a:cubicBezTo>
                <a:cubicBezTo>
                  <a:pt x="16054" y="1112"/>
                  <a:pt x="16122" y="1094"/>
                  <a:pt x="16197" y="1091"/>
                </a:cubicBezTo>
                <a:cubicBezTo>
                  <a:pt x="16264" y="1088"/>
                  <a:pt x="16353" y="1106"/>
                  <a:pt x="16396" y="1166"/>
                </a:cubicBezTo>
                <a:cubicBezTo>
                  <a:pt x="16428" y="1210"/>
                  <a:pt x="16436" y="1311"/>
                  <a:pt x="16421" y="1364"/>
                </a:cubicBezTo>
                <a:cubicBezTo>
                  <a:pt x="16398" y="1446"/>
                  <a:pt x="16364" y="1513"/>
                  <a:pt x="16321" y="1588"/>
                </a:cubicBezTo>
                <a:cubicBezTo>
                  <a:pt x="16244" y="1722"/>
                  <a:pt x="16128" y="1830"/>
                  <a:pt x="16049" y="1960"/>
                </a:cubicBezTo>
                <a:cubicBezTo>
                  <a:pt x="16000" y="2040"/>
                  <a:pt x="15946" y="2122"/>
                  <a:pt x="15900" y="2208"/>
                </a:cubicBezTo>
                <a:cubicBezTo>
                  <a:pt x="15873" y="2260"/>
                  <a:pt x="15841" y="2291"/>
                  <a:pt x="15801" y="2332"/>
                </a:cubicBezTo>
                <a:cubicBezTo>
                  <a:pt x="15865" y="2323"/>
                  <a:pt x="15903" y="2307"/>
                  <a:pt x="15974" y="2307"/>
                </a:cubicBezTo>
                <a:cubicBezTo>
                  <a:pt x="16046" y="2307"/>
                  <a:pt x="16104" y="2345"/>
                  <a:pt x="16173" y="2356"/>
                </a:cubicBezTo>
                <a:cubicBezTo>
                  <a:pt x="16233" y="2366"/>
                  <a:pt x="16295" y="2396"/>
                  <a:pt x="16346" y="2406"/>
                </a:cubicBezTo>
                <a:cubicBezTo>
                  <a:pt x="16445" y="2426"/>
                  <a:pt x="16453" y="2351"/>
                  <a:pt x="16495" y="2282"/>
                </a:cubicBezTo>
              </a:path>
              <a:path w="5061" h="2159">
                <a:moveTo>
                  <a:pt x="16818" y="2034"/>
                </a:moveTo>
                <a:cubicBezTo>
                  <a:pt x="16813" y="2135"/>
                  <a:pt x="16816" y="2261"/>
                  <a:pt x="16768" y="2356"/>
                </a:cubicBezTo>
                <a:cubicBezTo>
                  <a:pt x="16745" y="2402"/>
                  <a:pt x="16718" y="2529"/>
                  <a:pt x="16718" y="2431"/>
                </a:cubicBezTo>
              </a:path>
              <a:path w="5061" h="2159">
                <a:moveTo>
                  <a:pt x="17140" y="1364"/>
                </a:moveTo>
                <a:cubicBezTo>
                  <a:pt x="17210" y="1382"/>
                  <a:pt x="17258" y="1364"/>
                  <a:pt x="17338" y="1364"/>
                </a:cubicBezTo>
                <a:cubicBezTo>
                  <a:pt x="17414" y="1364"/>
                  <a:pt x="17467" y="1365"/>
                  <a:pt x="17537" y="1339"/>
                </a:cubicBezTo>
              </a:path>
              <a:path w="5061" h="2159">
                <a:moveTo>
                  <a:pt x="18083" y="868"/>
                </a:moveTo>
                <a:cubicBezTo>
                  <a:pt x="18066" y="968"/>
                  <a:pt x="18038" y="1069"/>
                  <a:pt x="18033" y="1166"/>
                </a:cubicBezTo>
                <a:cubicBezTo>
                  <a:pt x="18031" y="1193"/>
                  <a:pt x="18068" y="1315"/>
                  <a:pt x="18107" y="1315"/>
                </a:cubicBezTo>
                <a:cubicBezTo>
                  <a:pt x="18115" y="1307"/>
                  <a:pt x="18124" y="1298"/>
                  <a:pt x="18132" y="1290"/>
                </a:cubicBezTo>
              </a:path>
              <a:path w="5061" h="2159">
                <a:moveTo>
                  <a:pt x="18405" y="769"/>
                </a:moveTo>
                <a:cubicBezTo>
                  <a:pt x="18364" y="910"/>
                  <a:pt x="18320" y="1050"/>
                  <a:pt x="18281" y="1191"/>
                </a:cubicBezTo>
                <a:cubicBezTo>
                  <a:pt x="18251" y="1300"/>
                  <a:pt x="18214" y="1405"/>
                  <a:pt x="18182" y="1513"/>
                </a:cubicBezTo>
                <a:cubicBezTo>
                  <a:pt x="18145" y="1636"/>
                  <a:pt x="18081" y="1782"/>
                  <a:pt x="18058" y="1910"/>
                </a:cubicBezTo>
                <a:cubicBezTo>
                  <a:pt x="18045" y="1982"/>
                  <a:pt x="18017" y="2063"/>
                  <a:pt x="18008" y="2133"/>
                </a:cubicBezTo>
                <a:cubicBezTo>
                  <a:pt x="17999" y="2198"/>
                  <a:pt x="18008" y="2318"/>
                  <a:pt x="18008" y="2183"/>
                </a:cubicBezTo>
              </a:path>
              <a:path w="5061" h="2159">
                <a:moveTo>
                  <a:pt x="18182" y="1836"/>
                </a:moveTo>
                <a:cubicBezTo>
                  <a:pt x="18273" y="1761"/>
                  <a:pt x="18342" y="1681"/>
                  <a:pt x="18455" y="1662"/>
                </a:cubicBezTo>
                <a:cubicBezTo>
                  <a:pt x="18527" y="1650"/>
                  <a:pt x="18552" y="1702"/>
                  <a:pt x="18554" y="1761"/>
                </a:cubicBezTo>
                <a:cubicBezTo>
                  <a:pt x="18559" y="1902"/>
                  <a:pt x="18499" y="1922"/>
                  <a:pt x="18430" y="2034"/>
                </a:cubicBezTo>
                <a:cubicBezTo>
                  <a:pt x="18387" y="2104"/>
                  <a:pt x="18340" y="2130"/>
                  <a:pt x="18281" y="2183"/>
                </a:cubicBezTo>
                <a:cubicBezTo>
                  <a:pt x="18253" y="2211"/>
                  <a:pt x="18244" y="2224"/>
                  <a:pt x="18256" y="2257"/>
                </a:cubicBezTo>
                <a:cubicBezTo>
                  <a:pt x="18458" y="2257"/>
                  <a:pt x="18656" y="2254"/>
                  <a:pt x="18852" y="2282"/>
                </a:cubicBezTo>
                <a:cubicBezTo>
                  <a:pt x="18952" y="2296"/>
                  <a:pt x="18878" y="2264"/>
                  <a:pt x="18852" y="2257"/>
                </a:cubicBezTo>
              </a:path>
              <a:path w="5061" h="2159">
                <a:moveTo>
                  <a:pt x="19472" y="2158"/>
                </a:moveTo>
                <a:cubicBezTo>
                  <a:pt x="19472" y="2299"/>
                  <a:pt x="19487" y="2445"/>
                  <a:pt x="19447" y="2580"/>
                </a:cubicBezTo>
                <a:cubicBezTo>
                  <a:pt x="19422" y="2663"/>
                  <a:pt x="19420" y="2752"/>
                  <a:pt x="19372" y="2828"/>
                </a:cubicBezTo>
                <a:cubicBezTo>
                  <a:pt x="19350" y="2863"/>
                  <a:pt x="19347" y="2950"/>
                  <a:pt x="19323" y="2902"/>
                </a:cubicBezTo>
              </a:path>
              <a:path w="5061" h="2159">
                <a:moveTo>
                  <a:pt x="19943" y="1836"/>
                </a:moveTo>
                <a:cubicBezTo>
                  <a:pt x="19914" y="1951"/>
                  <a:pt x="19848" y="2132"/>
                  <a:pt x="19869" y="2257"/>
                </a:cubicBezTo>
                <a:cubicBezTo>
                  <a:pt x="19881" y="2326"/>
                  <a:pt x="19892" y="2402"/>
                  <a:pt x="19943" y="2456"/>
                </a:cubicBezTo>
                <a:cubicBezTo>
                  <a:pt x="19985" y="2501"/>
                  <a:pt x="20035" y="2576"/>
                  <a:pt x="20092" y="2530"/>
                </a:cubicBezTo>
                <a:cubicBezTo>
                  <a:pt x="20108" y="2513"/>
                  <a:pt x="20125" y="2497"/>
                  <a:pt x="20141" y="2480"/>
                </a:cubicBezTo>
              </a:path>
              <a:path w="5061" h="2159">
                <a:moveTo>
                  <a:pt x="19968" y="1141"/>
                </a:moveTo>
                <a:cubicBezTo>
                  <a:pt x="19904" y="1178"/>
                  <a:pt x="19889" y="1209"/>
                  <a:pt x="19844" y="1265"/>
                </a:cubicBezTo>
                <a:cubicBezTo>
                  <a:pt x="19910" y="1292"/>
                  <a:pt x="19956" y="1247"/>
                  <a:pt x="20017" y="1191"/>
                </a:cubicBezTo>
                <a:cubicBezTo>
                  <a:pt x="20098" y="1117"/>
                  <a:pt x="19945" y="1172"/>
                  <a:pt x="19918" y="1191"/>
                </a:cubicBezTo>
                <a:cubicBezTo>
                  <a:pt x="19843" y="1242"/>
                  <a:pt x="19951" y="1201"/>
                  <a:pt x="19968" y="11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0" name="Ink 7"/>
          <p:cNvSpPr/>
          <p:nvPr/>
        </p:nvSpPr>
        <p:spPr>
          <a:xfrm>
            <a:off x="7518240" y="303120"/>
            <a:ext cx="519120" cy="696960"/>
          </a:xfrm>
          <a:custGeom>
            <a:avLst/>
            <a:gdLst/>
            <a:ahLst/>
            <a:rect l="l" t="t" r="r" b="b"/>
            <a:pathLst>
              <a:path w="1439" h="1936">
                <a:moveTo>
                  <a:pt x="20886" y="2183"/>
                </a:moveTo>
                <a:cubicBezTo>
                  <a:pt x="20886" y="2325"/>
                  <a:pt x="20906" y="2463"/>
                  <a:pt x="20910" y="2604"/>
                </a:cubicBezTo>
                <a:cubicBezTo>
                  <a:pt x="20911" y="2647"/>
                  <a:pt x="20923" y="2793"/>
                  <a:pt x="20886" y="2753"/>
                </a:cubicBezTo>
              </a:path>
              <a:path w="1439" h="1936">
                <a:moveTo>
                  <a:pt x="21208" y="1786"/>
                </a:moveTo>
                <a:cubicBezTo>
                  <a:pt x="21324" y="1809"/>
                  <a:pt x="21374" y="1792"/>
                  <a:pt x="21481" y="1786"/>
                </a:cubicBezTo>
                <a:cubicBezTo>
                  <a:pt x="21532" y="1786"/>
                  <a:pt x="21551" y="1785"/>
                  <a:pt x="21580" y="1761"/>
                </a:cubicBezTo>
              </a:path>
              <a:path w="1439" h="1936">
                <a:moveTo>
                  <a:pt x="21977" y="1538"/>
                </a:moveTo>
                <a:cubicBezTo>
                  <a:pt x="21977" y="1643"/>
                  <a:pt x="21961" y="1736"/>
                  <a:pt x="21952" y="1836"/>
                </a:cubicBezTo>
                <a:cubicBezTo>
                  <a:pt x="21939" y="1975"/>
                  <a:pt x="21934" y="2135"/>
                  <a:pt x="22002" y="2257"/>
                </a:cubicBezTo>
                <a:cubicBezTo>
                  <a:pt x="22032" y="2311"/>
                  <a:pt x="22095" y="2319"/>
                  <a:pt x="22151" y="2307"/>
                </a:cubicBezTo>
                <a:cubicBezTo>
                  <a:pt x="22262" y="2283"/>
                  <a:pt x="22271" y="2226"/>
                  <a:pt x="22324" y="2133"/>
                </a:cubicBezTo>
              </a:path>
              <a:path w="1439" h="1936">
                <a:moveTo>
                  <a:pt x="21952" y="843"/>
                </a:moveTo>
                <a:cubicBezTo>
                  <a:pt x="21920" y="876"/>
                  <a:pt x="21833" y="945"/>
                  <a:pt x="21903" y="992"/>
                </a:cubicBezTo>
                <a:cubicBezTo>
                  <a:pt x="21968" y="1035"/>
                  <a:pt x="21991" y="977"/>
                  <a:pt x="22002" y="943"/>
                </a:cubicBezTo>
                <a:cubicBezTo>
                  <a:pt x="21952" y="918"/>
                  <a:pt x="21947" y="947"/>
                  <a:pt x="21903" y="992"/>
                </a:cubicBezTo>
                <a:cubicBezTo>
                  <a:pt x="21961" y="985"/>
                  <a:pt x="21980" y="979"/>
                  <a:pt x="22027" y="943"/>
                </a:cubicBezTo>
                <a:cubicBezTo>
                  <a:pt x="21968" y="908"/>
                  <a:pt x="21936" y="913"/>
                  <a:pt x="21878" y="943"/>
                </a:cubicBezTo>
                <a:cubicBezTo>
                  <a:pt x="21834" y="964"/>
                  <a:pt x="21822" y="967"/>
                  <a:pt x="21803" y="9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1" name="Ink 8"/>
          <p:cNvSpPr/>
          <p:nvPr/>
        </p:nvSpPr>
        <p:spPr>
          <a:xfrm>
            <a:off x="892080" y="1633680"/>
            <a:ext cx="3795840" cy="679320"/>
          </a:xfrm>
          <a:custGeom>
            <a:avLst/>
            <a:gdLst/>
            <a:ahLst/>
            <a:rect l="l" t="t" r="r" b="b"/>
            <a:pathLst>
              <a:path w="10543" h="1886">
                <a:moveTo>
                  <a:pt x="2480" y="5953"/>
                </a:moveTo>
                <a:cubicBezTo>
                  <a:pt x="2952" y="5953"/>
                  <a:pt x="3426" y="5964"/>
                  <a:pt x="3894" y="5928"/>
                </a:cubicBezTo>
                <a:cubicBezTo>
                  <a:pt x="4142" y="5909"/>
                  <a:pt x="4392" y="5937"/>
                  <a:pt x="4638" y="5953"/>
                </a:cubicBezTo>
                <a:cubicBezTo>
                  <a:pt x="5168" y="5986"/>
                  <a:pt x="5726" y="5971"/>
                  <a:pt x="6251" y="5928"/>
                </a:cubicBezTo>
                <a:cubicBezTo>
                  <a:pt x="6419" y="5914"/>
                  <a:pt x="6862" y="5868"/>
                  <a:pt x="6697" y="5904"/>
                </a:cubicBezTo>
                <a:cubicBezTo>
                  <a:pt x="6669" y="5931"/>
                  <a:pt x="6655" y="5939"/>
                  <a:pt x="6623" y="5928"/>
                </a:cubicBezTo>
              </a:path>
              <a:path w="10543" h="1886">
                <a:moveTo>
                  <a:pt x="3076" y="4614"/>
                </a:moveTo>
                <a:cubicBezTo>
                  <a:pt x="3076" y="4742"/>
                  <a:pt x="3115" y="4954"/>
                  <a:pt x="3051" y="5060"/>
                </a:cubicBezTo>
              </a:path>
              <a:path w="10543" h="1886">
                <a:moveTo>
                  <a:pt x="2778" y="4961"/>
                </a:moveTo>
                <a:cubicBezTo>
                  <a:pt x="2855" y="4987"/>
                  <a:pt x="2919" y="4986"/>
                  <a:pt x="3001" y="4986"/>
                </a:cubicBezTo>
                <a:cubicBezTo>
                  <a:pt x="3092" y="4986"/>
                  <a:pt x="3183" y="4986"/>
                  <a:pt x="3274" y="4986"/>
                </a:cubicBezTo>
              </a:path>
              <a:path w="10543" h="1886">
                <a:moveTo>
                  <a:pt x="2877" y="5457"/>
                </a:moveTo>
                <a:cubicBezTo>
                  <a:pt x="3027" y="5457"/>
                  <a:pt x="3151" y="5446"/>
                  <a:pt x="3299" y="5432"/>
                </a:cubicBezTo>
                <a:cubicBezTo>
                  <a:pt x="3316" y="5432"/>
                  <a:pt x="3332" y="5432"/>
                  <a:pt x="3349" y="5432"/>
                </a:cubicBezTo>
              </a:path>
              <a:path w="10543" h="1886">
                <a:moveTo>
                  <a:pt x="3845" y="4564"/>
                </a:moveTo>
                <a:cubicBezTo>
                  <a:pt x="3819" y="4683"/>
                  <a:pt x="3806" y="4815"/>
                  <a:pt x="3795" y="4936"/>
                </a:cubicBezTo>
                <a:cubicBezTo>
                  <a:pt x="3777" y="5135"/>
                  <a:pt x="3801" y="5338"/>
                  <a:pt x="3770" y="5531"/>
                </a:cubicBezTo>
                <a:cubicBezTo>
                  <a:pt x="3764" y="5570"/>
                  <a:pt x="3770" y="5615"/>
                  <a:pt x="3770" y="5655"/>
                </a:cubicBezTo>
              </a:path>
              <a:path w="10543" h="1886">
                <a:moveTo>
                  <a:pt x="4217" y="5531"/>
                </a:moveTo>
                <a:cubicBezTo>
                  <a:pt x="4212" y="5547"/>
                  <a:pt x="4142" y="5854"/>
                  <a:pt x="4142" y="5829"/>
                </a:cubicBezTo>
              </a:path>
              <a:path w="10543" h="1886">
                <a:moveTo>
                  <a:pt x="4787" y="4589"/>
                </a:moveTo>
                <a:cubicBezTo>
                  <a:pt x="4769" y="4714"/>
                  <a:pt x="4743" y="4837"/>
                  <a:pt x="4738" y="4961"/>
                </a:cubicBezTo>
                <a:cubicBezTo>
                  <a:pt x="4735" y="5040"/>
                  <a:pt x="4757" y="5083"/>
                  <a:pt x="4762" y="5159"/>
                </a:cubicBezTo>
                <a:cubicBezTo>
                  <a:pt x="4762" y="5167"/>
                  <a:pt x="4762" y="5176"/>
                  <a:pt x="4762" y="5184"/>
                </a:cubicBezTo>
              </a:path>
              <a:path w="10543" h="1886">
                <a:moveTo>
                  <a:pt x="4514" y="5011"/>
                </a:moveTo>
                <a:cubicBezTo>
                  <a:pt x="4642" y="5011"/>
                  <a:pt x="4741" y="5000"/>
                  <a:pt x="4862" y="4986"/>
                </a:cubicBezTo>
                <a:cubicBezTo>
                  <a:pt x="4928" y="4986"/>
                  <a:pt x="4945" y="4986"/>
                  <a:pt x="4986" y="4986"/>
                </a:cubicBezTo>
              </a:path>
              <a:path w="10543" h="1886">
                <a:moveTo>
                  <a:pt x="4638" y="5432"/>
                </a:moveTo>
                <a:cubicBezTo>
                  <a:pt x="4749" y="5452"/>
                  <a:pt x="4832" y="5476"/>
                  <a:pt x="4936" y="5432"/>
                </a:cubicBezTo>
                <a:cubicBezTo>
                  <a:pt x="4953" y="5424"/>
                  <a:pt x="4969" y="5415"/>
                  <a:pt x="4986" y="5407"/>
                </a:cubicBezTo>
              </a:path>
              <a:path w="10543" h="1886">
                <a:moveTo>
                  <a:pt x="5358" y="4738"/>
                </a:moveTo>
                <a:cubicBezTo>
                  <a:pt x="5428" y="4658"/>
                  <a:pt x="5493" y="4565"/>
                  <a:pt x="5606" y="4539"/>
                </a:cubicBezTo>
                <a:cubicBezTo>
                  <a:pt x="5647" y="4530"/>
                  <a:pt x="5756" y="4523"/>
                  <a:pt x="5779" y="4564"/>
                </a:cubicBezTo>
                <a:cubicBezTo>
                  <a:pt x="5819" y="4635"/>
                  <a:pt x="5780" y="4691"/>
                  <a:pt x="5755" y="4762"/>
                </a:cubicBezTo>
                <a:cubicBezTo>
                  <a:pt x="5722" y="4858"/>
                  <a:pt x="5688" y="4931"/>
                  <a:pt x="5631" y="5011"/>
                </a:cubicBezTo>
                <a:cubicBezTo>
                  <a:pt x="5570" y="5097"/>
                  <a:pt x="5505" y="5182"/>
                  <a:pt x="5432" y="5259"/>
                </a:cubicBezTo>
                <a:cubicBezTo>
                  <a:pt x="5360" y="5335"/>
                  <a:pt x="5283" y="5408"/>
                  <a:pt x="5209" y="5482"/>
                </a:cubicBezTo>
                <a:cubicBezTo>
                  <a:pt x="5267" y="5517"/>
                  <a:pt x="5311" y="5527"/>
                  <a:pt x="5383" y="5531"/>
                </a:cubicBezTo>
                <a:cubicBezTo>
                  <a:pt x="5552" y="5539"/>
                  <a:pt x="5717" y="5529"/>
                  <a:pt x="5879" y="5556"/>
                </a:cubicBezTo>
                <a:cubicBezTo>
                  <a:pt x="5928" y="5556"/>
                  <a:pt x="5944" y="5556"/>
                  <a:pt x="5879" y="5556"/>
                </a:cubicBezTo>
              </a:path>
              <a:path w="10543" h="1886">
                <a:moveTo>
                  <a:pt x="7218" y="5655"/>
                </a:moveTo>
                <a:cubicBezTo>
                  <a:pt x="7292" y="5655"/>
                  <a:pt x="7367" y="5655"/>
                  <a:pt x="7441" y="5655"/>
                </a:cubicBezTo>
              </a:path>
              <a:path w="10543" h="1886">
                <a:moveTo>
                  <a:pt x="7193" y="5904"/>
                </a:moveTo>
                <a:cubicBezTo>
                  <a:pt x="7292" y="5946"/>
                  <a:pt x="7297" y="5953"/>
                  <a:pt x="7392" y="5953"/>
                </a:cubicBezTo>
              </a:path>
              <a:path w="10543" h="1886">
                <a:moveTo>
                  <a:pt x="8260" y="4762"/>
                </a:moveTo>
                <a:cubicBezTo>
                  <a:pt x="8260" y="4851"/>
                  <a:pt x="8252" y="4949"/>
                  <a:pt x="8235" y="5035"/>
                </a:cubicBezTo>
                <a:cubicBezTo>
                  <a:pt x="8216" y="5130"/>
                  <a:pt x="8210" y="5210"/>
                  <a:pt x="8210" y="5308"/>
                </a:cubicBezTo>
                <a:cubicBezTo>
                  <a:pt x="8210" y="5350"/>
                  <a:pt x="8202" y="5366"/>
                  <a:pt x="8235" y="5358"/>
                </a:cubicBezTo>
              </a:path>
              <a:path w="10543" h="1886">
                <a:moveTo>
                  <a:pt x="8012" y="5135"/>
                </a:moveTo>
                <a:cubicBezTo>
                  <a:pt x="8144" y="5135"/>
                  <a:pt x="8277" y="5135"/>
                  <a:pt x="8409" y="5135"/>
                </a:cubicBezTo>
              </a:path>
              <a:path w="10543" h="1886">
                <a:moveTo>
                  <a:pt x="8012" y="5680"/>
                </a:moveTo>
                <a:cubicBezTo>
                  <a:pt x="8201" y="5680"/>
                  <a:pt x="8351" y="5682"/>
                  <a:pt x="8533" y="5631"/>
                </a:cubicBezTo>
              </a:path>
              <a:path w="10543" h="1886">
                <a:moveTo>
                  <a:pt x="9029" y="4837"/>
                </a:moveTo>
                <a:cubicBezTo>
                  <a:pt x="9029" y="4958"/>
                  <a:pt x="9014" y="5066"/>
                  <a:pt x="9004" y="5184"/>
                </a:cubicBezTo>
                <a:cubicBezTo>
                  <a:pt x="8995" y="5293"/>
                  <a:pt x="8984" y="5400"/>
                  <a:pt x="8979" y="5507"/>
                </a:cubicBezTo>
                <a:cubicBezTo>
                  <a:pt x="8976" y="5581"/>
                  <a:pt x="8979" y="5656"/>
                  <a:pt x="8979" y="5730"/>
                </a:cubicBezTo>
              </a:path>
              <a:path w="10543" h="1886">
                <a:moveTo>
                  <a:pt x="9401" y="5879"/>
                </a:moveTo>
                <a:cubicBezTo>
                  <a:pt x="9360" y="6044"/>
                  <a:pt x="9327" y="6175"/>
                  <a:pt x="9252" y="6325"/>
                </a:cubicBezTo>
                <a:cubicBezTo>
                  <a:pt x="9227" y="6375"/>
                  <a:pt x="9219" y="6391"/>
                  <a:pt x="9203" y="6424"/>
                </a:cubicBezTo>
              </a:path>
              <a:path w="10543" h="1886">
                <a:moveTo>
                  <a:pt x="9823" y="4663"/>
                </a:moveTo>
                <a:cubicBezTo>
                  <a:pt x="9859" y="4775"/>
                  <a:pt x="9834" y="4845"/>
                  <a:pt x="9823" y="4961"/>
                </a:cubicBezTo>
                <a:cubicBezTo>
                  <a:pt x="9815" y="5044"/>
                  <a:pt x="9809" y="5109"/>
                  <a:pt x="9798" y="5184"/>
                </a:cubicBezTo>
              </a:path>
              <a:path w="10543" h="1886">
                <a:moveTo>
                  <a:pt x="9575" y="5060"/>
                </a:moveTo>
                <a:cubicBezTo>
                  <a:pt x="9671" y="5060"/>
                  <a:pt x="9752" y="5081"/>
                  <a:pt x="9847" y="5085"/>
                </a:cubicBezTo>
                <a:cubicBezTo>
                  <a:pt x="9872" y="5085"/>
                  <a:pt x="9897" y="5085"/>
                  <a:pt x="9922" y="5085"/>
                </a:cubicBezTo>
              </a:path>
              <a:path w="10543" h="1886">
                <a:moveTo>
                  <a:pt x="9624" y="5606"/>
                </a:moveTo>
                <a:cubicBezTo>
                  <a:pt x="9729" y="5606"/>
                  <a:pt x="9797" y="5571"/>
                  <a:pt x="9897" y="5556"/>
                </a:cubicBezTo>
                <a:cubicBezTo>
                  <a:pt x="9974" y="5544"/>
                  <a:pt x="9986" y="5554"/>
                  <a:pt x="10046" y="5507"/>
                </a:cubicBezTo>
              </a:path>
              <a:path w="10543" h="1886">
                <a:moveTo>
                  <a:pt x="10492" y="4911"/>
                </a:moveTo>
                <a:cubicBezTo>
                  <a:pt x="10572" y="4867"/>
                  <a:pt x="10594" y="4862"/>
                  <a:pt x="10691" y="4862"/>
                </a:cubicBezTo>
                <a:cubicBezTo>
                  <a:pt x="10788" y="4862"/>
                  <a:pt x="10910" y="4852"/>
                  <a:pt x="10939" y="4986"/>
                </a:cubicBezTo>
                <a:cubicBezTo>
                  <a:pt x="10957" y="5071"/>
                  <a:pt x="10864" y="5244"/>
                  <a:pt x="10815" y="5308"/>
                </a:cubicBezTo>
                <a:cubicBezTo>
                  <a:pt x="10741" y="5405"/>
                  <a:pt x="10654" y="5473"/>
                  <a:pt x="10567" y="5556"/>
                </a:cubicBezTo>
                <a:cubicBezTo>
                  <a:pt x="10514" y="5606"/>
                  <a:pt x="10451" y="5635"/>
                  <a:pt x="10492" y="5705"/>
                </a:cubicBezTo>
                <a:cubicBezTo>
                  <a:pt x="10541" y="5789"/>
                  <a:pt x="10737" y="5755"/>
                  <a:pt x="10815" y="5755"/>
                </a:cubicBezTo>
                <a:cubicBezTo>
                  <a:pt x="10929" y="5755"/>
                  <a:pt x="11069" y="5748"/>
                  <a:pt x="11162" y="5804"/>
                </a:cubicBezTo>
              </a:path>
              <a:path w="10543" h="1886">
                <a:moveTo>
                  <a:pt x="11658" y="5631"/>
                </a:moveTo>
                <a:cubicBezTo>
                  <a:pt x="11648" y="5744"/>
                  <a:pt x="11603" y="5842"/>
                  <a:pt x="11584" y="5953"/>
                </a:cubicBezTo>
                <a:cubicBezTo>
                  <a:pt x="11576" y="5997"/>
                  <a:pt x="11568" y="6034"/>
                  <a:pt x="11559" y="6077"/>
                </a:cubicBezTo>
              </a:path>
              <a:path w="10543" h="1886">
                <a:moveTo>
                  <a:pt x="11906" y="4961"/>
                </a:moveTo>
                <a:cubicBezTo>
                  <a:pt x="11896" y="5044"/>
                  <a:pt x="11844" y="5207"/>
                  <a:pt x="11906" y="5283"/>
                </a:cubicBezTo>
                <a:cubicBezTo>
                  <a:pt x="11914" y="5291"/>
                  <a:pt x="11923" y="5300"/>
                  <a:pt x="11931" y="5308"/>
                </a:cubicBezTo>
              </a:path>
              <a:path w="10543" h="1886">
                <a:moveTo>
                  <a:pt x="11708" y="5159"/>
                </a:moveTo>
                <a:cubicBezTo>
                  <a:pt x="11872" y="5159"/>
                  <a:pt x="12018" y="5158"/>
                  <a:pt x="12179" y="5184"/>
                </a:cubicBezTo>
              </a:path>
              <a:path w="10543" h="1886">
                <a:moveTo>
                  <a:pt x="11981" y="5606"/>
                </a:moveTo>
                <a:cubicBezTo>
                  <a:pt x="12122" y="5565"/>
                  <a:pt x="12147" y="5559"/>
                  <a:pt x="12229" y="5531"/>
                </a:cubicBezTo>
              </a:path>
              <a:path w="10543" h="1886">
                <a:moveTo>
                  <a:pt x="12626" y="4638"/>
                </a:moveTo>
                <a:cubicBezTo>
                  <a:pt x="12626" y="4764"/>
                  <a:pt x="12590" y="4962"/>
                  <a:pt x="12601" y="5085"/>
                </a:cubicBezTo>
                <a:cubicBezTo>
                  <a:pt x="12625" y="5133"/>
                  <a:pt x="12633" y="5147"/>
                  <a:pt x="12626" y="5184"/>
                </a:cubicBezTo>
              </a:path>
              <a:path w="10543" h="1886">
                <a:moveTo>
                  <a:pt x="12402" y="5184"/>
                </a:moveTo>
                <a:cubicBezTo>
                  <a:pt x="12507" y="5184"/>
                  <a:pt x="12599" y="5170"/>
                  <a:pt x="12700" y="5159"/>
                </a:cubicBezTo>
                <a:cubicBezTo>
                  <a:pt x="12774" y="5159"/>
                  <a:pt x="12799" y="5159"/>
                  <a:pt x="12849" y="5159"/>
                </a:cubicBezTo>
              </a:path>
              <a:path w="10543" h="1886">
                <a:moveTo>
                  <a:pt x="12551" y="5333"/>
                </a:moveTo>
                <a:cubicBezTo>
                  <a:pt x="12615" y="5333"/>
                  <a:pt x="12780" y="5302"/>
                  <a:pt x="12824" y="5358"/>
                </a:cubicBezTo>
                <a:cubicBezTo>
                  <a:pt x="12832" y="5374"/>
                  <a:pt x="12841" y="5391"/>
                  <a:pt x="12849" y="5407"/>
                </a:cubicBezTo>
                <a:cubicBezTo>
                  <a:pt x="12758" y="5498"/>
                  <a:pt x="12632" y="5588"/>
                  <a:pt x="12551" y="5680"/>
                </a:cubicBezTo>
                <a:cubicBezTo>
                  <a:pt x="12513" y="5724"/>
                  <a:pt x="12487" y="5789"/>
                  <a:pt x="12551" y="5829"/>
                </a:cubicBezTo>
                <a:cubicBezTo>
                  <a:pt x="12646" y="5889"/>
                  <a:pt x="12814" y="5924"/>
                  <a:pt x="12923" y="5928"/>
                </a:cubicBezTo>
                <a:cubicBezTo>
                  <a:pt x="12984" y="5928"/>
                  <a:pt x="13000" y="5938"/>
                  <a:pt x="13022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2" name="Ink 9"/>
          <p:cNvSpPr/>
          <p:nvPr/>
        </p:nvSpPr>
        <p:spPr>
          <a:xfrm>
            <a:off x="946080" y="218772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2952" y="6077"/>
                </a:moveTo>
                <a:cubicBezTo>
                  <a:pt x="2963" y="6162"/>
                  <a:pt x="2963" y="6194"/>
                  <a:pt x="2952" y="6276"/>
                </a:cubicBezTo>
                <a:cubicBezTo>
                  <a:pt x="2941" y="6361"/>
                  <a:pt x="2964" y="6423"/>
                  <a:pt x="2977" y="6499"/>
                </a:cubicBezTo>
                <a:cubicBezTo>
                  <a:pt x="2977" y="6550"/>
                  <a:pt x="2976" y="6569"/>
                  <a:pt x="2952" y="6598"/>
                </a:cubicBezTo>
              </a:path>
              <a:path w="547" h="820">
                <a:moveTo>
                  <a:pt x="2654" y="6474"/>
                </a:moveTo>
                <a:cubicBezTo>
                  <a:pt x="2805" y="6474"/>
                  <a:pt x="2985" y="6446"/>
                  <a:pt x="3125" y="6499"/>
                </a:cubicBezTo>
              </a:path>
              <a:path w="547" h="820">
                <a:moveTo>
                  <a:pt x="2629" y="6871"/>
                </a:moveTo>
                <a:cubicBezTo>
                  <a:pt x="2752" y="6897"/>
                  <a:pt x="2807" y="6892"/>
                  <a:pt x="2927" y="6871"/>
                </a:cubicBezTo>
                <a:cubicBezTo>
                  <a:pt x="3069" y="6851"/>
                  <a:pt x="3096" y="6853"/>
                  <a:pt x="3175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3" name="Ink 10"/>
          <p:cNvSpPr/>
          <p:nvPr/>
        </p:nvSpPr>
        <p:spPr>
          <a:xfrm>
            <a:off x="1303200" y="2241720"/>
            <a:ext cx="777960" cy="393480"/>
          </a:xfrm>
          <a:custGeom>
            <a:avLst/>
            <a:gdLst/>
            <a:ahLst/>
            <a:rect l="l" t="t" r="r" b="b"/>
            <a:pathLst>
              <a:path w="2159" h="1092">
                <a:moveTo>
                  <a:pt x="3696" y="6251"/>
                </a:moveTo>
                <a:cubicBezTo>
                  <a:pt x="3688" y="6372"/>
                  <a:pt x="3669" y="6504"/>
                  <a:pt x="3646" y="6623"/>
                </a:cubicBezTo>
                <a:cubicBezTo>
                  <a:pt x="3625" y="6733"/>
                  <a:pt x="3621" y="6832"/>
                  <a:pt x="3621" y="6945"/>
                </a:cubicBezTo>
                <a:cubicBezTo>
                  <a:pt x="3621" y="7013"/>
                  <a:pt x="3613" y="7064"/>
                  <a:pt x="3646" y="7119"/>
                </a:cubicBezTo>
              </a:path>
              <a:path w="2159" h="1092">
                <a:moveTo>
                  <a:pt x="4118" y="6995"/>
                </a:moveTo>
                <a:cubicBezTo>
                  <a:pt x="4113" y="7104"/>
                  <a:pt x="4000" y="7260"/>
                  <a:pt x="4093" y="7317"/>
                </a:cubicBezTo>
                <a:cubicBezTo>
                  <a:pt x="4118" y="7293"/>
                  <a:pt x="4126" y="7285"/>
                  <a:pt x="4142" y="7268"/>
                </a:cubicBezTo>
              </a:path>
              <a:path w="2159" h="1092">
                <a:moveTo>
                  <a:pt x="4713" y="6226"/>
                </a:moveTo>
                <a:cubicBezTo>
                  <a:pt x="4731" y="6331"/>
                  <a:pt x="4738" y="6419"/>
                  <a:pt x="4738" y="6524"/>
                </a:cubicBezTo>
                <a:cubicBezTo>
                  <a:pt x="4738" y="6581"/>
                  <a:pt x="4748" y="6600"/>
                  <a:pt x="4713" y="6623"/>
                </a:cubicBezTo>
              </a:path>
              <a:path w="2159" h="1092">
                <a:moveTo>
                  <a:pt x="4514" y="6499"/>
                </a:moveTo>
                <a:cubicBezTo>
                  <a:pt x="4638" y="6499"/>
                  <a:pt x="4763" y="6499"/>
                  <a:pt x="4887" y="6499"/>
                </a:cubicBezTo>
              </a:path>
              <a:path w="2159" h="1092">
                <a:moveTo>
                  <a:pt x="4564" y="6821"/>
                </a:moveTo>
                <a:cubicBezTo>
                  <a:pt x="4644" y="6881"/>
                  <a:pt x="4682" y="6871"/>
                  <a:pt x="4787" y="6871"/>
                </a:cubicBezTo>
                <a:cubicBezTo>
                  <a:pt x="4896" y="6871"/>
                  <a:pt x="4969" y="6846"/>
                  <a:pt x="5060" y="6796"/>
                </a:cubicBezTo>
              </a:path>
              <a:path w="2159" h="1092">
                <a:moveTo>
                  <a:pt x="5308" y="6300"/>
                </a:moveTo>
                <a:cubicBezTo>
                  <a:pt x="5396" y="6247"/>
                  <a:pt x="5470" y="6195"/>
                  <a:pt x="5581" y="6226"/>
                </a:cubicBezTo>
                <a:cubicBezTo>
                  <a:pt x="5639" y="6242"/>
                  <a:pt x="5685" y="6345"/>
                  <a:pt x="5680" y="6400"/>
                </a:cubicBezTo>
                <a:cubicBezTo>
                  <a:pt x="5670" y="6519"/>
                  <a:pt x="5582" y="6635"/>
                  <a:pt x="5507" y="6722"/>
                </a:cubicBezTo>
                <a:cubicBezTo>
                  <a:pt x="5447" y="6792"/>
                  <a:pt x="5381" y="6857"/>
                  <a:pt x="5333" y="6921"/>
                </a:cubicBezTo>
                <a:cubicBezTo>
                  <a:pt x="5272" y="7001"/>
                  <a:pt x="5318" y="7055"/>
                  <a:pt x="5407" y="7069"/>
                </a:cubicBezTo>
                <a:cubicBezTo>
                  <a:pt x="5510" y="7085"/>
                  <a:pt x="5617" y="7030"/>
                  <a:pt x="5705" y="6995"/>
                </a:cubicBezTo>
                <a:cubicBezTo>
                  <a:pt x="5730" y="6987"/>
                  <a:pt x="5754" y="6978"/>
                  <a:pt x="5779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4" name="Ink 11"/>
          <p:cNvSpPr/>
          <p:nvPr/>
        </p:nvSpPr>
        <p:spPr>
          <a:xfrm>
            <a:off x="401760" y="2919240"/>
            <a:ext cx="571320" cy="482760"/>
          </a:xfrm>
          <a:custGeom>
            <a:avLst/>
            <a:gdLst/>
            <a:ahLst/>
            <a:rect l="l" t="t" r="r" b="b"/>
            <a:pathLst>
              <a:path w="1589" h="1341">
                <a:moveTo>
                  <a:pt x="1191" y="8706"/>
                </a:moveTo>
                <a:cubicBezTo>
                  <a:pt x="1298" y="8706"/>
                  <a:pt x="1385" y="8716"/>
                  <a:pt x="1488" y="8731"/>
                </a:cubicBezTo>
                <a:cubicBezTo>
                  <a:pt x="1505" y="8731"/>
                  <a:pt x="1521" y="8731"/>
                  <a:pt x="1538" y="8731"/>
                </a:cubicBezTo>
              </a:path>
              <a:path w="1589" h="1341">
                <a:moveTo>
                  <a:pt x="1860" y="8359"/>
                </a:moveTo>
                <a:cubicBezTo>
                  <a:pt x="1935" y="8322"/>
                  <a:pt x="1976" y="8310"/>
                  <a:pt x="2059" y="8310"/>
                </a:cubicBezTo>
                <a:cubicBezTo>
                  <a:pt x="2118" y="8310"/>
                  <a:pt x="2144" y="8313"/>
                  <a:pt x="2183" y="8334"/>
                </a:cubicBezTo>
                <a:cubicBezTo>
                  <a:pt x="2161" y="8423"/>
                  <a:pt x="2156" y="8482"/>
                  <a:pt x="2108" y="8558"/>
                </a:cubicBezTo>
                <a:cubicBezTo>
                  <a:pt x="2071" y="8616"/>
                  <a:pt x="2009" y="8736"/>
                  <a:pt x="1960" y="8781"/>
                </a:cubicBezTo>
                <a:cubicBezTo>
                  <a:pt x="1913" y="8825"/>
                  <a:pt x="1886" y="8885"/>
                  <a:pt x="1836" y="8930"/>
                </a:cubicBezTo>
                <a:cubicBezTo>
                  <a:pt x="1808" y="8930"/>
                  <a:pt x="1797" y="8932"/>
                  <a:pt x="1786" y="8954"/>
                </a:cubicBezTo>
                <a:cubicBezTo>
                  <a:pt x="1844" y="9024"/>
                  <a:pt x="1886" y="9004"/>
                  <a:pt x="1984" y="9004"/>
                </a:cubicBezTo>
                <a:cubicBezTo>
                  <a:pt x="2108" y="9004"/>
                  <a:pt x="2232" y="9004"/>
                  <a:pt x="2356" y="9004"/>
                </a:cubicBezTo>
              </a:path>
              <a:path w="1589" h="1341">
                <a:moveTo>
                  <a:pt x="2629" y="8111"/>
                </a:moveTo>
                <a:cubicBezTo>
                  <a:pt x="2655" y="8188"/>
                  <a:pt x="2654" y="8252"/>
                  <a:pt x="2654" y="8334"/>
                </a:cubicBezTo>
                <a:cubicBezTo>
                  <a:pt x="2654" y="8511"/>
                  <a:pt x="2663" y="8680"/>
                  <a:pt x="2679" y="8855"/>
                </a:cubicBezTo>
                <a:cubicBezTo>
                  <a:pt x="2691" y="8989"/>
                  <a:pt x="2687" y="9121"/>
                  <a:pt x="2704" y="9252"/>
                </a:cubicBezTo>
                <a:cubicBezTo>
                  <a:pt x="2713" y="9322"/>
                  <a:pt x="2686" y="9422"/>
                  <a:pt x="2679" y="9451"/>
                </a:cubicBezTo>
                <a:cubicBezTo>
                  <a:pt x="2602" y="9434"/>
                  <a:pt x="2535" y="9418"/>
                  <a:pt x="2456" y="9401"/>
                </a:cubicBezTo>
                <a:cubicBezTo>
                  <a:pt x="2338" y="9375"/>
                  <a:pt x="2231" y="9376"/>
                  <a:pt x="2108" y="9376"/>
                </a:cubicBezTo>
                <a:cubicBezTo>
                  <a:pt x="1890" y="9376"/>
                  <a:pt x="1679" y="9382"/>
                  <a:pt x="1463" y="9401"/>
                </a:cubicBezTo>
                <a:cubicBezTo>
                  <a:pt x="1360" y="9410"/>
                  <a:pt x="1286" y="9441"/>
                  <a:pt x="1191" y="9451"/>
                </a:cubicBezTo>
                <a:cubicBezTo>
                  <a:pt x="1158" y="9455"/>
                  <a:pt x="1174" y="9451"/>
                  <a:pt x="1141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5" name="Ink 12"/>
          <p:cNvSpPr/>
          <p:nvPr/>
        </p:nvSpPr>
        <p:spPr>
          <a:xfrm>
            <a:off x="1285920" y="2973240"/>
            <a:ext cx="187200" cy="376560"/>
          </a:xfrm>
          <a:custGeom>
            <a:avLst/>
            <a:gdLst/>
            <a:ahLst/>
            <a:rect l="l" t="t" r="r" b="b"/>
            <a:pathLst>
              <a:path w="522" h="1043">
                <a:moveTo>
                  <a:pt x="3621" y="8434"/>
                </a:moveTo>
                <a:cubicBezTo>
                  <a:pt x="3641" y="8474"/>
                  <a:pt x="3650" y="8480"/>
                  <a:pt x="3646" y="8508"/>
                </a:cubicBezTo>
                <a:cubicBezTo>
                  <a:pt x="3680" y="8466"/>
                  <a:pt x="3728" y="8412"/>
                  <a:pt x="3746" y="8359"/>
                </a:cubicBezTo>
                <a:cubicBezTo>
                  <a:pt x="3769" y="8291"/>
                  <a:pt x="3819" y="8311"/>
                  <a:pt x="3870" y="8285"/>
                </a:cubicBezTo>
                <a:cubicBezTo>
                  <a:pt x="3934" y="8253"/>
                  <a:pt x="3955" y="8263"/>
                  <a:pt x="4018" y="8310"/>
                </a:cubicBezTo>
                <a:cubicBezTo>
                  <a:pt x="4071" y="8349"/>
                  <a:pt x="4086" y="8419"/>
                  <a:pt x="4093" y="8483"/>
                </a:cubicBezTo>
                <a:cubicBezTo>
                  <a:pt x="4105" y="8587"/>
                  <a:pt x="4100" y="8717"/>
                  <a:pt x="4068" y="8806"/>
                </a:cubicBezTo>
                <a:cubicBezTo>
                  <a:pt x="4025" y="8925"/>
                  <a:pt x="4005" y="9011"/>
                  <a:pt x="3919" y="9103"/>
                </a:cubicBezTo>
                <a:cubicBezTo>
                  <a:pt x="3870" y="9155"/>
                  <a:pt x="3772" y="9193"/>
                  <a:pt x="3696" y="9178"/>
                </a:cubicBezTo>
                <a:cubicBezTo>
                  <a:pt x="3619" y="9163"/>
                  <a:pt x="3544" y="9128"/>
                  <a:pt x="3572" y="9029"/>
                </a:cubicBezTo>
                <a:cubicBezTo>
                  <a:pt x="3605" y="8996"/>
                  <a:pt x="3622" y="8979"/>
                  <a:pt x="3646" y="8954"/>
                </a:cubicBezTo>
                <a:cubicBezTo>
                  <a:pt x="3716" y="9001"/>
                  <a:pt x="3770" y="9035"/>
                  <a:pt x="3845" y="9079"/>
                </a:cubicBezTo>
                <a:cubicBezTo>
                  <a:pt x="3901" y="9111"/>
                  <a:pt x="3916" y="9162"/>
                  <a:pt x="3919" y="9227"/>
                </a:cubicBezTo>
                <a:cubicBezTo>
                  <a:pt x="3919" y="9285"/>
                  <a:pt x="3902" y="9310"/>
                  <a:pt x="3944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6" name="Ink 13"/>
          <p:cNvSpPr/>
          <p:nvPr/>
        </p:nvSpPr>
        <p:spPr>
          <a:xfrm>
            <a:off x="2027160" y="2963880"/>
            <a:ext cx="258840" cy="385920"/>
          </a:xfrm>
          <a:custGeom>
            <a:avLst/>
            <a:gdLst/>
            <a:ahLst/>
            <a:rect l="l" t="t" r="r" b="b"/>
            <a:pathLst>
              <a:path w="720" h="1068">
                <a:moveTo>
                  <a:pt x="5730" y="8310"/>
                </a:moveTo>
                <a:cubicBezTo>
                  <a:pt x="5819" y="8310"/>
                  <a:pt x="5893" y="8324"/>
                  <a:pt x="5978" y="8334"/>
                </a:cubicBezTo>
                <a:cubicBezTo>
                  <a:pt x="6064" y="8344"/>
                  <a:pt x="6147" y="8338"/>
                  <a:pt x="6226" y="8310"/>
                </a:cubicBezTo>
              </a:path>
              <a:path w="720" h="1068">
                <a:moveTo>
                  <a:pt x="5779" y="8235"/>
                </a:moveTo>
                <a:cubicBezTo>
                  <a:pt x="5713" y="8302"/>
                  <a:pt x="5649" y="8335"/>
                  <a:pt x="5631" y="8434"/>
                </a:cubicBezTo>
                <a:cubicBezTo>
                  <a:pt x="5615" y="8522"/>
                  <a:pt x="5646" y="8582"/>
                  <a:pt x="5680" y="8632"/>
                </a:cubicBezTo>
                <a:cubicBezTo>
                  <a:pt x="5703" y="8666"/>
                  <a:pt x="5804" y="8632"/>
                  <a:pt x="5854" y="8632"/>
                </a:cubicBezTo>
                <a:cubicBezTo>
                  <a:pt x="5945" y="8632"/>
                  <a:pt x="5971" y="8591"/>
                  <a:pt x="6052" y="8582"/>
                </a:cubicBezTo>
                <a:cubicBezTo>
                  <a:pt x="6086" y="8578"/>
                  <a:pt x="6222" y="8628"/>
                  <a:pt x="6251" y="8657"/>
                </a:cubicBezTo>
                <a:cubicBezTo>
                  <a:pt x="6285" y="8690"/>
                  <a:pt x="6342" y="8832"/>
                  <a:pt x="6350" y="8880"/>
                </a:cubicBezTo>
                <a:cubicBezTo>
                  <a:pt x="6379" y="9057"/>
                  <a:pt x="6276" y="9243"/>
                  <a:pt x="6102" y="9302"/>
                </a:cubicBezTo>
                <a:cubicBezTo>
                  <a:pt x="6001" y="9336"/>
                  <a:pt x="5783" y="9318"/>
                  <a:pt x="5705" y="9252"/>
                </a:cubicBezTo>
                <a:cubicBezTo>
                  <a:pt x="5677" y="9224"/>
                  <a:pt x="5668" y="9211"/>
                  <a:pt x="5680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7" name="Ink 14"/>
          <p:cNvSpPr/>
          <p:nvPr/>
        </p:nvSpPr>
        <p:spPr>
          <a:xfrm>
            <a:off x="2714760" y="2919240"/>
            <a:ext cx="152280" cy="403560"/>
          </a:xfrm>
          <a:custGeom>
            <a:avLst/>
            <a:gdLst/>
            <a:ahLst/>
            <a:rect l="l" t="t" r="r" b="b"/>
            <a:pathLst>
              <a:path w="422" h="1117">
                <a:moveTo>
                  <a:pt x="7615" y="8285"/>
                </a:moveTo>
                <a:cubicBezTo>
                  <a:pt x="7599" y="8334"/>
                  <a:pt x="7536" y="8466"/>
                  <a:pt x="7541" y="8508"/>
                </a:cubicBezTo>
                <a:cubicBezTo>
                  <a:pt x="7551" y="8586"/>
                  <a:pt x="7567" y="8613"/>
                  <a:pt x="7615" y="8657"/>
                </a:cubicBezTo>
                <a:cubicBezTo>
                  <a:pt x="7683" y="8720"/>
                  <a:pt x="7723" y="8706"/>
                  <a:pt x="7813" y="8706"/>
                </a:cubicBezTo>
                <a:cubicBezTo>
                  <a:pt x="7918" y="8706"/>
                  <a:pt x="7887" y="8716"/>
                  <a:pt x="7962" y="8632"/>
                </a:cubicBezTo>
              </a:path>
              <a:path w="422" h="1117">
                <a:moveTo>
                  <a:pt x="7938" y="8111"/>
                </a:moveTo>
                <a:cubicBezTo>
                  <a:pt x="7910" y="8184"/>
                  <a:pt x="7907" y="8259"/>
                  <a:pt x="7888" y="8334"/>
                </a:cubicBezTo>
                <a:cubicBezTo>
                  <a:pt x="7855" y="8466"/>
                  <a:pt x="7884" y="8570"/>
                  <a:pt x="7888" y="8706"/>
                </a:cubicBezTo>
                <a:cubicBezTo>
                  <a:pt x="7891" y="8810"/>
                  <a:pt x="7927" y="8903"/>
                  <a:pt x="7938" y="9004"/>
                </a:cubicBezTo>
                <a:cubicBezTo>
                  <a:pt x="7947" y="9082"/>
                  <a:pt x="7920" y="9184"/>
                  <a:pt x="7962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8" name="Ink 15"/>
          <p:cNvSpPr/>
          <p:nvPr/>
        </p:nvSpPr>
        <p:spPr>
          <a:xfrm>
            <a:off x="3394080" y="2867040"/>
            <a:ext cx="303120" cy="455760"/>
          </a:xfrm>
          <a:custGeom>
            <a:avLst/>
            <a:gdLst/>
            <a:ahLst/>
            <a:rect l="l" t="t" r="r" b="b"/>
            <a:pathLst>
              <a:path w="844" h="1266">
                <a:moveTo>
                  <a:pt x="9624" y="8086"/>
                </a:moveTo>
                <a:cubicBezTo>
                  <a:pt x="9719" y="8061"/>
                  <a:pt x="9798" y="8062"/>
                  <a:pt x="9897" y="8062"/>
                </a:cubicBezTo>
                <a:cubicBezTo>
                  <a:pt x="9991" y="8062"/>
                  <a:pt x="10075" y="8086"/>
                  <a:pt x="10170" y="8086"/>
                </a:cubicBezTo>
                <a:cubicBezTo>
                  <a:pt x="10222" y="8086"/>
                  <a:pt x="10240" y="8085"/>
                  <a:pt x="10269" y="8062"/>
                </a:cubicBezTo>
              </a:path>
              <a:path w="844" h="1266">
                <a:moveTo>
                  <a:pt x="9723" y="7962"/>
                </a:moveTo>
                <a:cubicBezTo>
                  <a:pt x="9620" y="8030"/>
                  <a:pt x="9457" y="8093"/>
                  <a:pt x="9426" y="8235"/>
                </a:cubicBezTo>
                <a:cubicBezTo>
                  <a:pt x="9418" y="8273"/>
                  <a:pt x="9429" y="8392"/>
                  <a:pt x="9475" y="8409"/>
                </a:cubicBezTo>
                <a:cubicBezTo>
                  <a:pt x="9556" y="8439"/>
                  <a:pt x="9568" y="8362"/>
                  <a:pt x="9624" y="8334"/>
                </a:cubicBezTo>
                <a:cubicBezTo>
                  <a:pt x="9677" y="8308"/>
                  <a:pt x="9763" y="8298"/>
                  <a:pt x="9823" y="8310"/>
                </a:cubicBezTo>
                <a:cubicBezTo>
                  <a:pt x="9930" y="8332"/>
                  <a:pt x="9992" y="8391"/>
                  <a:pt x="10046" y="8483"/>
                </a:cubicBezTo>
                <a:cubicBezTo>
                  <a:pt x="10109" y="8591"/>
                  <a:pt x="10153" y="8733"/>
                  <a:pt x="10170" y="8855"/>
                </a:cubicBezTo>
                <a:cubicBezTo>
                  <a:pt x="10188" y="8987"/>
                  <a:pt x="10148" y="8984"/>
                  <a:pt x="10096" y="9079"/>
                </a:cubicBezTo>
                <a:cubicBezTo>
                  <a:pt x="10063" y="9139"/>
                  <a:pt x="9976" y="9197"/>
                  <a:pt x="9897" y="9227"/>
                </a:cubicBezTo>
                <a:cubicBezTo>
                  <a:pt x="9819" y="9257"/>
                  <a:pt x="9714" y="9202"/>
                  <a:pt x="9649" y="9178"/>
                </a:cubicBezTo>
                <a:cubicBezTo>
                  <a:pt x="9609" y="9158"/>
                  <a:pt x="9602" y="9149"/>
                  <a:pt x="957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99" name="Ink 16"/>
          <p:cNvSpPr/>
          <p:nvPr/>
        </p:nvSpPr>
        <p:spPr>
          <a:xfrm>
            <a:off x="4133880" y="2840040"/>
            <a:ext cx="287280" cy="455760"/>
          </a:xfrm>
          <a:custGeom>
            <a:avLst/>
            <a:gdLst/>
            <a:ahLst/>
            <a:rect l="l" t="t" r="r" b="b"/>
            <a:pathLst>
              <a:path w="794" h="1266">
                <a:moveTo>
                  <a:pt x="11584" y="8111"/>
                </a:moveTo>
                <a:cubicBezTo>
                  <a:pt x="11624" y="8071"/>
                  <a:pt x="11646" y="8028"/>
                  <a:pt x="11683" y="7987"/>
                </a:cubicBezTo>
                <a:cubicBezTo>
                  <a:pt x="11719" y="7947"/>
                  <a:pt x="11777" y="7898"/>
                  <a:pt x="11832" y="7888"/>
                </a:cubicBezTo>
                <a:cubicBezTo>
                  <a:pt x="11882" y="7879"/>
                  <a:pt x="11990" y="7888"/>
                  <a:pt x="12030" y="7913"/>
                </a:cubicBezTo>
                <a:cubicBezTo>
                  <a:pt x="12085" y="7948"/>
                  <a:pt x="12173" y="8072"/>
                  <a:pt x="12179" y="8136"/>
                </a:cubicBezTo>
                <a:cubicBezTo>
                  <a:pt x="12199" y="8343"/>
                  <a:pt x="12159" y="8469"/>
                  <a:pt x="12105" y="8657"/>
                </a:cubicBezTo>
                <a:cubicBezTo>
                  <a:pt x="12065" y="8796"/>
                  <a:pt x="12046" y="8886"/>
                  <a:pt x="11956" y="9004"/>
                </a:cubicBezTo>
                <a:cubicBezTo>
                  <a:pt x="11878" y="9106"/>
                  <a:pt x="11790" y="9137"/>
                  <a:pt x="11708" y="9103"/>
                </a:cubicBezTo>
                <a:cubicBezTo>
                  <a:pt x="11637" y="9074"/>
                  <a:pt x="11583" y="9065"/>
                  <a:pt x="11534" y="9004"/>
                </a:cubicBezTo>
                <a:cubicBezTo>
                  <a:pt x="11512" y="8961"/>
                  <a:pt x="11509" y="8949"/>
                  <a:pt x="11485" y="8930"/>
                </a:cubicBezTo>
                <a:cubicBezTo>
                  <a:pt x="11583" y="8830"/>
                  <a:pt x="11592" y="8907"/>
                  <a:pt x="11708" y="8930"/>
                </a:cubicBezTo>
                <a:cubicBezTo>
                  <a:pt x="11832" y="8954"/>
                  <a:pt x="11955" y="8996"/>
                  <a:pt x="12080" y="9004"/>
                </a:cubicBezTo>
                <a:cubicBezTo>
                  <a:pt x="12138" y="9008"/>
                  <a:pt x="12334" y="9058"/>
                  <a:pt x="12229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0" name="Ink 17"/>
          <p:cNvSpPr/>
          <p:nvPr/>
        </p:nvSpPr>
        <p:spPr>
          <a:xfrm>
            <a:off x="5357880" y="2982960"/>
            <a:ext cx="1973160" cy="455400"/>
          </a:xfrm>
          <a:custGeom>
            <a:avLst/>
            <a:gdLst/>
            <a:ahLst/>
            <a:rect l="l" t="t" r="r" b="b"/>
            <a:pathLst>
              <a:path w="5483" h="1266">
                <a:moveTo>
                  <a:pt x="15280" y="8483"/>
                </a:moveTo>
                <a:cubicBezTo>
                  <a:pt x="15206" y="8528"/>
                  <a:pt x="15178" y="8511"/>
                  <a:pt x="15156" y="8434"/>
                </a:cubicBezTo>
                <a:cubicBezTo>
                  <a:pt x="15209" y="8402"/>
                  <a:pt x="15245" y="8366"/>
                  <a:pt x="15304" y="8359"/>
                </a:cubicBezTo>
                <a:cubicBezTo>
                  <a:pt x="15330" y="8356"/>
                  <a:pt x="15429" y="8407"/>
                  <a:pt x="15453" y="8434"/>
                </a:cubicBezTo>
                <a:cubicBezTo>
                  <a:pt x="15501" y="8489"/>
                  <a:pt x="15495" y="8517"/>
                  <a:pt x="15528" y="8582"/>
                </a:cubicBezTo>
                <a:cubicBezTo>
                  <a:pt x="15560" y="8645"/>
                  <a:pt x="15567" y="8735"/>
                  <a:pt x="15553" y="8806"/>
                </a:cubicBezTo>
                <a:cubicBezTo>
                  <a:pt x="15527" y="8933"/>
                  <a:pt x="15450" y="9047"/>
                  <a:pt x="15379" y="9153"/>
                </a:cubicBezTo>
                <a:cubicBezTo>
                  <a:pt x="15322" y="9238"/>
                  <a:pt x="15242" y="9319"/>
                  <a:pt x="15156" y="9376"/>
                </a:cubicBezTo>
                <a:cubicBezTo>
                  <a:pt x="15078" y="9428"/>
                  <a:pt x="15051" y="9451"/>
                  <a:pt x="14957" y="9451"/>
                </a:cubicBezTo>
                <a:cubicBezTo>
                  <a:pt x="14941" y="9451"/>
                  <a:pt x="14924" y="9451"/>
                  <a:pt x="14908" y="9451"/>
                </a:cubicBezTo>
                <a:cubicBezTo>
                  <a:pt x="14890" y="9390"/>
                  <a:pt x="14893" y="9321"/>
                  <a:pt x="14932" y="9252"/>
                </a:cubicBezTo>
                <a:cubicBezTo>
                  <a:pt x="14955" y="9212"/>
                  <a:pt x="15065" y="9119"/>
                  <a:pt x="15106" y="9103"/>
                </a:cubicBezTo>
                <a:cubicBezTo>
                  <a:pt x="15183" y="9073"/>
                  <a:pt x="15294" y="9180"/>
                  <a:pt x="15329" y="9227"/>
                </a:cubicBezTo>
                <a:cubicBezTo>
                  <a:pt x="15346" y="9250"/>
                  <a:pt x="15396" y="9324"/>
                  <a:pt x="15404" y="9376"/>
                </a:cubicBezTo>
                <a:cubicBezTo>
                  <a:pt x="15416" y="9451"/>
                  <a:pt x="15402" y="9479"/>
                  <a:pt x="15429" y="9550"/>
                </a:cubicBezTo>
              </a:path>
              <a:path w="5483" h="1266">
                <a:moveTo>
                  <a:pt x="15751" y="8880"/>
                </a:moveTo>
                <a:cubicBezTo>
                  <a:pt x="15791" y="8952"/>
                  <a:pt x="15823" y="9044"/>
                  <a:pt x="15875" y="9103"/>
                </a:cubicBezTo>
                <a:cubicBezTo>
                  <a:pt x="15930" y="9165"/>
                  <a:pt x="15940" y="9188"/>
                  <a:pt x="15974" y="9252"/>
                </a:cubicBezTo>
                <a:cubicBezTo>
                  <a:pt x="16006" y="9312"/>
                  <a:pt x="15993" y="9302"/>
                  <a:pt x="16049" y="9302"/>
                </a:cubicBezTo>
              </a:path>
              <a:path w="5483" h="1266">
                <a:moveTo>
                  <a:pt x="15900" y="8880"/>
                </a:moveTo>
                <a:cubicBezTo>
                  <a:pt x="15856" y="8992"/>
                  <a:pt x="15799" y="9090"/>
                  <a:pt x="15751" y="9178"/>
                </a:cubicBezTo>
                <a:cubicBezTo>
                  <a:pt x="15694" y="9281"/>
                  <a:pt x="15707" y="9341"/>
                  <a:pt x="15627" y="9401"/>
                </a:cubicBezTo>
              </a:path>
              <a:path w="5483" h="1266">
                <a:moveTo>
                  <a:pt x="16073" y="8334"/>
                </a:moveTo>
                <a:cubicBezTo>
                  <a:pt x="16301" y="8275"/>
                  <a:pt x="16224" y="8292"/>
                  <a:pt x="16396" y="8334"/>
                </a:cubicBezTo>
                <a:cubicBezTo>
                  <a:pt x="16413" y="8334"/>
                  <a:pt x="16429" y="8334"/>
                  <a:pt x="16446" y="8334"/>
                </a:cubicBezTo>
                <a:cubicBezTo>
                  <a:pt x="16435" y="8387"/>
                  <a:pt x="16405" y="8439"/>
                  <a:pt x="16371" y="8483"/>
                </a:cubicBezTo>
                <a:cubicBezTo>
                  <a:pt x="16319" y="8551"/>
                  <a:pt x="16352" y="8600"/>
                  <a:pt x="16446" y="8582"/>
                </a:cubicBezTo>
                <a:cubicBezTo>
                  <a:pt x="16484" y="8575"/>
                  <a:pt x="16614" y="8575"/>
                  <a:pt x="16644" y="8558"/>
                </a:cubicBezTo>
                <a:cubicBezTo>
                  <a:pt x="16711" y="8521"/>
                  <a:pt x="16736" y="8453"/>
                  <a:pt x="16718" y="8558"/>
                </a:cubicBezTo>
              </a:path>
              <a:path w="5483" h="1266">
                <a:moveTo>
                  <a:pt x="17314" y="8558"/>
                </a:moveTo>
                <a:cubicBezTo>
                  <a:pt x="17237" y="8635"/>
                  <a:pt x="17281" y="8741"/>
                  <a:pt x="17264" y="8855"/>
                </a:cubicBezTo>
                <a:cubicBezTo>
                  <a:pt x="17248" y="8963"/>
                  <a:pt x="17214" y="9040"/>
                  <a:pt x="17214" y="9153"/>
                </a:cubicBezTo>
                <a:cubicBezTo>
                  <a:pt x="17214" y="9227"/>
                  <a:pt x="17214" y="9252"/>
                  <a:pt x="17214" y="9302"/>
                </a:cubicBezTo>
              </a:path>
              <a:path w="5483" h="1266">
                <a:moveTo>
                  <a:pt x="16966" y="8954"/>
                </a:moveTo>
                <a:cubicBezTo>
                  <a:pt x="17028" y="8947"/>
                  <a:pt x="17162" y="8954"/>
                  <a:pt x="17214" y="8930"/>
                </a:cubicBezTo>
                <a:cubicBezTo>
                  <a:pt x="17307" y="8887"/>
                  <a:pt x="17373" y="8865"/>
                  <a:pt x="17487" y="8855"/>
                </a:cubicBezTo>
              </a:path>
              <a:path w="5483" h="1266">
                <a:moveTo>
                  <a:pt x="17884" y="8334"/>
                </a:moveTo>
                <a:cubicBezTo>
                  <a:pt x="18017" y="8305"/>
                  <a:pt x="18120" y="8285"/>
                  <a:pt x="18256" y="8285"/>
                </a:cubicBezTo>
                <a:cubicBezTo>
                  <a:pt x="18338" y="8285"/>
                  <a:pt x="18392" y="8277"/>
                  <a:pt x="18455" y="8334"/>
                </a:cubicBezTo>
                <a:cubicBezTo>
                  <a:pt x="18531" y="8403"/>
                  <a:pt x="18442" y="8463"/>
                  <a:pt x="18405" y="8508"/>
                </a:cubicBezTo>
                <a:cubicBezTo>
                  <a:pt x="18331" y="8599"/>
                  <a:pt x="18255" y="8690"/>
                  <a:pt x="18182" y="8781"/>
                </a:cubicBezTo>
                <a:cubicBezTo>
                  <a:pt x="18144" y="8829"/>
                  <a:pt x="18043" y="8939"/>
                  <a:pt x="18033" y="9004"/>
                </a:cubicBezTo>
                <a:cubicBezTo>
                  <a:pt x="18023" y="9069"/>
                  <a:pt x="18023" y="9180"/>
                  <a:pt x="18083" y="9227"/>
                </a:cubicBezTo>
                <a:cubicBezTo>
                  <a:pt x="18130" y="9264"/>
                  <a:pt x="18369" y="9227"/>
                  <a:pt x="18430" y="9227"/>
                </a:cubicBezTo>
              </a:path>
              <a:path w="5483" h="1266">
                <a:moveTo>
                  <a:pt x="18777" y="8855"/>
                </a:moveTo>
                <a:cubicBezTo>
                  <a:pt x="18946" y="8855"/>
                  <a:pt x="19047" y="8866"/>
                  <a:pt x="19199" y="8806"/>
                </a:cubicBezTo>
              </a:path>
              <a:path w="5483" h="1266">
                <a:moveTo>
                  <a:pt x="18852" y="9029"/>
                </a:moveTo>
                <a:cubicBezTo>
                  <a:pt x="18896" y="9068"/>
                  <a:pt x="18995" y="9114"/>
                  <a:pt x="19075" y="9079"/>
                </a:cubicBezTo>
                <a:cubicBezTo>
                  <a:pt x="19168" y="9038"/>
                  <a:pt x="19194" y="9013"/>
                  <a:pt x="19298" y="9004"/>
                </a:cubicBezTo>
              </a:path>
              <a:path w="5483" h="1266">
                <a:moveTo>
                  <a:pt x="19819" y="8483"/>
                </a:moveTo>
                <a:cubicBezTo>
                  <a:pt x="19802" y="8557"/>
                  <a:pt x="19786" y="8632"/>
                  <a:pt x="19769" y="8706"/>
                </a:cubicBezTo>
              </a:path>
              <a:path w="5483" h="1266">
                <a:moveTo>
                  <a:pt x="19769" y="9079"/>
                </a:moveTo>
                <a:cubicBezTo>
                  <a:pt x="19845" y="9159"/>
                  <a:pt x="19917" y="9266"/>
                  <a:pt x="20042" y="9252"/>
                </a:cubicBezTo>
                <a:cubicBezTo>
                  <a:pt x="20101" y="9245"/>
                  <a:pt x="20204" y="9200"/>
                  <a:pt x="20241" y="9153"/>
                </a:cubicBezTo>
                <a:cubicBezTo>
                  <a:pt x="20352" y="9014"/>
                  <a:pt x="20365" y="8943"/>
                  <a:pt x="20365" y="8781"/>
                </a:cubicBezTo>
                <a:cubicBezTo>
                  <a:pt x="20365" y="8673"/>
                  <a:pt x="20293" y="8556"/>
                  <a:pt x="20216" y="8483"/>
                </a:cubicBezTo>
                <a:cubicBezTo>
                  <a:pt x="20161" y="8431"/>
                  <a:pt x="19931" y="8351"/>
                  <a:pt x="19869" y="8359"/>
                </a:cubicBezTo>
                <a:cubicBezTo>
                  <a:pt x="19788" y="8370"/>
                  <a:pt x="19720" y="8409"/>
                  <a:pt x="19621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1" name="Ink 18"/>
          <p:cNvSpPr/>
          <p:nvPr/>
        </p:nvSpPr>
        <p:spPr>
          <a:xfrm>
            <a:off x="1268280" y="3490920"/>
            <a:ext cx="303480" cy="1054080"/>
          </a:xfrm>
          <a:custGeom>
            <a:avLst/>
            <a:gdLst/>
            <a:ahLst/>
            <a:rect l="l" t="t" r="r" b="b"/>
            <a:pathLst>
              <a:path w="845" h="2928">
                <a:moveTo>
                  <a:pt x="3944" y="9699"/>
                </a:moveTo>
                <a:cubicBezTo>
                  <a:pt x="3907" y="9800"/>
                  <a:pt x="3894" y="9862"/>
                  <a:pt x="3894" y="9971"/>
                </a:cubicBezTo>
                <a:cubicBezTo>
                  <a:pt x="3894" y="10257"/>
                  <a:pt x="3948" y="10594"/>
                  <a:pt x="3919" y="10864"/>
                </a:cubicBezTo>
                <a:cubicBezTo>
                  <a:pt x="3913" y="10920"/>
                  <a:pt x="3887" y="10992"/>
                  <a:pt x="3845" y="11013"/>
                </a:cubicBezTo>
              </a:path>
              <a:path w="845" h="2928">
                <a:moveTo>
                  <a:pt x="3522" y="10641"/>
                </a:moveTo>
                <a:cubicBezTo>
                  <a:pt x="3564" y="10724"/>
                  <a:pt x="3605" y="10806"/>
                  <a:pt x="3646" y="10889"/>
                </a:cubicBezTo>
                <a:cubicBezTo>
                  <a:pt x="3691" y="10978"/>
                  <a:pt x="3729" y="11088"/>
                  <a:pt x="3795" y="11162"/>
                </a:cubicBezTo>
                <a:cubicBezTo>
                  <a:pt x="3846" y="11218"/>
                  <a:pt x="3879" y="11177"/>
                  <a:pt x="3919" y="11137"/>
                </a:cubicBezTo>
                <a:cubicBezTo>
                  <a:pt x="3970" y="11086"/>
                  <a:pt x="4038" y="11064"/>
                  <a:pt x="4093" y="11013"/>
                </a:cubicBezTo>
                <a:cubicBezTo>
                  <a:pt x="4141" y="10969"/>
                  <a:pt x="4192" y="10966"/>
                  <a:pt x="4242" y="10939"/>
                </a:cubicBezTo>
                <a:cubicBezTo>
                  <a:pt x="4258" y="10931"/>
                  <a:pt x="4275" y="10922"/>
                  <a:pt x="4291" y="10914"/>
                </a:cubicBezTo>
              </a:path>
              <a:path w="845" h="2928">
                <a:moveTo>
                  <a:pt x="3969" y="12005"/>
                </a:moveTo>
                <a:cubicBezTo>
                  <a:pt x="3978" y="11940"/>
                  <a:pt x="3995" y="11928"/>
                  <a:pt x="4043" y="11881"/>
                </a:cubicBezTo>
                <a:cubicBezTo>
                  <a:pt x="4091" y="11834"/>
                  <a:pt x="4144" y="11791"/>
                  <a:pt x="4217" y="11807"/>
                </a:cubicBezTo>
                <a:cubicBezTo>
                  <a:pt x="4291" y="11823"/>
                  <a:pt x="4338" y="11891"/>
                  <a:pt x="4341" y="11956"/>
                </a:cubicBezTo>
                <a:cubicBezTo>
                  <a:pt x="4346" y="12065"/>
                  <a:pt x="4334" y="12099"/>
                  <a:pt x="4316" y="12204"/>
                </a:cubicBezTo>
                <a:cubicBezTo>
                  <a:pt x="4299" y="12306"/>
                  <a:pt x="4267" y="12328"/>
                  <a:pt x="4192" y="12402"/>
                </a:cubicBezTo>
                <a:cubicBezTo>
                  <a:pt x="4141" y="12452"/>
                  <a:pt x="4028" y="12427"/>
                  <a:pt x="3969" y="12402"/>
                </a:cubicBezTo>
                <a:cubicBezTo>
                  <a:pt x="3898" y="12373"/>
                  <a:pt x="3914" y="12277"/>
                  <a:pt x="3944" y="12229"/>
                </a:cubicBezTo>
                <a:cubicBezTo>
                  <a:pt x="3952" y="12221"/>
                  <a:pt x="3961" y="12212"/>
                  <a:pt x="3969" y="12204"/>
                </a:cubicBezTo>
                <a:cubicBezTo>
                  <a:pt x="4026" y="12250"/>
                  <a:pt x="4076" y="12290"/>
                  <a:pt x="4118" y="12353"/>
                </a:cubicBezTo>
                <a:cubicBezTo>
                  <a:pt x="4167" y="12427"/>
                  <a:pt x="4239" y="12479"/>
                  <a:pt x="4291" y="12551"/>
                </a:cubicBezTo>
                <a:cubicBezTo>
                  <a:pt x="4294" y="12554"/>
                  <a:pt x="4385" y="12670"/>
                  <a:pt x="4316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2" name="Ink 19"/>
          <p:cNvSpPr/>
          <p:nvPr/>
        </p:nvSpPr>
        <p:spPr>
          <a:xfrm>
            <a:off x="1928880" y="3589200"/>
            <a:ext cx="455400" cy="955800"/>
          </a:xfrm>
          <a:custGeom>
            <a:avLst/>
            <a:gdLst/>
            <a:ahLst/>
            <a:rect l="l" t="t" r="r" b="b"/>
            <a:pathLst>
              <a:path w="1266" h="2656">
                <a:moveTo>
                  <a:pt x="5358" y="10492"/>
                </a:moveTo>
                <a:cubicBezTo>
                  <a:pt x="5463" y="10492"/>
                  <a:pt x="5555" y="10505"/>
                  <a:pt x="5655" y="10517"/>
                </a:cubicBezTo>
                <a:cubicBezTo>
                  <a:pt x="5721" y="10517"/>
                  <a:pt x="5738" y="10517"/>
                  <a:pt x="5779" y="10517"/>
                </a:cubicBezTo>
              </a:path>
              <a:path w="1266" h="2656">
                <a:moveTo>
                  <a:pt x="6127" y="10195"/>
                </a:moveTo>
                <a:cubicBezTo>
                  <a:pt x="6118" y="10308"/>
                  <a:pt x="6079" y="10325"/>
                  <a:pt x="6052" y="10418"/>
                </a:cubicBezTo>
                <a:cubicBezTo>
                  <a:pt x="6052" y="10453"/>
                  <a:pt x="6048" y="10470"/>
                  <a:pt x="6028" y="10492"/>
                </a:cubicBezTo>
                <a:cubicBezTo>
                  <a:pt x="6155" y="10492"/>
                  <a:pt x="6229" y="10479"/>
                  <a:pt x="6350" y="10443"/>
                </a:cubicBezTo>
                <a:cubicBezTo>
                  <a:pt x="6358" y="10443"/>
                  <a:pt x="6367" y="10443"/>
                  <a:pt x="6375" y="10443"/>
                </a:cubicBezTo>
              </a:path>
              <a:path w="1266" h="2656">
                <a:moveTo>
                  <a:pt x="6474" y="9971"/>
                </a:moveTo>
                <a:cubicBezTo>
                  <a:pt x="6425" y="10008"/>
                  <a:pt x="6417" y="10058"/>
                  <a:pt x="6400" y="10120"/>
                </a:cubicBezTo>
                <a:cubicBezTo>
                  <a:pt x="6370" y="10229"/>
                  <a:pt x="6350" y="10304"/>
                  <a:pt x="6350" y="10418"/>
                </a:cubicBezTo>
                <a:cubicBezTo>
                  <a:pt x="6350" y="10538"/>
                  <a:pt x="6371" y="10647"/>
                  <a:pt x="6375" y="10765"/>
                </a:cubicBezTo>
                <a:cubicBezTo>
                  <a:pt x="6378" y="10839"/>
                  <a:pt x="6375" y="10914"/>
                  <a:pt x="6375" y="10988"/>
                </a:cubicBezTo>
              </a:path>
              <a:path w="1266" h="2656">
                <a:moveTo>
                  <a:pt x="6598" y="11782"/>
                </a:moveTo>
                <a:cubicBezTo>
                  <a:pt x="6615" y="11867"/>
                  <a:pt x="6598" y="11891"/>
                  <a:pt x="6598" y="11981"/>
                </a:cubicBezTo>
                <a:cubicBezTo>
                  <a:pt x="6598" y="12062"/>
                  <a:pt x="6576" y="12127"/>
                  <a:pt x="6573" y="12204"/>
                </a:cubicBezTo>
                <a:cubicBezTo>
                  <a:pt x="6569" y="12289"/>
                  <a:pt x="6594" y="12348"/>
                  <a:pt x="6598" y="12427"/>
                </a:cubicBezTo>
                <a:cubicBezTo>
                  <a:pt x="6602" y="12497"/>
                  <a:pt x="6618" y="12537"/>
                  <a:pt x="6623" y="12601"/>
                </a:cubicBezTo>
                <a:cubicBezTo>
                  <a:pt x="6623" y="12609"/>
                  <a:pt x="6623" y="12618"/>
                  <a:pt x="6623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3" name="Ink 20"/>
          <p:cNvSpPr/>
          <p:nvPr/>
        </p:nvSpPr>
        <p:spPr>
          <a:xfrm>
            <a:off x="3295800" y="3670200"/>
            <a:ext cx="1152360" cy="938160"/>
          </a:xfrm>
          <a:custGeom>
            <a:avLst/>
            <a:gdLst/>
            <a:ahLst/>
            <a:rect l="l" t="t" r="r" b="b"/>
            <a:pathLst>
              <a:path w="3201" h="2605">
                <a:moveTo>
                  <a:pt x="9153" y="10716"/>
                </a:moveTo>
                <a:cubicBezTo>
                  <a:pt x="9252" y="10716"/>
                  <a:pt x="9352" y="10716"/>
                  <a:pt x="9451" y="10716"/>
                </a:cubicBezTo>
              </a:path>
              <a:path w="3201" h="2605">
                <a:moveTo>
                  <a:pt x="9748" y="10368"/>
                </a:moveTo>
                <a:cubicBezTo>
                  <a:pt x="9763" y="10420"/>
                  <a:pt x="9765" y="10508"/>
                  <a:pt x="9723" y="10567"/>
                </a:cubicBezTo>
                <a:cubicBezTo>
                  <a:pt x="9690" y="10613"/>
                  <a:pt x="9623" y="10597"/>
                  <a:pt x="9674" y="10691"/>
                </a:cubicBezTo>
                <a:cubicBezTo>
                  <a:pt x="9701" y="10741"/>
                  <a:pt x="9857" y="10716"/>
                  <a:pt x="9897" y="10716"/>
                </a:cubicBezTo>
                <a:cubicBezTo>
                  <a:pt x="9956" y="10716"/>
                  <a:pt x="9982" y="10713"/>
                  <a:pt x="10021" y="10691"/>
                </a:cubicBezTo>
              </a:path>
              <a:path w="3201" h="2605">
                <a:moveTo>
                  <a:pt x="10096" y="10195"/>
                </a:moveTo>
                <a:cubicBezTo>
                  <a:pt x="10062" y="10296"/>
                  <a:pt x="10025" y="10386"/>
                  <a:pt x="10021" y="10492"/>
                </a:cubicBezTo>
                <a:cubicBezTo>
                  <a:pt x="10014" y="10690"/>
                  <a:pt x="10021" y="10890"/>
                  <a:pt x="10021" y="11088"/>
                </a:cubicBezTo>
              </a:path>
              <a:path w="3201" h="2605">
                <a:moveTo>
                  <a:pt x="10269" y="11981"/>
                </a:moveTo>
                <a:cubicBezTo>
                  <a:pt x="10323" y="11962"/>
                  <a:pt x="10294" y="12037"/>
                  <a:pt x="10294" y="12105"/>
                </a:cubicBezTo>
                <a:cubicBezTo>
                  <a:pt x="10294" y="12202"/>
                  <a:pt x="10309" y="12285"/>
                  <a:pt x="10319" y="12378"/>
                </a:cubicBezTo>
                <a:cubicBezTo>
                  <a:pt x="10330" y="12478"/>
                  <a:pt x="10357" y="12576"/>
                  <a:pt x="10368" y="12675"/>
                </a:cubicBezTo>
                <a:cubicBezTo>
                  <a:pt x="10368" y="12741"/>
                  <a:pt x="10368" y="12758"/>
                  <a:pt x="10368" y="12799"/>
                </a:cubicBezTo>
              </a:path>
              <a:path w="3201" h="2605">
                <a:moveTo>
                  <a:pt x="10790" y="10840"/>
                </a:moveTo>
                <a:cubicBezTo>
                  <a:pt x="10877" y="10840"/>
                  <a:pt x="10952" y="10861"/>
                  <a:pt x="11038" y="10864"/>
                </a:cubicBezTo>
                <a:cubicBezTo>
                  <a:pt x="11096" y="10866"/>
                  <a:pt x="11154" y="10864"/>
                  <a:pt x="11212" y="10864"/>
                </a:cubicBezTo>
              </a:path>
              <a:path w="3201" h="2605">
                <a:moveTo>
                  <a:pt x="11485" y="10517"/>
                </a:moveTo>
                <a:cubicBezTo>
                  <a:pt x="11497" y="10482"/>
                  <a:pt x="11528" y="10359"/>
                  <a:pt x="11584" y="10344"/>
                </a:cubicBezTo>
                <a:cubicBezTo>
                  <a:pt x="11640" y="10329"/>
                  <a:pt x="11758" y="10378"/>
                  <a:pt x="11782" y="10418"/>
                </a:cubicBezTo>
                <a:cubicBezTo>
                  <a:pt x="11827" y="10493"/>
                  <a:pt x="11806" y="10565"/>
                  <a:pt x="11782" y="10641"/>
                </a:cubicBezTo>
                <a:cubicBezTo>
                  <a:pt x="11753" y="10736"/>
                  <a:pt x="11707" y="10804"/>
                  <a:pt x="11658" y="10889"/>
                </a:cubicBezTo>
                <a:cubicBezTo>
                  <a:pt x="11626" y="10945"/>
                  <a:pt x="11596" y="11010"/>
                  <a:pt x="11559" y="11063"/>
                </a:cubicBezTo>
                <a:cubicBezTo>
                  <a:pt x="11531" y="11103"/>
                  <a:pt x="11516" y="11187"/>
                  <a:pt x="11584" y="11212"/>
                </a:cubicBezTo>
                <a:cubicBezTo>
                  <a:pt x="11642" y="11233"/>
                  <a:pt x="11744" y="11254"/>
                  <a:pt x="11807" y="11261"/>
                </a:cubicBezTo>
                <a:cubicBezTo>
                  <a:pt x="11919" y="11274"/>
                  <a:pt x="12014" y="11286"/>
                  <a:pt x="12129" y="11286"/>
                </a:cubicBezTo>
              </a:path>
              <a:path w="3201" h="2605">
                <a:moveTo>
                  <a:pt x="11931" y="11956"/>
                </a:moveTo>
                <a:cubicBezTo>
                  <a:pt x="11890" y="12036"/>
                  <a:pt x="11872" y="12052"/>
                  <a:pt x="11807" y="12105"/>
                </a:cubicBezTo>
                <a:cubicBezTo>
                  <a:pt x="11745" y="12155"/>
                  <a:pt x="11718" y="12209"/>
                  <a:pt x="11683" y="12278"/>
                </a:cubicBezTo>
                <a:cubicBezTo>
                  <a:pt x="11641" y="12362"/>
                  <a:pt x="11669" y="12395"/>
                  <a:pt x="11683" y="12477"/>
                </a:cubicBezTo>
                <a:cubicBezTo>
                  <a:pt x="11699" y="12574"/>
                  <a:pt x="11761" y="12591"/>
                  <a:pt x="11832" y="12650"/>
                </a:cubicBezTo>
                <a:cubicBezTo>
                  <a:pt x="11900" y="12707"/>
                  <a:pt x="11988" y="12757"/>
                  <a:pt x="12080" y="12774"/>
                </a:cubicBezTo>
                <a:cubicBezTo>
                  <a:pt x="12151" y="12787"/>
                  <a:pt x="12229" y="12747"/>
                  <a:pt x="12278" y="12700"/>
                </a:cubicBezTo>
                <a:cubicBezTo>
                  <a:pt x="12379" y="12605"/>
                  <a:pt x="12370" y="12495"/>
                  <a:pt x="12353" y="12353"/>
                </a:cubicBezTo>
                <a:cubicBezTo>
                  <a:pt x="12338" y="12228"/>
                  <a:pt x="12279" y="12108"/>
                  <a:pt x="12179" y="12030"/>
                </a:cubicBezTo>
                <a:cubicBezTo>
                  <a:pt x="12090" y="11961"/>
                  <a:pt x="12015" y="11940"/>
                  <a:pt x="11906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4" name="Ink 21"/>
          <p:cNvSpPr/>
          <p:nvPr/>
        </p:nvSpPr>
        <p:spPr>
          <a:xfrm>
            <a:off x="2678040" y="3670200"/>
            <a:ext cx="403200" cy="339840"/>
          </a:xfrm>
          <a:custGeom>
            <a:avLst/>
            <a:gdLst/>
            <a:ahLst/>
            <a:rect l="l" t="t" r="r" b="b"/>
            <a:pathLst>
              <a:path w="1118" h="943">
                <a:moveTo>
                  <a:pt x="7441" y="10641"/>
                </a:moveTo>
                <a:cubicBezTo>
                  <a:pt x="7565" y="10641"/>
                  <a:pt x="7689" y="10641"/>
                  <a:pt x="7813" y="10641"/>
                </a:cubicBezTo>
              </a:path>
              <a:path w="1118" h="943">
                <a:moveTo>
                  <a:pt x="7987" y="10294"/>
                </a:moveTo>
                <a:cubicBezTo>
                  <a:pt x="8019" y="10230"/>
                  <a:pt x="8086" y="10138"/>
                  <a:pt x="8186" y="10195"/>
                </a:cubicBezTo>
                <a:cubicBezTo>
                  <a:pt x="8264" y="10240"/>
                  <a:pt x="8329" y="10279"/>
                  <a:pt x="8334" y="10368"/>
                </a:cubicBezTo>
                <a:cubicBezTo>
                  <a:pt x="8341" y="10491"/>
                  <a:pt x="8310" y="10476"/>
                  <a:pt x="8260" y="10567"/>
                </a:cubicBezTo>
                <a:cubicBezTo>
                  <a:pt x="8197" y="10682"/>
                  <a:pt x="8148" y="10715"/>
                  <a:pt x="8062" y="10815"/>
                </a:cubicBezTo>
                <a:cubicBezTo>
                  <a:pt x="8036" y="10846"/>
                  <a:pt x="7972" y="10947"/>
                  <a:pt x="7962" y="10988"/>
                </a:cubicBezTo>
                <a:cubicBezTo>
                  <a:pt x="7932" y="11115"/>
                  <a:pt x="8038" y="11073"/>
                  <a:pt x="8111" y="11088"/>
                </a:cubicBezTo>
                <a:cubicBezTo>
                  <a:pt x="8199" y="11106"/>
                  <a:pt x="8268" y="11112"/>
                  <a:pt x="8359" y="11112"/>
                </a:cubicBezTo>
                <a:cubicBezTo>
                  <a:pt x="8438" y="11112"/>
                  <a:pt x="8463" y="11133"/>
                  <a:pt x="8533" y="11112"/>
                </a:cubicBezTo>
                <a:cubicBezTo>
                  <a:pt x="8541" y="11112"/>
                  <a:pt x="8550" y="11112"/>
                  <a:pt x="8558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5" name="Ink 22"/>
          <p:cNvSpPr/>
          <p:nvPr/>
        </p:nvSpPr>
        <p:spPr>
          <a:xfrm>
            <a:off x="2973240" y="4303800"/>
            <a:ext cx="295560" cy="839880"/>
          </a:xfrm>
          <a:custGeom>
            <a:avLst/>
            <a:gdLst/>
            <a:ahLst/>
            <a:rect l="l" t="t" r="r" b="b"/>
            <a:pathLst>
              <a:path w="820" h="2333">
                <a:moveTo>
                  <a:pt x="8359" y="12080"/>
                </a:moveTo>
                <a:cubicBezTo>
                  <a:pt x="8396" y="12034"/>
                  <a:pt x="8417" y="11971"/>
                  <a:pt x="8483" y="11956"/>
                </a:cubicBezTo>
                <a:cubicBezTo>
                  <a:pt x="8565" y="11937"/>
                  <a:pt x="8639" y="12007"/>
                  <a:pt x="8682" y="12055"/>
                </a:cubicBezTo>
                <a:cubicBezTo>
                  <a:pt x="8722" y="12099"/>
                  <a:pt x="8748" y="12171"/>
                  <a:pt x="8756" y="12229"/>
                </a:cubicBezTo>
                <a:cubicBezTo>
                  <a:pt x="8771" y="12344"/>
                  <a:pt x="8720" y="12447"/>
                  <a:pt x="8682" y="12551"/>
                </a:cubicBezTo>
                <a:cubicBezTo>
                  <a:pt x="8648" y="12643"/>
                  <a:pt x="8620" y="12715"/>
                  <a:pt x="8533" y="12774"/>
                </a:cubicBezTo>
                <a:cubicBezTo>
                  <a:pt x="8474" y="12814"/>
                  <a:pt x="8386" y="12815"/>
                  <a:pt x="8334" y="12774"/>
                </a:cubicBezTo>
                <a:cubicBezTo>
                  <a:pt x="8286" y="12736"/>
                  <a:pt x="8263" y="12710"/>
                  <a:pt x="8260" y="12650"/>
                </a:cubicBezTo>
                <a:cubicBezTo>
                  <a:pt x="8256" y="12564"/>
                  <a:pt x="8276" y="12531"/>
                  <a:pt x="8359" y="12526"/>
                </a:cubicBezTo>
                <a:cubicBezTo>
                  <a:pt x="8443" y="12521"/>
                  <a:pt x="8490" y="12565"/>
                  <a:pt x="8558" y="12601"/>
                </a:cubicBezTo>
                <a:cubicBezTo>
                  <a:pt x="8610" y="12629"/>
                  <a:pt x="8716" y="12682"/>
                  <a:pt x="8756" y="12725"/>
                </a:cubicBezTo>
                <a:cubicBezTo>
                  <a:pt x="8812" y="12784"/>
                  <a:pt x="8852" y="12809"/>
                  <a:pt x="8930" y="12849"/>
                </a:cubicBezTo>
                <a:cubicBezTo>
                  <a:pt x="9008" y="12888"/>
                  <a:pt x="9046" y="12981"/>
                  <a:pt x="9079" y="12898"/>
                </a:cubicBezTo>
              </a:path>
              <a:path w="820" h="2333">
                <a:moveTo>
                  <a:pt x="8657" y="13271"/>
                </a:moveTo>
                <a:cubicBezTo>
                  <a:pt x="8626" y="13331"/>
                  <a:pt x="8610" y="13391"/>
                  <a:pt x="8582" y="13444"/>
                </a:cubicBezTo>
                <a:cubicBezTo>
                  <a:pt x="8552" y="13501"/>
                  <a:pt x="8517" y="13553"/>
                  <a:pt x="8508" y="13618"/>
                </a:cubicBezTo>
                <a:cubicBezTo>
                  <a:pt x="8494" y="13727"/>
                  <a:pt x="8521" y="13839"/>
                  <a:pt x="8533" y="13940"/>
                </a:cubicBezTo>
                <a:cubicBezTo>
                  <a:pt x="8544" y="14031"/>
                  <a:pt x="8565" y="14080"/>
                  <a:pt x="8607" y="14163"/>
                </a:cubicBezTo>
                <a:cubicBezTo>
                  <a:pt x="8622" y="14193"/>
                  <a:pt x="8668" y="14277"/>
                  <a:pt x="8706" y="14288"/>
                </a:cubicBezTo>
                <a:cubicBezTo>
                  <a:pt x="8760" y="14303"/>
                  <a:pt x="8844" y="14281"/>
                  <a:pt x="8880" y="14238"/>
                </a:cubicBezTo>
                <a:cubicBezTo>
                  <a:pt x="8946" y="14161"/>
                  <a:pt x="8958" y="14054"/>
                  <a:pt x="8979" y="13965"/>
                </a:cubicBezTo>
                <a:cubicBezTo>
                  <a:pt x="8999" y="13879"/>
                  <a:pt x="8996" y="13760"/>
                  <a:pt x="8979" y="13667"/>
                </a:cubicBezTo>
                <a:cubicBezTo>
                  <a:pt x="8959" y="13562"/>
                  <a:pt x="8925" y="13460"/>
                  <a:pt x="8880" y="13370"/>
                </a:cubicBezTo>
                <a:cubicBezTo>
                  <a:pt x="8843" y="13295"/>
                  <a:pt x="8812" y="13207"/>
                  <a:pt x="8756" y="13146"/>
                </a:cubicBezTo>
                <a:cubicBezTo>
                  <a:pt x="8710" y="13096"/>
                  <a:pt x="8675" y="13143"/>
                  <a:pt x="8632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6" name="Ink 23"/>
          <p:cNvSpPr/>
          <p:nvPr/>
        </p:nvSpPr>
        <p:spPr>
          <a:xfrm>
            <a:off x="3143160" y="5411880"/>
            <a:ext cx="277920" cy="428400"/>
          </a:xfrm>
          <a:custGeom>
            <a:avLst/>
            <a:gdLst/>
            <a:ahLst/>
            <a:rect l="l" t="t" r="r" b="b"/>
            <a:pathLst>
              <a:path w="770" h="1191">
                <a:moveTo>
                  <a:pt x="8731" y="15106"/>
                </a:moveTo>
                <a:cubicBezTo>
                  <a:pt x="8802" y="15135"/>
                  <a:pt x="8795" y="15094"/>
                  <a:pt x="8855" y="15056"/>
                </a:cubicBezTo>
                <a:cubicBezTo>
                  <a:pt x="8924" y="15013"/>
                  <a:pt x="9008" y="15029"/>
                  <a:pt x="9079" y="15056"/>
                </a:cubicBezTo>
                <a:cubicBezTo>
                  <a:pt x="9163" y="15088"/>
                  <a:pt x="9188" y="15172"/>
                  <a:pt x="9203" y="15255"/>
                </a:cubicBezTo>
                <a:cubicBezTo>
                  <a:pt x="9221" y="15354"/>
                  <a:pt x="9167" y="15458"/>
                  <a:pt x="9153" y="15553"/>
                </a:cubicBezTo>
                <a:cubicBezTo>
                  <a:pt x="9142" y="15628"/>
                  <a:pt x="9095" y="15679"/>
                  <a:pt x="9079" y="15751"/>
                </a:cubicBezTo>
                <a:cubicBezTo>
                  <a:pt x="9064" y="15819"/>
                  <a:pt x="9031" y="15823"/>
                  <a:pt x="8979" y="15875"/>
                </a:cubicBezTo>
                <a:cubicBezTo>
                  <a:pt x="8927" y="15927"/>
                  <a:pt x="8919" y="15935"/>
                  <a:pt x="8855" y="15900"/>
                </a:cubicBezTo>
                <a:cubicBezTo>
                  <a:pt x="8815" y="15879"/>
                  <a:pt x="8763" y="15805"/>
                  <a:pt x="8781" y="15751"/>
                </a:cubicBezTo>
                <a:cubicBezTo>
                  <a:pt x="8794" y="15712"/>
                  <a:pt x="8811" y="15640"/>
                  <a:pt x="8830" y="15602"/>
                </a:cubicBezTo>
                <a:cubicBezTo>
                  <a:pt x="8862" y="15538"/>
                  <a:pt x="8908" y="15553"/>
                  <a:pt x="8954" y="15577"/>
                </a:cubicBezTo>
                <a:cubicBezTo>
                  <a:pt x="9019" y="15611"/>
                  <a:pt x="9084" y="15666"/>
                  <a:pt x="9128" y="15726"/>
                </a:cubicBezTo>
                <a:cubicBezTo>
                  <a:pt x="9169" y="15783"/>
                  <a:pt x="9201" y="15823"/>
                  <a:pt x="9252" y="15875"/>
                </a:cubicBezTo>
                <a:cubicBezTo>
                  <a:pt x="9294" y="15918"/>
                  <a:pt x="9342" y="15982"/>
                  <a:pt x="9376" y="16024"/>
                </a:cubicBezTo>
                <a:cubicBezTo>
                  <a:pt x="9418" y="16076"/>
                  <a:pt x="9429" y="16146"/>
                  <a:pt x="9475" y="16197"/>
                </a:cubicBezTo>
                <a:cubicBezTo>
                  <a:pt x="9540" y="16269"/>
                  <a:pt x="9454" y="16154"/>
                  <a:pt x="9451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7" name="Ink 24"/>
          <p:cNvSpPr/>
          <p:nvPr/>
        </p:nvSpPr>
        <p:spPr>
          <a:xfrm>
            <a:off x="438120" y="4054320"/>
            <a:ext cx="820800" cy="723960"/>
          </a:xfrm>
          <a:custGeom>
            <a:avLst/>
            <a:gdLst/>
            <a:ahLst/>
            <a:rect l="l" t="t" r="r" b="b"/>
            <a:pathLst>
              <a:path w="2283" h="2011">
                <a:moveTo>
                  <a:pt x="3473" y="11460"/>
                </a:moveTo>
                <a:cubicBezTo>
                  <a:pt x="3485" y="11514"/>
                  <a:pt x="3506" y="11566"/>
                  <a:pt x="3497" y="11633"/>
                </a:cubicBezTo>
                <a:cubicBezTo>
                  <a:pt x="3484" y="11737"/>
                  <a:pt x="3452" y="11823"/>
                  <a:pt x="3448" y="11931"/>
                </a:cubicBezTo>
                <a:cubicBezTo>
                  <a:pt x="3438" y="12221"/>
                  <a:pt x="3445" y="12514"/>
                  <a:pt x="3473" y="12799"/>
                </a:cubicBezTo>
                <a:cubicBezTo>
                  <a:pt x="3488" y="12953"/>
                  <a:pt x="3473" y="13116"/>
                  <a:pt x="3473" y="13271"/>
                </a:cubicBezTo>
                <a:cubicBezTo>
                  <a:pt x="3430" y="13233"/>
                  <a:pt x="3404" y="13195"/>
                  <a:pt x="3349" y="13171"/>
                </a:cubicBezTo>
                <a:cubicBezTo>
                  <a:pt x="3292" y="13146"/>
                  <a:pt x="3214" y="13139"/>
                  <a:pt x="3150" y="13122"/>
                </a:cubicBezTo>
                <a:cubicBezTo>
                  <a:pt x="3043" y="13093"/>
                  <a:pt x="2937" y="13077"/>
                  <a:pt x="2828" y="13047"/>
                </a:cubicBezTo>
                <a:cubicBezTo>
                  <a:pt x="2720" y="13017"/>
                  <a:pt x="2590" y="12989"/>
                  <a:pt x="2480" y="12973"/>
                </a:cubicBezTo>
                <a:cubicBezTo>
                  <a:pt x="2364" y="12956"/>
                  <a:pt x="2227" y="12930"/>
                  <a:pt x="2108" y="12948"/>
                </a:cubicBezTo>
                <a:cubicBezTo>
                  <a:pt x="2036" y="12959"/>
                  <a:pt x="1955" y="12991"/>
                  <a:pt x="1885" y="12998"/>
                </a:cubicBezTo>
                <a:cubicBezTo>
                  <a:pt x="1842" y="13002"/>
                  <a:pt x="1789" y="12974"/>
                  <a:pt x="1786" y="12973"/>
                </a:cubicBezTo>
              </a:path>
              <a:path w="2283" h="2011">
                <a:moveTo>
                  <a:pt x="1215" y="11683"/>
                </a:moveTo>
                <a:cubicBezTo>
                  <a:pt x="1285" y="11692"/>
                  <a:pt x="1349" y="11705"/>
                  <a:pt x="1414" y="11733"/>
                </a:cubicBezTo>
                <a:cubicBezTo>
                  <a:pt x="1479" y="11762"/>
                  <a:pt x="1544" y="11784"/>
                  <a:pt x="1612" y="11807"/>
                </a:cubicBezTo>
              </a:path>
              <a:path w="2283" h="2011">
                <a:moveTo>
                  <a:pt x="2208" y="11311"/>
                </a:moveTo>
                <a:cubicBezTo>
                  <a:pt x="2208" y="11488"/>
                  <a:pt x="2201" y="11660"/>
                  <a:pt x="2232" y="11832"/>
                </a:cubicBezTo>
                <a:cubicBezTo>
                  <a:pt x="2232" y="11840"/>
                  <a:pt x="2232" y="11849"/>
                  <a:pt x="2232" y="11857"/>
                </a:cubicBezTo>
              </a:path>
              <a:path w="2283" h="2011">
                <a:moveTo>
                  <a:pt x="2456" y="11261"/>
                </a:moveTo>
                <a:cubicBezTo>
                  <a:pt x="2500" y="11352"/>
                  <a:pt x="2458" y="11412"/>
                  <a:pt x="2431" y="11509"/>
                </a:cubicBezTo>
                <a:cubicBezTo>
                  <a:pt x="2391" y="11652"/>
                  <a:pt x="2347" y="11789"/>
                  <a:pt x="2307" y="11931"/>
                </a:cubicBezTo>
                <a:cubicBezTo>
                  <a:pt x="2270" y="12064"/>
                  <a:pt x="2238" y="12227"/>
                  <a:pt x="2183" y="12353"/>
                </a:cubicBezTo>
                <a:cubicBezTo>
                  <a:pt x="2142" y="12447"/>
                  <a:pt x="2122" y="12535"/>
                  <a:pt x="2084" y="12626"/>
                </a:cubicBezTo>
                <a:cubicBezTo>
                  <a:pt x="2037" y="12737"/>
                  <a:pt x="2074" y="12646"/>
                  <a:pt x="2084" y="12626"/>
                </a:cubicBezTo>
              </a:path>
              <a:path w="2283" h="2011">
                <a:moveTo>
                  <a:pt x="2406" y="12105"/>
                </a:moveTo>
                <a:cubicBezTo>
                  <a:pt x="2514" y="12078"/>
                  <a:pt x="2521" y="12076"/>
                  <a:pt x="2604" y="12129"/>
                </a:cubicBezTo>
                <a:cubicBezTo>
                  <a:pt x="2651" y="12159"/>
                  <a:pt x="2694" y="12234"/>
                  <a:pt x="2679" y="12303"/>
                </a:cubicBezTo>
                <a:cubicBezTo>
                  <a:pt x="2666" y="12361"/>
                  <a:pt x="2589" y="12432"/>
                  <a:pt x="2555" y="12477"/>
                </a:cubicBezTo>
                <a:cubicBezTo>
                  <a:pt x="2543" y="12493"/>
                  <a:pt x="2455" y="12584"/>
                  <a:pt x="2456" y="12601"/>
                </a:cubicBezTo>
                <a:cubicBezTo>
                  <a:pt x="2464" y="12723"/>
                  <a:pt x="2610" y="12683"/>
                  <a:pt x="2679" y="12700"/>
                </a:cubicBezTo>
                <a:cubicBezTo>
                  <a:pt x="2760" y="12719"/>
                  <a:pt x="2841" y="12745"/>
                  <a:pt x="2927" y="12750"/>
                </a:cubicBezTo>
                <a:cubicBezTo>
                  <a:pt x="2968" y="12752"/>
                  <a:pt x="3010" y="12750"/>
                  <a:pt x="3051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8" name="Ink 25"/>
          <p:cNvSpPr/>
          <p:nvPr/>
        </p:nvSpPr>
        <p:spPr>
          <a:xfrm>
            <a:off x="2116080" y="4749840"/>
            <a:ext cx="492120" cy="849240"/>
          </a:xfrm>
          <a:custGeom>
            <a:avLst/>
            <a:gdLst/>
            <a:ahLst/>
            <a:rect l="l" t="t" r="r" b="b"/>
            <a:pathLst>
              <a:path w="1365" h="2358">
                <a:moveTo>
                  <a:pt x="5879" y="13692"/>
                </a:moveTo>
                <a:cubicBezTo>
                  <a:pt x="5970" y="13718"/>
                  <a:pt x="6058" y="13762"/>
                  <a:pt x="6152" y="13767"/>
                </a:cubicBezTo>
                <a:cubicBezTo>
                  <a:pt x="6210" y="13767"/>
                  <a:pt x="6235" y="13767"/>
                  <a:pt x="6276" y="13767"/>
                </a:cubicBezTo>
              </a:path>
              <a:path w="1365" h="2358">
                <a:moveTo>
                  <a:pt x="6722" y="13196"/>
                </a:moveTo>
                <a:cubicBezTo>
                  <a:pt x="6712" y="13275"/>
                  <a:pt x="6697" y="13335"/>
                  <a:pt x="6697" y="13419"/>
                </a:cubicBezTo>
                <a:cubicBezTo>
                  <a:pt x="6697" y="13509"/>
                  <a:pt x="6676" y="13580"/>
                  <a:pt x="6672" y="13667"/>
                </a:cubicBezTo>
                <a:cubicBezTo>
                  <a:pt x="6665" y="13815"/>
                  <a:pt x="6672" y="13966"/>
                  <a:pt x="6672" y="14114"/>
                </a:cubicBezTo>
              </a:path>
              <a:path w="1365" h="2358">
                <a:moveTo>
                  <a:pt x="6896" y="14734"/>
                </a:moveTo>
                <a:cubicBezTo>
                  <a:pt x="6841" y="14803"/>
                  <a:pt x="6815" y="14883"/>
                  <a:pt x="6772" y="14957"/>
                </a:cubicBezTo>
                <a:cubicBezTo>
                  <a:pt x="6732" y="15025"/>
                  <a:pt x="6722" y="15048"/>
                  <a:pt x="6722" y="15131"/>
                </a:cubicBezTo>
                <a:cubicBezTo>
                  <a:pt x="6722" y="15214"/>
                  <a:pt x="6737" y="15278"/>
                  <a:pt x="6747" y="15354"/>
                </a:cubicBezTo>
                <a:cubicBezTo>
                  <a:pt x="6760" y="15451"/>
                  <a:pt x="6759" y="15476"/>
                  <a:pt x="6846" y="15528"/>
                </a:cubicBezTo>
                <a:cubicBezTo>
                  <a:pt x="6922" y="15574"/>
                  <a:pt x="7004" y="15560"/>
                  <a:pt x="7069" y="15503"/>
                </a:cubicBezTo>
                <a:cubicBezTo>
                  <a:pt x="7128" y="15451"/>
                  <a:pt x="7165" y="15377"/>
                  <a:pt x="7193" y="15304"/>
                </a:cubicBezTo>
                <a:cubicBezTo>
                  <a:pt x="7231" y="15207"/>
                  <a:pt x="7243" y="15134"/>
                  <a:pt x="7243" y="15032"/>
                </a:cubicBezTo>
                <a:cubicBezTo>
                  <a:pt x="7243" y="14924"/>
                  <a:pt x="7219" y="14866"/>
                  <a:pt x="7169" y="14784"/>
                </a:cubicBezTo>
                <a:cubicBezTo>
                  <a:pt x="7128" y="14717"/>
                  <a:pt x="7114" y="14676"/>
                  <a:pt x="7045" y="14635"/>
                </a:cubicBezTo>
                <a:cubicBezTo>
                  <a:pt x="6947" y="14576"/>
                  <a:pt x="6946" y="14595"/>
                  <a:pt x="6821" y="146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09" name="Ink 26"/>
          <p:cNvSpPr/>
          <p:nvPr/>
        </p:nvSpPr>
        <p:spPr>
          <a:xfrm>
            <a:off x="1241280" y="4160880"/>
            <a:ext cx="3214800" cy="1322280"/>
          </a:xfrm>
          <a:custGeom>
            <a:avLst/>
            <a:gdLst/>
            <a:ahLst/>
            <a:rect l="l" t="t" r="r" b="b"/>
            <a:pathLst>
              <a:path w="8931" h="3672">
                <a:moveTo>
                  <a:pt x="3473" y="11633"/>
                </a:moveTo>
                <a:cubicBezTo>
                  <a:pt x="3465" y="11641"/>
                  <a:pt x="3456" y="11650"/>
                  <a:pt x="3448" y="11658"/>
                </a:cubicBezTo>
              </a:path>
              <a:path w="8931" h="3672">
                <a:moveTo>
                  <a:pt x="3473" y="11559"/>
                </a:moveTo>
                <a:cubicBezTo>
                  <a:pt x="3549" y="11562"/>
                  <a:pt x="3628" y="11580"/>
                  <a:pt x="3696" y="11584"/>
                </a:cubicBezTo>
                <a:cubicBezTo>
                  <a:pt x="4241" y="11615"/>
                  <a:pt x="4789" y="11519"/>
                  <a:pt x="5333" y="11559"/>
                </a:cubicBezTo>
                <a:cubicBezTo>
                  <a:pt x="5672" y="11584"/>
                  <a:pt x="6012" y="11584"/>
                  <a:pt x="6350" y="11609"/>
                </a:cubicBezTo>
                <a:cubicBezTo>
                  <a:pt x="6648" y="11631"/>
                  <a:pt x="6946" y="11635"/>
                  <a:pt x="7243" y="11658"/>
                </a:cubicBezTo>
                <a:cubicBezTo>
                  <a:pt x="7541" y="11681"/>
                  <a:pt x="7839" y="11712"/>
                  <a:pt x="8136" y="11733"/>
                </a:cubicBezTo>
                <a:cubicBezTo>
                  <a:pt x="8433" y="11754"/>
                  <a:pt x="8732" y="11793"/>
                  <a:pt x="9029" y="11807"/>
                </a:cubicBezTo>
                <a:cubicBezTo>
                  <a:pt x="9392" y="11824"/>
                  <a:pt x="9757" y="11844"/>
                  <a:pt x="10120" y="11857"/>
                </a:cubicBezTo>
                <a:cubicBezTo>
                  <a:pt x="10401" y="11867"/>
                  <a:pt x="10684" y="11856"/>
                  <a:pt x="10964" y="11881"/>
                </a:cubicBezTo>
                <a:cubicBezTo>
                  <a:pt x="11193" y="11901"/>
                  <a:pt x="11404" y="11898"/>
                  <a:pt x="11633" y="11881"/>
                </a:cubicBezTo>
                <a:cubicBezTo>
                  <a:pt x="11787" y="11870"/>
                  <a:pt x="11955" y="11865"/>
                  <a:pt x="12105" y="11832"/>
                </a:cubicBezTo>
                <a:cubicBezTo>
                  <a:pt x="12199" y="11812"/>
                  <a:pt x="12274" y="11784"/>
                  <a:pt x="12353" y="11733"/>
                </a:cubicBezTo>
                <a:cubicBezTo>
                  <a:pt x="12376" y="11710"/>
                  <a:pt x="12384" y="11706"/>
                  <a:pt x="12378" y="11683"/>
                </a:cubicBezTo>
              </a:path>
              <a:path w="8931" h="3672">
                <a:moveTo>
                  <a:pt x="3820" y="14833"/>
                </a:moveTo>
                <a:cubicBezTo>
                  <a:pt x="4551" y="14833"/>
                  <a:pt x="5277" y="14823"/>
                  <a:pt x="6003" y="14784"/>
                </a:cubicBezTo>
                <a:cubicBezTo>
                  <a:pt x="6227" y="14772"/>
                  <a:pt x="6447" y="14759"/>
                  <a:pt x="6672" y="14759"/>
                </a:cubicBezTo>
                <a:cubicBezTo>
                  <a:pt x="7044" y="14759"/>
                  <a:pt x="7416" y="14734"/>
                  <a:pt x="7789" y="14734"/>
                </a:cubicBezTo>
                <a:cubicBezTo>
                  <a:pt x="8163" y="14734"/>
                  <a:pt x="8533" y="14742"/>
                  <a:pt x="8905" y="14759"/>
                </a:cubicBezTo>
                <a:cubicBezTo>
                  <a:pt x="9162" y="14771"/>
                  <a:pt x="9418" y="14780"/>
                  <a:pt x="9674" y="14808"/>
                </a:cubicBezTo>
                <a:cubicBezTo>
                  <a:pt x="9931" y="14836"/>
                  <a:pt x="10186" y="14848"/>
                  <a:pt x="10443" y="14883"/>
                </a:cubicBezTo>
                <a:cubicBezTo>
                  <a:pt x="10675" y="14915"/>
                  <a:pt x="10905" y="14921"/>
                  <a:pt x="11137" y="14957"/>
                </a:cubicBezTo>
                <a:cubicBezTo>
                  <a:pt x="11330" y="14987"/>
                  <a:pt x="11515" y="15050"/>
                  <a:pt x="11708" y="15081"/>
                </a:cubicBezTo>
                <a:cubicBezTo>
                  <a:pt x="11845" y="15103"/>
                  <a:pt x="11968" y="15120"/>
                  <a:pt x="12105" y="15156"/>
                </a:cubicBezTo>
                <a:cubicBezTo>
                  <a:pt x="12149" y="15167"/>
                  <a:pt x="12289" y="15233"/>
                  <a:pt x="12328" y="15230"/>
                </a:cubicBezTo>
                <a:cubicBezTo>
                  <a:pt x="12353" y="15205"/>
                  <a:pt x="12361" y="15197"/>
                  <a:pt x="12328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0" name="Ink 27"/>
          <p:cNvSpPr/>
          <p:nvPr/>
        </p:nvSpPr>
        <p:spPr>
          <a:xfrm>
            <a:off x="1393920" y="4660920"/>
            <a:ext cx="249120" cy="447480"/>
          </a:xfrm>
          <a:custGeom>
            <a:avLst/>
            <a:gdLst/>
            <a:ahLst/>
            <a:rect l="l" t="t" r="r" b="b"/>
            <a:pathLst>
              <a:path w="695" h="1241">
                <a:moveTo>
                  <a:pt x="4142" y="12948"/>
                </a:moveTo>
                <a:cubicBezTo>
                  <a:pt x="4142" y="13053"/>
                  <a:pt x="4163" y="13144"/>
                  <a:pt x="4167" y="13246"/>
                </a:cubicBezTo>
                <a:cubicBezTo>
                  <a:pt x="4171" y="13365"/>
                  <a:pt x="4205" y="13476"/>
                  <a:pt x="4217" y="13593"/>
                </a:cubicBezTo>
                <a:cubicBezTo>
                  <a:pt x="4228" y="13702"/>
                  <a:pt x="4252" y="13808"/>
                  <a:pt x="4266" y="13915"/>
                </a:cubicBezTo>
                <a:cubicBezTo>
                  <a:pt x="4275" y="13985"/>
                  <a:pt x="4283" y="13999"/>
                  <a:pt x="4266" y="14064"/>
                </a:cubicBezTo>
              </a:path>
              <a:path w="695" h="1241">
                <a:moveTo>
                  <a:pt x="3870" y="13643"/>
                </a:moveTo>
                <a:cubicBezTo>
                  <a:pt x="3916" y="13713"/>
                  <a:pt x="3979" y="13789"/>
                  <a:pt x="4018" y="13866"/>
                </a:cubicBezTo>
                <a:cubicBezTo>
                  <a:pt x="4063" y="13956"/>
                  <a:pt x="4119" y="14028"/>
                  <a:pt x="4167" y="14114"/>
                </a:cubicBezTo>
                <a:cubicBezTo>
                  <a:pt x="4189" y="14157"/>
                  <a:pt x="4193" y="14169"/>
                  <a:pt x="4217" y="14188"/>
                </a:cubicBezTo>
                <a:cubicBezTo>
                  <a:pt x="4284" y="14150"/>
                  <a:pt x="4320" y="14102"/>
                  <a:pt x="4366" y="14039"/>
                </a:cubicBezTo>
                <a:cubicBezTo>
                  <a:pt x="4433" y="13948"/>
                  <a:pt x="4498" y="13858"/>
                  <a:pt x="4564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1" name="Ink 28"/>
          <p:cNvSpPr/>
          <p:nvPr/>
        </p:nvSpPr>
        <p:spPr>
          <a:xfrm>
            <a:off x="1571760" y="5367240"/>
            <a:ext cx="187200" cy="32076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4440" y="15007"/>
                </a:moveTo>
                <a:cubicBezTo>
                  <a:pt x="4432" y="15023"/>
                  <a:pt x="4423" y="15040"/>
                  <a:pt x="4415" y="15056"/>
                </a:cubicBezTo>
                <a:cubicBezTo>
                  <a:pt x="4450" y="15022"/>
                  <a:pt x="4482" y="14959"/>
                  <a:pt x="4514" y="14932"/>
                </a:cubicBezTo>
                <a:cubicBezTo>
                  <a:pt x="4567" y="14887"/>
                  <a:pt x="4649" y="14902"/>
                  <a:pt x="4688" y="14957"/>
                </a:cubicBezTo>
                <a:cubicBezTo>
                  <a:pt x="4730" y="15016"/>
                  <a:pt x="4766" y="15136"/>
                  <a:pt x="4762" y="15205"/>
                </a:cubicBezTo>
                <a:cubicBezTo>
                  <a:pt x="4754" y="15333"/>
                  <a:pt x="4714" y="15423"/>
                  <a:pt x="4663" y="15528"/>
                </a:cubicBezTo>
                <a:cubicBezTo>
                  <a:pt x="4617" y="15622"/>
                  <a:pt x="4575" y="15671"/>
                  <a:pt x="4465" y="15677"/>
                </a:cubicBezTo>
                <a:cubicBezTo>
                  <a:pt x="4378" y="15682"/>
                  <a:pt x="4375" y="15626"/>
                  <a:pt x="4366" y="15553"/>
                </a:cubicBezTo>
                <a:cubicBezTo>
                  <a:pt x="4430" y="15562"/>
                  <a:pt x="4475" y="15580"/>
                  <a:pt x="4539" y="15602"/>
                </a:cubicBezTo>
                <a:cubicBezTo>
                  <a:pt x="4630" y="15634"/>
                  <a:pt x="4702" y="15681"/>
                  <a:pt x="4787" y="15726"/>
                </a:cubicBezTo>
                <a:cubicBezTo>
                  <a:pt x="4841" y="15753"/>
                  <a:pt x="4862" y="15765"/>
                  <a:pt x="4887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2" name="Ink 29"/>
          <p:cNvSpPr/>
          <p:nvPr/>
        </p:nvSpPr>
        <p:spPr>
          <a:xfrm>
            <a:off x="3517920" y="4822920"/>
            <a:ext cx="438120" cy="892080"/>
          </a:xfrm>
          <a:custGeom>
            <a:avLst/>
            <a:gdLst/>
            <a:ahLst/>
            <a:rect l="l" t="t" r="r" b="b"/>
            <a:pathLst>
              <a:path w="1216" h="2481">
                <a:moveTo>
                  <a:pt x="9773" y="13915"/>
                </a:moveTo>
                <a:cubicBezTo>
                  <a:pt x="9858" y="13925"/>
                  <a:pt x="9937" y="13953"/>
                  <a:pt x="10021" y="13965"/>
                </a:cubicBezTo>
                <a:cubicBezTo>
                  <a:pt x="10089" y="13975"/>
                  <a:pt x="10151" y="13984"/>
                  <a:pt x="10220" y="13990"/>
                </a:cubicBezTo>
              </a:path>
              <a:path w="1216" h="2481">
                <a:moveTo>
                  <a:pt x="10592" y="13395"/>
                </a:moveTo>
                <a:cubicBezTo>
                  <a:pt x="10592" y="13491"/>
                  <a:pt x="10570" y="13573"/>
                  <a:pt x="10567" y="13667"/>
                </a:cubicBezTo>
                <a:cubicBezTo>
                  <a:pt x="10563" y="13780"/>
                  <a:pt x="10582" y="13882"/>
                  <a:pt x="10592" y="13990"/>
                </a:cubicBezTo>
                <a:cubicBezTo>
                  <a:pt x="10605" y="14136"/>
                  <a:pt x="10592" y="14289"/>
                  <a:pt x="10592" y="14436"/>
                </a:cubicBezTo>
              </a:path>
              <a:path w="1216" h="2481">
                <a:moveTo>
                  <a:pt x="10666" y="15180"/>
                </a:moveTo>
                <a:cubicBezTo>
                  <a:pt x="10633" y="15238"/>
                  <a:pt x="10592" y="15290"/>
                  <a:pt x="10567" y="15354"/>
                </a:cubicBezTo>
                <a:cubicBezTo>
                  <a:pt x="10541" y="15422"/>
                  <a:pt x="10523" y="15529"/>
                  <a:pt x="10542" y="15602"/>
                </a:cubicBezTo>
                <a:cubicBezTo>
                  <a:pt x="10560" y="15672"/>
                  <a:pt x="10581" y="15738"/>
                  <a:pt x="10616" y="15801"/>
                </a:cubicBezTo>
                <a:cubicBezTo>
                  <a:pt x="10649" y="15860"/>
                  <a:pt x="10686" y="15906"/>
                  <a:pt x="10765" y="15875"/>
                </a:cubicBezTo>
                <a:cubicBezTo>
                  <a:pt x="10822" y="15853"/>
                  <a:pt x="10861" y="15803"/>
                  <a:pt x="10889" y="15751"/>
                </a:cubicBezTo>
                <a:cubicBezTo>
                  <a:pt x="10925" y="15684"/>
                  <a:pt x="10977" y="15604"/>
                  <a:pt x="10988" y="15528"/>
                </a:cubicBezTo>
                <a:cubicBezTo>
                  <a:pt x="11002" y="15434"/>
                  <a:pt x="10996" y="15315"/>
                  <a:pt x="10964" y="15230"/>
                </a:cubicBezTo>
                <a:cubicBezTo>
                  <a:pt x="10938" y="15160"/>
                  <a:pt x="10893" y="15078"/>
                  <a:pt x="10815" y="15056"/>
                </a:cubicBezTo>
                <a:cubicBezTo>
                  <a:pt x="10731" y="15032"/>
                  <a:pt x="10695" y="15041"/>
                  <a:pt x="10616" y="15081"/>
                </a:cubicBezTo>
                <a:cubicBezTo>
                  <a:pt x="10600" y="15089"/>
                  <a:pt x="10583" y="15098"/>
                  <a:pt x="10567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3" name="Ink 30"/>
          <p:cNvSpPr/>
          <p:nvPr/>
        </p:nvSpPr>
        <p:spPr>
          <a:xfrm>
            <a:off x="6188040" y="3679920"/>
            <a:ext cx="108000" cy="17280"/>
          </a:xfrm>
          <a:custGeom>
            <a:avLst/>
            <a:gdLst/>
            <a:ahLst/>
            <a:rect l="l" t="t" r="r" b="b"/>
            <a:pathLst>
              <a:path w="298" h="50">
                <a:moveTo>
                  <a:pt x="17190" y="10269"/>
                </a:moveTo>
                <a:cubicBezTo>
                  <a:pt x="17226" y="10242"/>
                  <a:pt x="17331" y="10177"/>
                  <a:pt x="17388" y="10220"/>
                </a:cubicBezTo>
                <a:cubicBezTo>
                  <a:pt x="17442" y="10261"/>
                  <a:pt x="17408" y="10269"/>
                  <a:pt x="17487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4" name="Ink 31"/>
          <p:cNvSpPr/>
          <p:nvPr/>
        </p:nvSpPr>
        <p:spPr>
          <a:xfrm>
            <a:off x="6429240" y="3510000"/>
            <a:ext cx="214560" cy="295200"/>
          </a:xfrm>
          <a:custGeom>
            <a:avLst/>
            <a:gdLst/>
            <a:ahLst/>
            <a:rect l="l" t="t" r="r" b="b"/>
            <a:pathLst>
              <a:path w="597" h="820">
                <a:moveTo>
                  <a:pt x="17859" y="9897"/>
                </a:moveTo>
                <a:cubicBezTo>
                  <a:pt x="17921" y="9813"/>
                  <a:pt x="17950" y="9754"/>
                  <a:pt x="18058" y="9748"/>
                </a:cubicBezTo>
                <a:cubicBezTo>
                  <a:pt x="18122" y="9744"/>
                  <a:pt x="18291" y="9720"/>
                  <a:pt x="18331" y="9773"/>
                </a:cubicBezTo>
                <a:cubicBezTo>
                  <a:pt x="18380" y="9838"/>
                  <a:pt x="18385" y="9843"/>
                  <a:pt x="18355" y="9922"/>
                </a:cubicBezTo>
                <a:cubicBezTo>
                  <a:pt x="18319" y="10017"/>
                  <a:pt x="18258" y="10073"/>
                  <a:pt x="18207" y="10145"/>
                </a:cubicBezTo>
                <a:cubicBezTo>
                  <a:pt x="18148" y="10228"/>
                  <a:pt x="18069" y="10324"/>
                  <a:pt x="18033" y="10418"/>
                </a:cubicBezTo>
                <a:cubicBezTo>
                  <a:pt x="18000" y="10504"/>
                  <a:pt x="18001" y="10493"/>
                  <a:pt x="18033" y="10567"/>
                </a:cubicBezTo>
                <a:cubicBezTo>
                  <a:pt x="18103" y="10549"/>
                  <a:pt x="18154" y="10502"/>
                  <a:pt x="18231" y="10492"/>
                </a:cubicBezTo>
                <a:cubicBezTo>
                  <a:pt x="18316" y="10481"/>
                  <a:pt x="18370" y="10457"/>
                  <a:pt x="18455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5" name="Ink 32"/>
          <p:cNvSpPr/>
          <p:nvPr/>
        </p:nvSpPr>
        <p:spPr>
          <a:xfrm>
            <a:off x="6912000" y="3643200"/>
            <a:ext cx="106200" cy="972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9199" y="10145"/>
                </a:moveTo>
                <a:cubicBezTo>
                  <a:pt x="19301" y="10119"/>
                  <a:pt x="19390" y="10120"/>
                  <a:pt x="19496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6" name="Ink 33"/>
          <p:cNvSpPr/>
          <p:nvPr/>
        </p:nvSpPr>
        <p:spPr>
          <a:xfrm>
            <a:off x="7143840" y="3438360"/>
            <a:ext cx="268200" cy="347760"/>
          </a:xfrm>
          <a:custGeom>
            <a:avLst/>
            <a:gdLst/>
            <a:ahLst/>
            <a:rect l="l" t="t" r="r" b="b"/>
            <a:pathLst>
              <a:path w="745" h="968">
                <a:moveTo>
                  <a:pt x="19844" y="9699"/>
                </a:moveTo>
                <a:cubicBezTo>
                  <a:pt x="19936" y="9637"/>
                  <a:pt x="20011" y="9579"/>
                  <a:pt x="20117" y="9550"/>
                </a:cubicBezTo>
                <a:cubicBezTo>
                  <a:pt x="20196" y="9529"/>
                  <a:pt x="20332" y="9542"/>
                  <a:pt x="20389" y="9599"/>
                </a:cubicBezTo>
                <a:cubicBezTo>
                  <a:pt x="20453" y="9663"/>
                  <a:pt x="20435" y="9689"/>
                  <a:pt x="20389" y="9773"/>
                </a:cubicBezTo>
                <a:cubicBezTo>
                  <a:pt x="20332" y="9876"/>
                  <a:pt x="20266" y="9981"/>
                  <a:pt x="20191" y="10071"/>
                </a:cubicBezTo>
                <a:cubicBezTo>
                  <a:pt x="20129" y="10146"/>
                  <a:pt x="20050" y="10224"/>
                  <a:pt x="19993" y="10294"/>
                </a:cubicBezTo>
                <a:cubicBezTo>
                  <a:pt x="19951" y="10346"/>
                  <a:pt x="19927" y="10432"/>
                  <a:pt x="19918" y="10492"/>
                </a:cubicBezTo>
                <a:cubicBezTo>
                  <a:pt x="20011" y="10527"/>
                  <a:pt x="20067" y="10496"/>
                  <a:pt x="20166" y="10492"/>
                </a:cubicBezTo>
                <a:cubicBezTo>
                  <a:pt x="20302" y="10487"/>
                  <a:pt x="20435" y="10487"/>
                  <a:pt x="20563" y="10517"/>
                </a:cubicBezTo>
                <a:cubicBezTo>
                  <a:pt x="20571" y="10517"/>
                  <a:pt x="20580" y="10517"/>
                  <a:pt x="20588" y="105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7" name="Ink 34"/>
          <p:cNvSpPr/>
          <p:nvPr/>
        </p:nvSpPr>
        <p:spPr>
          <a:xfrm>
            <a:off x="6010200" y="4133880"/>
            <a:ext cx="249480" cy="581040"/>
          </a:xfrm>
          <a:custGeom>
            <a:avLst/>
            <a:gdLst/>
            <a:ahLst/>
            <a:rect l="l" t="t" r="r" b="b"/>
            <a:pathLst>
              <a:path w="695" h="1613">
                <a:moveTo>
                  <a:pt x="16718" y="11931"/>
                </a:moveTo>
                <a:cubicBezTo>
                  <a:pt x="16688" y="11880"/>
                  <a:pt x="16678" y="11833"/>
                  <a:pt x="16718" y="11782"/>
                </a:cubicBezTo>
                <a:cubicBezTo>
                  <a:pt x="16764" y="11723"/>
                  <a:pt x="16805" y="11678"/>
                  <a:pt x="16867" y="11633"/>
                </a:cubicBezTo>
                <a:cubicBezTo>
                  <a:pt x="16955" y="11569"/>
                  <a:pt x="17105" y="11505"/>
                  <a:pt x="17214" y="11485"/>
                </a:cubicBezTo>
                <a:cubicBezTo>
                  <a:pt x="17290" y="11471"/>
                  <a:pt x="17311" y="11492"/>
                  <a:pt x="17363" y="11534"/>
                </a:cubicBezTo>
                <a:cubicBezTo>
                  <a:pt x="17422" y="11582"/>
                  <a:pt x="17361" y="11678"/>
                  <a:pt x="17338" y="11733"/>
                </a:cubicBezTo>
                <a:cubicBezTo>
                  <a:pt x="17295" y="11835"/>
                  <a:pt x="17249" y="11935"/>
                  <a:pt x="17190" y="12030"/>
                </a:cubicBezTo>
                <a:cubicBezTo>
                  <a:pt x="17109" y="12160"/>
                  <a:pt x="16999" y="12308"/>
                  <a:pt x="16942" y="12452"/>
                </a:cubicBezTo>
                <a:cubicBezTo>
                  <a:pt x="16887" y="12591"/>
                  <a:pt x="16840" y="12729"/>
                  <a:pt x="16793" y="12874"/>
                </a:cubicBezTo>
                <a:cubicBezTo>
                  <a:pt x="16759" y="12979"/>
                  <a:pt x="16702" y="13051"/>
                  <a:pt x="16793" y="13097"/>
                </a:cubicBezTo>
                <a:cubicBezTo>
                  <a:pt x="16834" y="13046"/>
                  <a:pt x="16861" y="12988"/>
                  <a:pt x="16917" y="12948"/>
                </a:cubicBezTo>
                <a:cubicBezTo>
                  <a:pt x="16975" y="12906"/>
                  <a:pt x="17031" y="12870"/>
                  <a:pt x="17090" y="12824"/>
                </a:cubicBezTo>
                <a:cubicBezTo>
                  <a:pt x="17144" y="12782"/>
                  <a:pt x="17177" y="12756"/>
                  <a:pt x="17239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8" name="Ink 35"/>
          <p:cNvSpPr/>
          <p:nvPr/>
        </p:nvSpPr>
        <p:spPr>
          <a:xfrm>
            <a:off x="6296040" y="4384800"/>
            <a:ext cx="150840" cy="214200"/>
          </a:xfrm>
          <a:custGeom>
            <a:avLst/>
            <a:gdLst/>
            <a:ahLst/>
            <a:rect l="l" t="t" r="r" b="b"/>
            <a:pathLst>
              <a:path w="423" h="596">
                <a:moveTo>
                  <a:pt x="17487" y="12179"/>
                </a:moveTo>
                <a:cubicBezTo>
                  <a:pt x="17535" y="12227"/>
                  <a:pt x="17578" y="12268"/>
                  <a:pt x="17611" y="12328"/>
                </a:cubicBezTo>
                <a:cubicBezTo>
                  <a:pt x="17652" y="12403"/>
                  <a:pt x="17714" y="12456"/>
                  <a:pt x="17760" y="12526"/>
                </a:cubicBezTo>
                <a:cubicBezTo>
                  <a:pt x="17808" y="12598"/>
                  <a:pt x="17826" y="12686"/>
                  <a:pt x="17884" y="12750"/>
                </a:cubicBezTo>
                <a:cubicBezTo>
                  <a:pt x="17892" y="12758"/>
                  <a:pt x="17901" y="12766"/>
                  <a:pt x="17909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19" name="Ink 36"/>
          <p:cNvSpPr/>
          <p:nvPr/>
        </p:nvSpPr>
        <p:spPr>
          <a:xfrm>
            <a:off x="6330960" y="4375080"/>
            <a:ext cx="81000" cy="268200"/>
          </a:xfrm>
          <a:custGeom>
            <a:avLst/>
            <a:gdLst/>
            <a:ahLst/>
            <a:rect l="l" t="t" r="r" b="b"/>
            <a:pathLst>
              <a:path w="224" h="745">
                <a:moveTo>
                  <a:pt x="17810" y="12154"/>
                </a:moveTo>
                <a:cubicBezTo>
                  <a:pt x="17766" y="12252"/>
                  <a:pt x="17738" y="12348"/>
                  <a:pt x="17711" y="12452"/>
                </a:cubicBezTo>
                <a:cubicBezTo>
                  <a:pt x="17679" y="12577"/>
                  <a:pt x="17616" y="12707"/>
                  <a:pt x="17587" y="12824"/>
                </a:cubicBezTo>
                <a:cubicBezTo>
                  <a:pt x="17587" y="12849"/>
                  <a:pt x="17587" y="12873"/>
                  <a:pt x="17587" y="128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0" name="Ink 37"/>
          <p:cNvSpPr/>
          <p:nvPr/>
        </p:nvSpPr>
        <p:spPr>
          <a:xfrm>
            <a:off x="6483240" y="4098960"/>
            <a:ext cx="160560" cy="16020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18008" y="11460"/>
                </a:moveTo>
                <a:cubicBezTo>
                  <a:pt x="18071" y="11424"/>
                  <a:pt x="18107" y="11388"/>
                  <a:pt x="18182" y="11385"/>
                </a:cubicBezTo>
                <a:cubicBezTo>
                  <a:pt x="18266" y="11381"/>
                  <a:pt x="18326" y="11410"/>
                  <a:pt x="18306" y="11509"/>
                </a:cubicBezTo>
                <a:cubicBezTo>
                  <a:pt x="18295" y="11563"/>
                  <a:pt x="18232" y="11632"/>
                  <a:pt x="18207" y="11683"/>
                </a:cubicBezTo>
                <a:cubicBezTo>
                  <a:pt x="18180" y="11738"/>
                  <a:pt x="18090" y="11832"/>
                  <a:pt x="18231" y="11832"/>
                </a:cubicBezTo>
                <a:cubicBezTo>
                  <a:pt x="18300" y="11832"/>
                  <a:pt x="18380" y="11807"/>
                  <a:pt x="18455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1" name="Ink 38"/>
          <p:cNvSpPr/>
          <p:nvPr/>
        </p:nvSpPr>
        <p:spPr>
          <a:xfrm>
            <a:off x="6680160" y="4367160"/>
            <a:ext cx="9864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8554" y="12179"/>
                </a:moveTo>
                <a:cubicBezTo>
                  <a:pt x="18644" y="12154"/>
                  <a:pt x="18736" y="12144"/>
                  <a:pt x="18827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2" name="Ink 39"/>
          <p:cNvSpPr/>
          <p:nvPr/>
        </p:nvSpPr>
        <p:spPr>
          <a:xfrm>
            <a:off x="6705720" y="4473720"/>
            <a:ext cx="9036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18628" y="12427"/>
                </a:moveTo>
                <a:cubicBezTo>
                  <a:pt x="18711" y="12427"/>
                  <a:pt x="18793" y="12427"/>
                  <a:pt x="18876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3" name="Ink 40"/>
          <p:cNvSpPr/>
          <p:nvPr/>
        </p:nvSpPr>
        <p:spPr>
          <a:xfrm>
            <a:off x="6902280" y="4321080"/>
            <a:ext cx="115920" cy="36720"/>
          </a:xfrm>
          <a:custGeom>
            <a:avLst/>
            <a:gdLst/>
            <a:ahLst/>
            <a:rect l="l" t="t" r="r" b="b"/>
            <a:pathLst>
              <a:path w="323" h="101">
                <a:moveTo>
                  <a:pt x="19174" y="12105"/>
                </a:moveTo>
                <a:cubicBezTo>
                  <a:pt x="19288" y="12047"/>
                  <a:pt x="19336" y="12060"/>
                  <a:pt x="19447" y="12030"/>
                </a:cubicBezTo>
                <a:cubicBezTo>
                  <a:pt x="19463" y="12022"/>
                  <a:pt x="19480" y="12013"/>
                  <a:pt x="19496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4" name="Ink 41"/>
          <p:cNvSpPr/>
          <p:nvPr/>
        </p:nvSpPr>
        <p:spPr>
          <a:xfrm>
            <a:off x="7081920" y="4106880"/>
            <a:ext cx="214200" cy="447480"/>
          </a:xfrm>
          <a:custGeom>
            <a:avLst/>
            <a:gdLst/>
            <a:ahLst/>
            <a:rect l="l" t="t" r="r" b="b"/>
            <a:pathLst>
              <a:path w="596" h="1241">
                <a:moveTo>
                  <a:pt x="19670" y="11584"/>
                </a:moveTo>
                <a:cubicBezTo>
                  <a:pt x="19718" y="11540"/>
                  <a:pt x="19820" y="11430"/>
                  <a:pt x="19893" y="11410"/>
                </a:cubicBezTo>
                <a:cubicBezTo>
                  <a:pt x="19979" y="11387"/>
                  <a:pt x="20011" y="11430"/>
                  <a:pt x="20067" y="11485"/>
                </a:cubicBezTo>
                <a:cubicBezTo>
                  <a:pt x="20109" y="11527"/>
                  <a:pt x="20151" y="11596"/>
                  <a:pt x="20141" y="11658"/>
                </a:cubicBezTo>
                <a:cubicBezTo>
                  <a:pt x="20120" y="11783"/>
                  <a:pt x="20059" y="11925"/>
                  <a:pt x="19993" y="12030"/>
                </a:cubicBezTo>
                <a:cubicBezTo>
                  <a:pt x="19927" y="12135"/>
                  <a:pt x="19878" y="12247"/>
                  <a:pt x="19819" y="12353"/>
                </a:cubicBezTo>
                <a:cubicBezTo>
                  <a:pt x="19775" y="12433"/>
                  <a:pt x="19725" y="12484"/>
                  <a:pt x="19720" y="12576"/>
                </a:cubicBezTo>
                <a:cubicBezTo>
                  <a:pt x="19720" y="12621"/>
                  <a:pt x="19716" y="12634"/>
                  <a:pt x="19745" y="12650"/>
                </a:cubicBezTo>
                <a:cubicBezTo>
                  <a:pt x="19801" y="12642"/>
                  <a:pt x="19863" y="12620"/>
                  <a:pt x="19918" y="12601"/>
                </a:cubicBezTo>
                <a:cubicBezTo>
                  <a:pt x="19975" y="12582"/>
                  <a:pt x="20054" y="12540"/>
                  <a:pt x="20117" y="12551"/>
                </a:cubicBezTo>
                <a:cubicBezTo>
                  <a:pt x="20174" y="12561"/>
                  <a:pt x="20209" y="12571"/>
                  <a:pt x="20265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5" name="Ink 42"/>
          <p:cNvSpPr/>
          <p:nvPr/>
        </p:nvSpPr>
        <p:spPr>
          <a:xfrm>
            <a:off x="5973840" y="4660920"/>
            <a:ext cx="428400" cy="36360"/>
          </a:xfrm>
          <a:custGeom>
            <a:avLst/>
            <a:gdLst/>
            <a:ahLst/>
            <a:rect l="l" t="t" r="r" b="b"/>
            <a:pathLst>
              <a:path w="1192" h="100">
                <a:moveTo>
                  <a:pt x="16594" y="12948"/>
                </a:moveTo>
                <a:cubicBezTo>
                  <a:pt x="16671" y="12959"/>
                  <a:pt x="16735" y="13007"/>
                  <a:pt x="16818" y="13022"/>
                </a:cubicBezTo>
                <a:cubicBezTo>
                  <a:pt x="16901" y="13037"/>
                  <a:pt x="16979" y="13047"/>
                  <a:pt x="17066" y="13047"/>
                </a:cubicBezTo>
                <a:cubicBezTo>
                  <a:pt x="17244" y="13047"/>
                  <a:pt x="17410" y="13038"/>
                  <a:pt x="17587" y="13022"/>
                </a:cubicBezTo>
                <a:cubicBezTo>
                  <a:pt x="17652" y="13016"/>
                  <a:pt x="17720" y="13022"/>
                  <a:pt x="17785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6" name="Ink 43"/>
          <p:cNvSpPr/>
          <p:nvPr/>
        </p:nvSpPr>
        <p:spPr>
          <a:xfrm>
            <a:off x="6107040" y="4732200"/>
            <a:ext cx="179640" cy="438120"/>
          </a:xfrm>
          <a:custGeom>
            <a:avLst/>
            <a:gdLst/>
            <a:ahLst/>
            <a:rect l="l" t="t" r="r" b="b"/>
            <a:pathLst>
              <a:path w="497" h="1217">
                <a:moveTo>
                  <a:pt x="17041" y="13345"/>
                </a:moveTo>
                <a:cubicBezTo>
                  <a:pt x="17041" y="13303"/>
                  <a:pt x="17120" y="13267"/>
                  <a:pt x="17190" y="13221"/>
                </a:cubicBezTo>
                <a:cubicBezTo>
                  <a:pt x="17270" y="13168"/>
                  <a:pt x="17346" y="13113"/>
                  <a:pt x="17438" y="13171"/>
                </a:cubicBezTo>
                <a:cubicBezTo>
                  <a:pt x="17494" y="13206"/>
                  <a:pt x="17456" y="13326"/>
                  <a:pt x="17438" y="13370"/>
                </a:cubicBezTo>
                <a:cubicBezTo>
                  <a:pt x="17372" y="13528"/>
                  <a:pt x="17265" y="13663"/>
                  <a:pt x="17190" y="13816"/>
                </a:cubicBezTo>
                <a:cubicBezTo>
                  <a:pt x="17114" y="13971"/>
                  <a:pt x="17000" y="14141"/>
                  <a:pt x="16966" y="14312"/>
                </a:cubicBezTo>
                <a:cubicBezTo>
                  <a:pt x="16966" y="14329"/>
                  <a:pt x="16966" y="14345"/>
                  <a:pt x="16966" y="14362"/>
                </a:cubicBezTo>
                <a:cubicBezTo>
                  <a:pt x="17073" y="14362"/>
                  <a:pt x="17111" y="14364"/>
                  <a:pt x="17190" y="14288"/>
                </a:cubicBezTo>
                <a:cubicBezTo>
                  <a:pt x="17280" y="14201"/>
                  <a:pt x="17365" y="14118"/>
                  <a:pt x="17462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7" name="Ink 44"/>
          <p:cNvSpPr/>
          <p:nvPr/>
        </p:nvSpPr>
        <p:spPr>
          <a:xfrm>
            <a:off x="6946920" y="4606920"/>
            <a:ext cx="349200" cy="100080"/>
          </a:xfrm>
          <a:custGeom>
            <a:avLst/>
            <a:gdLst/>
            <a:ahLst/>
            <a:rect l="l" t="t" r="r" b="b"/>
            <a:pathLst>
              <a:path w="968" h="274">
                <a:moveTo>
                  <a:pt x="19298" y="13072"/>
                </a:moveTo>
                <a:cubicBezTo>
                  <a:pt x="19468" y="12984"/>
                  <a:pt x="19594" y="12932"/>
                  <a:pt x="19769" y="12874"/>
                </a:cubicBezTo>
                <a:cubicBezTo>
                  <a:pt x="19867" y="12841"/>
                  <a:pt x="19966" y="12813"/>
                  <a:pt x="20067" y="12799"/>
                </a:cubicBezTo>
                <a:cubicBezTo>
                  <a:pt x="20138" y="12789"/>
                  <a:pt x="20201" y="12800"/>
                  <a:pt x="20265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8" name="Ink 45"/>
          <p:cNvSpPr/>
          <p:nvPr/>
        </p:nvSpPr>
        <p:spPr>
          <a:xfrm>
            <a:off x="7089840" y="4714920"/>
            <a:ext cx="179280" cy="31284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9794" y="13097"/>
                </a:moveTo>
                <a:cubicBezTo>
                  <a:pt x="19884" y="13097"/>
                  <a:pt x="19958" y="13094"/>
                  <a:pt x="20042" y="13122"/>
                </a:cubicBezTo>
                <a:cubicBezTo>
                  <a:pt x="20104" y="13143"/>
                  <a:pt x="20190" y="13182"/>
                  <a:pt x="20141" y="13271"/>
                </a:cubicBezTo>
                <a:cubicBezTo>
                  <a:pt x="20090" y="13364"/>
                  <a:pt x="20016" y="13461"/>
                  <a:pt x="19943" y="13543"/>
                </a:cubicBezTo>
                <a:cubicBezTo>
                  <a:pt x="19865" y="13631"/>
                  <a:pt x="19800" y="13711"/>
                  <a:pt x="19745" y="13816"/>
                </a:cubicBezTo>
                <a:cubicBezTo>
                  <a:pt x="19706" y="13890"/>
                  <a:pt x="19701" y="13890"/>
                  <a:pt x="19720" y="13965"/>
                </a:cubicBezTo>
                <a:cubicBezTo>
                  <a:pt x="19811" y="13965"/>
                  <a:pt x="19883" y="13950"/>
                  <a:pt x="19968" y="13915"/>
                </a:cubicBezTo>
                <a:cubicBezTo>
                  <a:pt x="20036" y="13888"/>
                  <a:pt x="20103" y="13885"/>
                  <a:pt x="20166" y="13841"/>
                </a:cubicBezTo>
                <a:cubicBezTo>
                  <a:pt x="20174" y="13833"/>
                  <a:pt x="20183" y="13824"/>
                  <a:pt x="20191" y="138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29" name="Ink 46"/>
          <p:cNvSpPr/>
          <p:nvPr/>
        </p:nvSpPr>
        <p:spPr>
          <a:xfrm>
            <a:off x="6072120" y="4106880"/>
            <a:ext cx="108000" cy="1144440"/>
          </a:xfrm>
          <a:custGeom>
            <a:avLst/>
            <a:gdLst/>
            <a:ahLst/>
            <a:rect l="l" t="t" r="r" b="b"/>
            <a:pathLst>
              <a:path w="299" h="3176">
                <a:moveTo>
                  <a:pt x="16867" y="11410"/>
                </a:moveTo>
                <a:cubicBezTo>
                  <a:pt x="16892" y="11534"/>
                  <a:pt x="16914" y="11655"/>
                  <a:pt x="16917" y="11782"/>
                </a:cubicBezTo>
                <a:cubicBezTo>
                  <a:pt x="16922" y="11965"/>
                  <a:pt x="16922" y="12147"/>
                  <a:pt x="16942" y="12328"/>
                </a:cubicBezTo>
                <a:cubicBezTo>
                  <a:pt x="16964" y="12525"/>
                  <a:pt x="17003" y="12726"/>
                  <a:pt x="17016" y="12923"/>
                </a:cubicBezTo>
                <a:cubicBezTo>
                  <a:pt x="17031" y="13138"/>
                  <a:pt x="17054" y="13354"/>
                  <a:pt x="17066" y="13568"/>
                </a:cubicBezTo>
                <a:cubicBezTo>
                  <a:pt x="17077" y="13775"/>
                  <a:pt x="17078" y="13982"/>
                  <a:pt x="17090" y="14188"/>
                </a:cubicBezTo>
                <a:cubicBezTo>
                  <a:pt x="17098" y="14329"/>
                  <a:pt x="17125" y="14449"/>
                  <a:pt x="17165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0" name="Ink 47"/>
          <p:cNvSpPr/>
          <p:nvPr/>
        </p:nvSpPr>
        <p:spPr>
          <a:xfrm>
            <a:off x="6456240" y="5491080"/>
            <a:ext cx="81000" cy="250920"/>
          </a:xfrm>
          <a:custGeom>
            <a:avLst/>
            <a:gdLst/>
            <a:ahLst/>
            <a:rect l="l" t="t" r="r" b="b"/>
            <a:pathLst>
              <a:path w="224" h="695">
                <a:moveTo>
                  <a:pt x="17934" y="15255"/>
                </a:moveTo>
                <a:cubicBezTo>
                  <a:pt x="17990" y="15352"/>
                  <a:pt x="18022" y="15446"/>
                  <a:pt x="18058" y="15553"/>
                </a:cubicBezTo>
                <a:cubicBezTo>
                  <a:pt x="18089" y="15645"/>
                  <a:pt x="18112" y="15756"/>
                  <a:pt x="18132" y="15850"/>
                </a:cubicBezTo>
                <a:cubicBezTo>
                  <a:pt x="18132" y="15902"/>
                  <a:pt x="18133" y="15920"/>
                  <a:pt x="18157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1" name="Ink 48"/>
          <p:cNvSpPr/>
          <p:nvPr/>
        </p:nvSpPr>
        <p:spPr>
          <a:xfrm>
            <a:off x="6429240" y="5367240"/>
            <a:ext cx="98640" cy="374760"/>
          </a:xfrm>
          <a:custGeom>
            <a:avLst/>
            <a:gdLst/>
            <a:ahLst/>
            <a:rect l="l" t="t" r="r" b="b"/>
            <a:pathLst>
              <a:path w="274" h="1042">
                <a:moveTo>
                  <a:pt x="18132" y="14908"/>
                </a:moveTo>
                <a:cubicBezTo>
                  <a:pt x="18070" y="15064"/>
                  <a:pt x="18020" y="15223"/>
                  <a:pt x="17959" y="15379"/>
                </a:cubicBezTo>
                <a:cubicBezTo>
                  <a:pt x="17899" y="15535"/>
                  <a:pt x="17877" y="15686"/>
                  <a:pt x="17859" y="15850"/>
                </a:cubicBezTo>
                <a:cubicBezTo>
                  <a:pt x="17859" y="15902"/>
                  <a:pt x="17860" y="15920"/>
                  <a:pt x="17884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2" name="Ink 49"/>
          <p:cNvSpPr/>
          <p:nvPr/>
        </p:nvSpPr>
        <p:spPr>
          <a:xfrm>
            <a:off x="6599160" y="5232240"/>
            <a:ext cx="71640" cy="196920"/>
          </a:xfrm>
          <a:custGeom>
            <a:avLst/>
            <a:gdLst/>
            <a:ahLst/>
            <a:rect l="l" t="t" r="r" b="b"/>
            <a:pathLst>
              <a:path w="199" h="546">
                <a:moveTo>
                  <a:pt x="18331" y="14660"/>
                </a:moveTo>
                <a:cubicBezTo>
                  <a:pt x="18360" y="14612"/>
                  <a:pt x="18404" y="14512"/>
                  <a:pt x="18479" y="14536"/>
                </a:cubicBezTo>
                <a:cubicBezTo>
                  <a:pt x="18560" y="14562"/>
                  <a:pt x="18520" y="14663"/>
                  <a:pt x="18504" y="14709"/>
                </a:cubicBezTo>
                <a:cubicBezTo>
                  <a:pt x="18469" y="14810"/>
                  <a:pt x="18434" y="14916"/>
                  <a:pt x="18380" y="15007"/>
                </a:cubicBezTo>
                <a:cubicBezTo>
                  <a:pt x="18325" y="15100"/>
                  <a:pt x="18418" y="15079"/>
                  <a:pt x="18479" y="150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3" name="Ink 50"/>
          <p:cNvSpPr/>
          <p:nvPr/>
        </p:nvSpPr>
        <p:spPr>
          <a:xfrm>
            <a:off x="6634080" y="5527800"/>
            <a:ext cx="100080" cy="27000"/>
          </a:xfrm>
          <a:custGeom>
            <a:avLst/>
            <a:gdLst/>
            <a:ahLst/>
            <a:rect l="l" t="t" r="r" b="b"/>
            <a:pathLst>
              <a:path w="274" h="76">
                <a:moveTo>
                  <a:pt x="18430" y="15429"/>
                </a:moveTo>
                <a:cubicBezTo>
                  <a:pt x="18480" y="15399"/>
                  <a:pt x="18544" y="15396"/>
                  <a:pt x="18604" y="15379"/>
                </a:cubicBezTo>
                <a:cubicBezTo>
                  <a:pt x="18637" y="15371"/>
                  <a:pt x="18670" y="15362"/>
                  <a:pt x="18703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4" name="Ink 51"/>
          <p:cNvSpPr/>
          <p:nvPr/>
        </p:nvSpPr>
        <p:spPr>
          <a:xfrm>
            <a:off x="6724800" y="5581800"/>
            <a:ext cx="71280" cy="27000"/>
          </a:xfrm>
          <a:custGeom>
            <a:avLst/>
            <a:gdLst/>
            <a:ahLst/>
            <a:rect l="l" t="t" r="r" b="b"/>
            <a:pathLst>
              <a:path w="199" h="75">
                <a:moveTo>
                  <a:pt x="18678" y="15577"/>
                </a:moveTo>
                <a:cubicBezTo>
                  <a:pt x="18744" y="15551"/>
                  <a:pt x="18810" y="15530"/>
                  <a:pt x="18876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5" name="Ink 52"/>
          <p:cNvSpPr/>
          <p:nvPr/>
        </p:nvSpPr>
        <p:spPr>
          <a:xfrm>
            <a:off x="6885000" y="5384880"/>
            <a:ext cx="61920" cy="27000"/>
          </a:xfrm>
          <a:custGeom>
            <a:avLst/>
            <a:gdLst/>
            <a:ahLst/>
            <a:rect l="l" t="t" r="r" b="b"/>
            <a:pathLst>
              <a:path w="175" h="76">
                <a:moveTo>
                  <a:pt x="19124" y="15032"/>
                </a:moveTo>
                <a:cubicBezTo>
                  <a:pt x="19182" y="14993"/>
                  <a:pt x="19232" y="14966"/>
                  <a:pt x="19298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6" name="Ink 53"/>
          <p:cNvSpPr/>
          <p:nvPr/>
        </p:nvSpPr>
        <p:spPr>
          <a:xfrm>
            <a:off x="7062840" y="5214960"/>
            <a:ext cx="46080" cy="446040"/>
          </a:xfrm>
          <a:custGeom>
            <a:avLst/>
            <a:gdLst/>
            <a:ahLst/>
            <a:rect l="l" t="t" r="r" b="b"/>
            <a:pathLst>
              <a:path w="125" h="1241">
                <a:moveTo>
                  <a:pt x="19745" y="14486"/>
                </a:moveTo>
                <a:cubicBezTo>
                  <a:pt x="19736" y="14589"/>
                  <a:pt x="19720" y="14684"/>
                  <a:pt x="19695" y="14784"/>
                </a:cubicBezTo>
                <a:cubicBezTo>
                  <a:pt x="19662" y="14914"/>
                  <a:pt x="19632" y="15047"/>
                  <a:pt x="19621" y="15180"/>
                </a:cubicBezTo>
                <a:cubicBezTo>
                  <a:pt x="19609" y="15336"/>
                  <a:pt x="19618" y="15511"/>
                  <a:pt x="19645" y="15652"/>
                </a:cubicBezTo>
                <a:cubicBezTo>
                  <a:pt x="19645" y="15696"/>
                  <a:pt x="19642" y="15710"/>
                  <a:pt x="19670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7" name="Ink 54"/>
          <p:cNvSpPr/>
          <p:nvPr/>
        </p:nvSpPr>
        <p:spPr>
          <a:xfrm>
            <a:off x="6296040" y="5295960"/>
            <a:ext cx="241200" cy="428400"/>
          </a:xfrm>
          <a:custGeom>
            <a:avLst/>
            <a:gdLst/>
            <a:ahLst/>
            <a:rect l="l" t="t" r="r" b="b"/>
            <a:pathLst>
              <a:path w="671" h="1192">
                <a:moveTo>
                  <a:pt x="17537" y="15056"/>
                </a:moveTo>
                <a:cubicBezTo>
                  <a:pt x="17454" y="15125"/>
                  <a:pt x="17497" y="15149"/>
                  <a:pt x="17512" y="15255"/>
                </a:cubicBezTo>
                <a:cubicBezTo>
                  <a:pt x="17530" y="15381"/>
                  <a:pt x="17581" y="15480"/>
                  <a:pt x="17611" y="15602"/>
                </a:cubicBezTo>
                <a:cubicBezTo>
                  <a:pt x="17628" y="15672"/>
                  <a:pt x="17658" y="15753"/>
                  <a:pt x="17661" y="15825"/>
                </a:cubicBezTo>
                <a:cubicBezTo>
                  <a:pt x="17661" y="15850"/>
                  <a:pt x="17661" y="15875"/>
                  <a:pt x="17661" y="15900"/>
                </a:cubicBezTo>
                <a:cubicBezTo>
                  <a:pt x="17625" y="15829"/>
                  <a:pt x="17596" y="15757"/>
                  <a:pt x="17587" y="15677"/>
                </a:cubicBezTo>
                <a:cubicBezTo>
                  <a:pt x="17573" y="15551"/>
                  <a:pt x="17576" y="15400"/>
                  <a:pt x="17611" y="15280"/>
                </a:cubicBezTo>
                <a:cubicBezTo>
                  <a:pt x="17653" y="15136"/>
                  <a:pt x="17695" y="15073"/>
                  <a:pt x="17785" y="14957"/>
                </a:cubicBezTo>
                <a:cubicBezTo>
                  <a:pt x="17864" y="14856"/>
                  <a:pt x="17965" y="14789"/>
                  <a:pt x="18083" y="14734"/>
                </a:cubicBezTo>
                <a:cubicBezTo>
                  <a:pt x="18108" y="14726"/>
                  <a:pt x="18132" y="14717"/>
                  <a:pt x="18157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8" name="Ink 55"/>
          <p:cNvSpPr/>
          <p:nvPr/>
        </p:nvSpPr>
        <p:spPr>
          <a:xfrm>
            <a:off x="6848640" y="5106960"/>
            <a:ext cx="287280" cy="617400"/>
          </a:xfrm>
          <a:custGeom>
            <a:avLst/>
            <a:gdLst/>
            <a:ahLst/>
            <a:rect l="l" t="t" r="r" b="b"/>
            <a:pathLst>
              <a:path w="795" h="1713">
                <a:moveTo>
                  <a:pt x="19025" y="14908"/>
                </a:moveTo>
                <a:cubicBezTo>
                  <a:pt x="19050" y="15033"/>
                  <a:pt x="19087" y="15154"/>
                  <a:pt x="19100" y="15280"/>
                </a:cubicBezTo>
                <a:cubicBezTo>
                  <a:pt x="19111" y="15392"/>
                  <a:pt x="19104" y="15517"/>
                  <a:pt x="19124" y="15627"/>
                </a:cubicBezTo>
                <a:cubicBezTo>
                  <a:pt x="19143" y="15731"/>
                  <a:pt x="19149" y="15769"/>
                  <a:pt x="19149" y="15875"/>
                </a:cubicBezTo>
                <a:cubicBezTo>
                  <a:pt x="19122" y="15776"/>
                  <a:pt x="19118" y="15677"/>
                  <a:pt x="19100" y="15577"/>
                </a:cubicBezTo>
                <a:cubicBezTo>
                  <a:pt x="19064" y="15381"/>
                  <a:pt x="19054" y="15181"/>
                  <a:pt x="19050" y="14982"/>
                </a:cubicBezTo>
                <a:cubicBezTo>
                  <a:pt x="19047" y="14858"/>
                  <a:pt x="19046" y="14726"/>
                  <a:pt x="19100" y="14610"/>
                </a:cubicBezTo>
                <a:cubicBezTo>
                  <a:pt x="19144" y="14515"/>
                  <a:pt x="19219" y="14384"/>
                  <a:pt x="19298" y="14312"/>
                </a:cubicBezTo>
                <a:cubicBezTo>
                  <a:pt x="19363" y="14253"/>
                  <a:pt x="19485" y="14201"/>
                  <a:pt x="19571" y="14188"/>
                </a:cubicBezTo>
                <a:cubicBezTo>
                  <a:pt x="19643" y="14177"/>
                  <a:pt x="19750" y="14188"/>
                  <a:pt x="19819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39" name="Ink 56"/>
          <p:cNvSpPr/>
          <p:nvPr/>
        </p:nvSpPr>
        <p:spPr>
          <a:xfrm>
            <a:off x="7348680" y="5510160"/>
            <a:ext cx="117360" cy="223920"/>
          </a:xfrm>
          <a:custGeom>
            <a:avLst/>
            <a:gdLst/>
            <a:ahLst/>
            <a:rect l="l" t="t" r="r" b="b"/>
            <a:pathLst>
              <a:path w="324" h="622">
                <a:moveTo>
                  <a:pt x="20414" y="15304"/>
                </a:moveTo>
                <a:cubicBezTo>
                  <a:pt x="20487" y="15424"/>
                  <a:pt x="20544" y="15521"/>
                  <a:pt x="20588" y="15652"/>
                </a:cubicBezTo>
                <a:cubicBezTo>
                  <a:pt x="20618" y="15742"/>
                  <a:pt x="20632" y="15865"/>
                  <a:pt x="20712" y="15925"/>
                </a:cubicBezTo>
                <a:cubicBezTo>
                  <a:pt x="20720" y="15925"/>
                  <a:pt x="20729" y="15925"/>
                  <a:pt x="20737" y="159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0" name="Ink 57"/>
          <p:cNvSpPr/>
          <p:nvPr/>
        </p:nvSpPr>
        <p:spPr>
          <a:xfrm>
            <a:off x="7367760" y="5419800"/>
            <a:ext cx="115560" cy="438120"/>
          </a:xfrm>
          <a:custGeom>
            <a:avLst/>
            <a:gdLst/>
            <a:ahLst/>
            <a:rect l="l" t="t" r="r" b="b"/>
            <a:pathLst>
              <a:path w="323" h="1217">
                <a:moveTo>
                  <a:pt x="20786" y="15056"/>
                </a:moveTo>
                <a:cubicBezTo>
                  <a:pt x="20729" y="15238"/>
                  <a:pt x="20673" y="15421"/>
                  <a:pt x="20613" y="15602"/>
                </a:cubicBezTo>
                <a:cubicBezTo>
                  <a:pt x="20557" y="15771"/>
                  <a:pt x="20459" y="15992"/>
                  <a:pt x="20464" y="16173"/>
                </a:cubicBezTo>
                <a:cubicBezTo>
                  <a:pt x="20472" y="16206"/>
                  <a:pt x="20481" y="16239"/>
                  <a:pt x="20489" y="162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1" name="Ink 58"/>
          <p:cNvSpPr/>
          <p:nvPr/>
        </p:nvSpPr>
        <p:spPr>
          <a:xfrm>
            <a:off x="7554960" y="5473800"/>
            <a:ext cx="71280" cy="19080"/>
          </a:xfrm>
          <a:custGeom>
            <a:avLst/>
            <a:gdLst/>
            <a:ahLst/>
            <a:rect l="l" t="t" r="r" b="b"/>
            <a:pathLst>
              <a:path w="199" h="51">
                <a:moveTo>
                  <a:pt x="20985" y="15205"/>
                </a:moveTo>
                <a:cubicBezTo>
                  <a:pt x="21048" y="15269"/>
                  <a:pt x="21093" y="15255"/>
                  <a:pt x="21183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2" name="Ink 59"/>
          <p:cNvSpPr/>
          <p:nvPr/>
        </p:nvSpPr>
        <p:spPr>
          <a:xfrm>
            <a:off x="7599240" y="5562720"/>
            <a:ext cx="81000" cy="36360"/>
          </a:xfrm>
          <a:custGeom>
            <a:avLst/>
            <a:gdLst/>
            <a:ahLst/>
            <a:rect l="l" t="t" r="r" b="b"/>
            <a:pathLst>
              <a:path w="224" h="101">
                <a:moveTo>
                  <a:pt x="21109" y="15553"/>
                </a:moveTo>
                <a:cubicBezTo>
                  <a:pt x="21186" y="15521"/>
                  <a:pt x="21255" y="15485"/>
                  <a:pt x="21332" y="154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3" name="Ink 60"/>
          <p:cNvSpPr/>
          <p:nvPr/>
        </p:nvSpPr>
        <p:spPr>
          <a:xfrm>
            <a:off x="7840800" y="5232240"/>
            <a:ext cx="27000" cy="216000"/>
          </a:xfrm>
          <a:custGeom>
            <a:avLst/>
            <a:gdLst/>
            <a:ahLst/>
            <a:rect l="l" t="t" r="r" b="b"/>
            <a:pathLst>
              <a:path w="75" h="596">
                <a:moveTo>
                  <a:pt x="21853" y="14536"/>
                </a:moveTo>
                <a:cubicBezTo>
                  <a:pt x="21853" y="14641"/>
                  <a:pt x="21855" y="14731"/>
                  <a:pt x="21828" y="14833"/>
                </a:cubicBezTo>
                <a:cubicBezTo>
                  <a:pt x="21811" y="14898"/>
                  <a:pt x="21765" y="15014"/>
                  <a:pt x="21779" y="15081"/>
                </a:cubicBezTo>
                <a:cubicBezTo>
                  <a:pt x="21787" y="15098"/>
                  <a:pt x="21795" y="15114"/>
                  <a:pt x="21803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4" name="Ink 61"/>
          <p:cNvSpPr/>
          <p:nvPr/>
        </p:nvSpPr>
        <p:spPr>
          <a:xfrm>
            <a:off x="7759800" y="5286240"/>
            <a:ext cx="152280" cy="36720"/>
          </a:xfrm>
          <a:custGeom>
            <a:avLst/>
            <a:gdLst/>
            <a:ahLst/>
            <a:rect l="l" t="t" r="r" b="b"/>
            <a:pathLst>
              <a:path w="423" h="101">
                <a:moveTo>
                  <a:pt x="21555" y="14784"/>
                </a:moveTo>
                <a:cubicBezTo>
                  <a:pt x="21612" y="14776"/>
                  <a:pt x="21673" y="14753"/>
                  <a:pt x="21729" y="14734"/>
                </a:cubicBezTo>
                <a:cubicBezTo>
                  <a:pt x="21802" y="14710"/>
                  <a:pt x="21878" y="14701"/>
                  <a:pt x="21952" y="14684"/>
                </a:cubicBezTo>
                <a:cubicBezTo>
                  <a:pt x="21960" y="14684"/>
                  <a:pt x="21969" y="14684"/>
                  <a:pt x="21977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5" name="Ink 62"/>
          <p:cNvSpPr/>
          <p:nvPr/>
        </p:nvSpPr>
        <p:spPr>
          <a:xfrm>
            <a:off x="7831080" y="5483160"/>
            <a:ext cx="10800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21754" y="15379"/>
                </a:moveTo>
                <a:cubicBezTo>
                  <a:pt x="21877" y="15338"/>
                  <a:pt x="21952" y="15313"/>
                  <a:pt x="22051" y="152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6" name="Ink 63"/>
          <p:cNvSpPr/>
          <p:nvPr/>
        </p:nvSpPr>
        <p:spPr>
          <a:xfrm>
            <a:off x="8028000" y="5268960"/>
            <a:ext cx="152280" cy="24912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22374" y="14635"/>
                </a:moveTo>
                <a:cubicBezTo>
                  <a:pt x="22349" y="14763"/>
                  <a:pt x="22303" y="14880"/>
                  <a:pt x="22299" y="15007"/>
                </a:cubicBezTo>
                <a:cubicBezTo>
                  <a:pt x="22296" y="15102"/>
                  <a:pt x="22304" y="15150"/>
                  <a:pt x="22349" y="15230"/>
                </a:cubicBezTo>
                <a:cubicBezTo>
                  <a:pt x="22403" y="15325"/>
                  <a:pt x="22406" y="15324"/>
                  <a:pt x="22523" y="15329"/>
                </a:cubicBezTo>
                <a:cubicBezTo>
                  <a:pt x="22602" y="15332"/>
                  <a:pt x="22626" y="15282"/>
                  <a:pt x="22671" y="15230"/>
                </a:cubicBezTo>
                <a:cubicBezTo>
                  <a:pt x="22688" y="15213"/>
                  <a:pt x="22704" y="15197"/>
                  <a:pt x="22721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47" name="Ink 64"/>
          <p:cNvSpPr/>
          <p:nvPr/>
        </p:nvSpPr>
        <p:spPr>
          <a:xfrm>
            <a:off x="8010360" y="5027760"/>
            <a:ext cx="61920" cy="11592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22423" y="13965"/>
                </a:moveTo>
                <a:cubicBezTo>
                  <a:pt x="22377" y="14013"/>
                  <a:pt x="22332" y="14032"/>
                  <a:pt x="22299" y="14089"/>
                </a:cubicBezTo>
                <a:cubicBezTo>
                  <a:pt x="22275" y="14139"/>
                  <a:pt x="22267" y="14155"/>
                  <a:pt x="22250" y="14188"/>
                </a:cubicBezTo>
                <a:cubicBezTo>
                  <a:pt x="22303" y="14164"/>
                  <a:pt x="22353" y="14145"/>
                  <a:pt x="22399" y="14114"/>
                </a:cubicBezTo>
                <a:cubicBezTo>
                  <a:pt x="22360" y="14191"/>
                  <a:pt x="22335" y="14221"/>
                  <a:pt x="22275" y="142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49" name="Ink 3"/>
          <p:cNvSpPr/>
          <p:nvPr/>
        </p:nvSpPr>
        <p:spPr>
          <a:xfrm>
            <a:off x="438120" y="955800"/>
            <a:ext cx="411120" cy="517320"/>
          </a:xfrm>
          <a:custGeom>
            <a:avLst/>
            <a:gdLst/>
            <a:ahLst/>
            <a:rect l="l" t="t" r="r" b="b"/>
            <a:pathLst>
              <a:path w="1142" h="1440">
                <a:moveTo>
                  <a:pt x="1290" y="3150"/>
                </a:moveTo>
                <a:cubicBezTo>
                  <a:pt x="1299" y="3079"/>
                  <a:pt x="1313" y="3051"/>
                  <a:pt x="1364" y="3001"/>
                </a:cubicBezTo>
                <a:cubicBezTo>
                  <a:pt x="1418" y="2948"/>
                  <a:pt x="1466" y="2906"/>
                  <a:pt x="1538" y="2902"/>
                </a:cubicBezTo>
                <a:cubicBezTo>
                  <a:pt x="1578" y="2900"/>
                  <a:pt x="1648" y="2930"/>
                  <a:pt x="1662" y="2977"/>
                </a:cubicBezTo>
                <a:cubicBezTo>
                  <a:pt x="1681" y="3042"/>
                  <a:pt x="1667" y="3165"/>
                  <a:pt x="1637" y="3225"/>
                </a:cubicBezTo>
                <a:cubicBezTo>
                  <a:pt x="1591" y="3318"/>
                  <a:pt x="1501" y="3391"/>
                  <a:pt x="1439" y="3473"/>
                </a:cubicBezTo>
                <a:cubicBezTo>
                  <a:pt x="1385" y="3545"/>
                  <a:pt x="1329" y="3582"/>
                  <a:pt x="1265" y="3646"/>
                </a:cubicBezTo>
                <a:cubicBezTo>
                  <a:pt x="1364" y="3597"/>
                  <a:pt x="1407" y="3572"/>
                  <a:pt x="1513" y="3572"/>
                </a:cubicBezTo>
                <a:cubicBezTo>
                  <a:pt x="1588" y="3572"/>
                  <a:pt x="1634" y="3629"/>
                  <a:pt x="1662" y="3696"/>
                </a:cubicBezTo>
                <a:cubicBezTo>
                  <a:pt x="1704" y="3798"/>
                  <a:pt x="1660" y="3839"/>
                  <a:pt x="1612" y="3919"/>
                </a:cubicBezTo>
                <a:cubicBezTo>
                  <a:pt x="1566" y="3994"/>
                  <a:pt x="1523" y="4035"/>
                  <a:pt x="1439" y="4068"/>
                </a:cubicBezTo>
                <a:cubicBezTo>
                  <a:pt x="1358" y="4100"/>
                  <a:pt x="1222" y="4124"/>
                  <a:pt x="1215" y="3994"/>
                </a:cubicBezTo>
                <a:cubicBezTo>
                  <a:pt x="1223" y="3977"/>
                  <a:pt x="1232" y="3961"/>
                  <a:pt x="1240" y="3944"/>
                </a:cubicBezTo>
              </a:path>
              <a:path w="1142" h="1440">
                <a:moveTo>
                  <a:pt x="1736" y="3051"/>
                </a:moveTo>
                <a:cubicBezTo>
                  <a:pt x="1797" y="3017"/>
                  <a:pt x="1867" y="2943"/>
                  <a:pt x="1935" y="2927"/>
                </a:cubicBezTo>
                <a:cubicBezTo>
                  <a:pt x="1987" y="2915"/>
                  <a:pt x="2058" y="2876"/>
                  <a:pt x="2108" y="2927"/>
                </a:cubicBezTo>
                <a:cubicBezTo>
                  <a:pt x="2146" y="2965"/>
                  <a:pt x="2144" y="3076"/>
                  <a:pt x="2133" y="3125"/>
                </a:cubicBezTo>
                <a:cubicBezTo>
                  <a:pt x="2111" y="3223"/>
                  <a:pt x="2106" y="3326"/>
                  <a:pt x="2084" y="3423"/>
                </a:cubicBezTo>
                <a:cubicBezTo>
                  <a:pt x="2063" y="3517"/>
                  <a:pt x="2039" y="3601"/>
                  <a:pt x="2034" y="3696"/>
                </a:cubicBezTo>
                <a:cubicBezTo>
                  <a:pt x="2031" y="3763"/>
                  <a:pt x="2027" y="3817"/>
                  <a:pt x="2059" y="3870"/>
                </a:cubicBezTo>
                <a:cubicBezTo>
                  <a:pt x="2059" y="3820"/>
                  <a:pt x="2059" y="3803"/>
                  <a:pt x="2059" y="3770"/>
                </a:cubicBezTo>
              </a:path>
              <a:path w="1142" h="1440">
                <a:moveTo>
                  <a:pt x="1984" y="2654"/>
                </a:moveTo>
                <a:cubicBezTo>
                  <a:pt x="2136" y="2672"/>
                  <a:pt x="2198" y="2694"/>
                  <a:pt x="2257" y="2853"/>
                </a:cubicBezTo>
                <a:cubicBezTo>
                  <a:pt x="2325" y="3037"/>
                  <a:pt x="2382" y="3224"/>
                  <a:pt x="2356" y="3423"/>
                </a:cubicBezTo>
                <a:cubicBezTo>
                  <a:pt x="2338" y="3558"/>
                  <a:pt x="2313" y="3670"/>
                  <a:pt x="2257" y="3795"/>
                </a:cubicBezTo>
                <a:cubicBezTo>
                  <a:pt x="2212" y="3895"/>
                  <a:pt x="2160" y="3966"/>
                  <a:pt x="2084" y="4043"/>
                </a:cubicBezTo>
                <a:cubicBezTo>
                  <a:pt x="2016" y="4112"/>
                  <a:pt x="2118" y="4030"/>
                  <a:pt x="2133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0" name="Ink 4"/>
          <p:cNvSpPr/>
          <p:nvPr/>
        </p:nvSpPr>
        <p:spPr>
          <a:xfrm>
            <a:off x="1143000" y="866880"/>
            <a:ext cx="1938240" cy="490320"/>
          </a:xfrm>
          <a:custGeom>
            <a:avLst/>
            <a:gdLst/>
            <a:ahLst/>
            <a:rect l="l" t="t" r="r" b="b"/>
            <a:pathLst>
              <a:path w="5384" h="1365">
                <a:moveTo>
                  <a:pt x="3274" y="3076"/>
                </a:moveTo>
                <a:cubicBezTo>
                  <a:pt x="3304" y="3157"/>
                  <a:pt x="3329" y="3249"/>
                  <a:pt x="3373" y="3324"/>
                </a:cubicBezTo>
                <a:cubicBezTo>
                  <a:pt x="3419" y="3402"/>
                  <a:pt x="3466" y="3502"/>
                  <a:pt x="3522" y="3572"/>
                </a:cubicBezTo>
                <a:cubicBezTo>
                  <a:pt x="3552" y="3609"/>
                  <a:pt x="3618" y="3746"/>
                  <a:pt x="3671" y="3746"/>
                </a:cubicBezTo>
                <a:cubicBezTo>
                  <a:pt x="3705" y="3712"/>
                  <a:pt x="3714" y="3690"/>
                  <a:pt x="3696" y="3646"/>
                </a:cubicBezTo>
              </a:path>
              <a:path w="5384" h="1365">
                <a:moveTo>
                  <a:pt x="3572" y="3026"/>
                </a:moveTo>
                <a:cubicBezTo>
                  <a:pt x="3512" y="3163"/>
                  <a:pt x="3458" y="3347"/>
                  <a:pt x="3373" y="3473"/>
                </a:cubicBezTo>
                <a:cubicBezTo>
                  <a:pt x="3336" y="3527"/>
                  <a:pt x="3244" y="3611"/>
                  <a:pt x="3225" y="3671"/>
                </a:cubicBezTo>
                <a:cubicBezTo>
                  <a:pt x="3220" y="3686"/>
                  <a:pt x="3177" y="3827"/>
                  <a:pt x="3200" y="3746"/>
                </a:cubicBezTo>
                <a:cubicBezTo>
                  <a:pt x="3200" y="3738"/>
                  <a:pt x="3200" y="3729"/>
                  <a:pt x="3200" y="3721"/>
                </a:cubicBezTo>
              </a:path>
              <a:path w="5384" h="1365">
                <a:moveTo>
                  <a:pt x="3795" y="2555"/>
                </a:moveTo>
                <a:cubicBezTo>
                  <a:pt x="3819" y="2525"/>
                  <a:pt x="3853" y="2443"/>
                  <a:pt x="3894" y="2431"/>
                </a:cubicBezTo>
                <a:cubicBezTo>
                  <a:pt x="3938" y="2419"/>
                  <a:pt x="4018" y="2387"/>
                  <a:pt x="4068" y="2406"/>
                </a:cubicBezTo>
                <a:cubicBezTo>
                  <a:pt x="4151" y="2438"/>
                  <a:pt x="4101" y="2529"/>
                  <a:pt x="4068" y="2580"/>
                </a:cubicBezTo>
                <a:cubicBezTo>
                  <a:pt x="4032" y="2635"/>
                  <a:pt x="3973" y="2698"/>
                  <a:pt x="3919" y="2729"/>
                </a:cubicBezTo>
                <a:cubicBezTo>
                  <a:pt x="3871" y="2752"/>
                  <a:pt x="3857" y="2760"/>
                  <a:pt x="3820" y="2753"/>
                </a:cubicBezTo>
                <a:cubicBezTo>
                  <a:pt x="3880" y="2718"/>
                  <a:pt x="3944" y="2708"/>
                  <a:pt x="4018" y="2704"/>
                </a:cubicBezTo>
                <a:cubicBezTo>
                  <a:pt x="4075" y="2701"/>
                  <a:pt x="4127" y="2746"/>
                  <a:pt x="4142" y="2803"/>
                </a:cubicBezTo>
                <a:cubicBezTo>
                  <a:pt x="4157" y="2860"/>
                  <a:pt x="4096" y="2952"/>
                  <a:pt x="4043" y="2977"/>
                </a:cubicBezTo>
                <a:cubicBezTo>
                  <a:pt x="4011" y="2992"/>
                  <a:pt x="3799" y="3001"/>
                  <a:pt x="3919" y="3001"/>
                </a:cubicBezTo>
              </a:path>
              <a:path w="5384" h="1365">
                <a:moveTo>
                  <a:pt x="4341" y="3200"/>
                </a:moveTo>
                <a:cubicBezTo>
                  <a:pt x="4451" y="3200"/>
                  <a:pt x="4680" y="3242"/>
                  <a:pt x="4762" y="3175"/>
                </a:cubicBezTo>
                <a:cubicBezTo>
                  <a:pt x="4770" y="3167"/>
                  <a:pt x="4779" y="3158"/>
                  <a:pt x="4787" y="3150"/>
                </a:cubicBezTo>
              </a:path>
              <a:path w="5384" h="1365">
                <a:moveTo>
                  <a:pt x="5135" y="2654"/>
                </a:moveTo>
                <a:cubicBezTo>
                  <a:pt x="5127" y="2772"/>
                  <a:pt x="5094" y="2883"/>
                  <a:pt x="5085" y="3001"/>
                </a:cubicBezTo>
                <a:cubicBezTo>
                  <a:pt x="5076" y="3123"/>
                  <a:pt x="5091" y="3254"/>
                  <a:pt x="5060" y="3373"/>
                </a:cubicBezTo>
                <a:cubicBezTo>
                  <a:pt x="5043" y="3437"/>
                  <a:pt x="5022" y="3514"/>
                  <a:pt x="5011" y="3572"/>
                </a:cubicBezTo>
                <a:cubicBezTo>
                  <a:pt x="5011" y="3629"/>
                  <a:pt x="5011" y="3637"/>
                  <a:pt x="5011" y="3547"/>
                </a:cubicBezTo>
              </a:path>
              <a:path w="5384" h="1365">
                <a:moveTo>
                  <a:pt x="5432" y="2604"/>
                </a:moveTo>
                <a:cubicBezTo>
                  <a:pt x="5422" y="2728"/>
                  <a:pt x="5401" y="2855"/>
                  <a:pt x="5383" y="2977"/>
                </a:cubicBezTo>
                <a:cubicBezTo>
                  <a:pt x="5364" y="3109"/>
                  <a:pt x="5338" y="3240"/>
                  <a:pt x="5333" y="3373"/>
                </a:cubicBezTo>
                <a:cubicBezTo>
                  <a:pt x="5331" y="3437"/>
                  <a:pt x="5331" y="3519"/>
                  <a:pt x="5358" y="3572"/>
                </a:cubicBezTo>
                <a:cubicBezTo>
                  <a:pt x="5383" y="3597"/>
                  <a:pt x="5391" y="3605"/>
                  <a:pt x="5407" y="3572"/>
                </a:cubicBezTo>
              </a:path>
              <a:path w="5384" h="1365">
                <a:moveTo>
                  <a:pt x="5631" y="3101"/>
                </a:moveTo>
                <a:cubicBezTo>
                  <a:pt x="5678" y="3245"/>
                  <a:pt x="5673" y="3344"/>
                  <a:pt x="5755" y="3473"/>
                </a:cubicBezTo>
                <a:cubicBezTo>
                  <a:pt x="5791" y="3529"/>
                  <a:pt x="5863" y="3563"/>
                  <a:pt x="5928" y="3547"/>
                </a:cubicBezTo>
                <a:cubicBezTo>
                  <a:pt x="5969" y="3506"/>
                  <a:pt x="5983" y="3476"/>
                  <a:pt x="5978" y="3423"/>
                </a:cubicBezTo>
              </a:path>
              <a:path w="5384" h="1365">
                <a:moveTo>
                  <a:pt x="5829" y="3101"/>
                </a:moveTo>
                <a:cubicBezTo>
                  <a:pt x="5745" y="3216"/>
                  <a:pt x="5679" y="3345"/>
                  <a:pt x="5581" y="3448"/>
                </a:cubicBezTo>
                <a:cubicBezTo>
                  <a:pt x="5552" y="3479"/>
                  <a:pt x="5445" y="3602"/>
                  <a:pt x="5531" y="3572"/>
                </a:cubicBezTo>
              </a:path>
              <a:path w="5384" h="1365">
                <a:moveTo>
                  <a:pt x="6573" y="3026"/>
                </a:moveTo>
                <a:cubicBezTo>
                  <a:pt x="6560" y="3125"/>
                  <a:pt x="6529" y="3237"/>
                  <a:pt x="6573" y="3324"/>
                </a:cubicBezTo>
                <a:cubicBezTo>
                  <a:pt x="6598" y="3349"/>
                  <a:pt x="6606" y="3357"/>
                  <a:pt x="6573" y="3373"/>
                </a:cubicBezTo>
              </a:path>
              <a:path w="5384" h="1365">
                <a:moveTo>
                  <a:pt x="6276" y="3175"/>
                </a:moveTo>
                <a:cubicBezTo>
                  <a:pt x="6387" y="3187"/>
                  <a:pt x="6509" y="3196"/>
                  <a:pt x="6623" y="3175"/>
                </a:cubicBezTo>
                <a:cubicBezTo>
                  <a:pt x="6728" y="3140"/>
                  <a:pt x="6785" y="3127"/>
                  <a:pt x="6871" y="3125"/>
                </a:cubicBezTo>
              </a:path>
              <a:path w="5384" h="1365">
                <a:moveTo>
                  <a:pt x="7293" y="2753"/>
                </a:moveTo>
                <a:cubicBezTo>
                  <a:pt x="7293" y="2884"/>
                  <a:pt x="7272" y="2997"/>
                  <a:pt x="7268" y="3125"/>
                </a:cubicBezTo>
                <a:cubicBezTo>
                  <a:pt x="7265" y="3225"/>
                  <a:pt x="7289" y="3303"/>
                  <a:pt x="7293" y="3398"/>
                </a:cubicBezTo>
                <a:cubicBezTo>
                  <a:pt x="7294" y="3421"/>
                  <a:pt x="7287" y="3532"/>
                  <a:pt x="7317" y="3473"/>
                </a:cubicBezTo>
              </a:path>
              <a:path w="5384" h="1365">
                <a:moveTo>
                  <a:pt x="7590" y="2778"/>
                </a:moveTo>
                <a:cubicBezTo>
                  <a:pt x="7682" y="2762"/>
                  <a:pt x="7800" y="2757"/>
                  <a:pt x="7888" y="2729"/>
                </a:cubicBezTo>
                <a:cubicBezTo>
                  <a:pt x="7932" y="2707"/>
                  <a:pt x="7943" y="2704"/>
                  <a:pt x="7962" y="2679"/>
                </a:cubicBezTo>
              </a:path>
              <a:path w="5384" h="1365">
                <a:moveTo>
                  <a:pt x="7590" y="2803"/>
                </a:moveTo>
                <a:cubicBezTo>
                  <a:pt x="7534" y="2934"/>
                  <a:pt x="7510" y="2945"/>
                  <a:pt x="7516" y="3026"/>
                </a:cubicBezTo>
                <a:cubicBezTo>
                  <a:pt x="7587" y="3017"/>
                  <a:pt x="7609" y="2968"/>
                  <a:pt x="7665" y="2952"/>
                </a:cubicBezTo>
                <a:cubicBezTo>
                  <a:pt x="7746" y="2929"/>
                  <a:pt x="7794" y="2954"/>
                  <a:pt x="7838" y="3001"/>
                </a:cubicBezTo>
                <a:cubicBezTo>
                  <a:pt x="7896" y="3062"/>
                  <a:pt x="7911" y="3162"/>
                  <a:pt x="7888" y="3249"/>
                </a:cubicBezTo>
                <a:cubicBezTo>
                  <a:pt x="7872" y="3308"/>
                  <a:pt x="7831" y="3356"/>
                  <a:pt x="7789" y="3398"/>
                </a:cubicBezTo>
                <a:cubicBezTo>
                  <a:pt x="7744" y="3443"/>
                  <a:pt x="7682" y="3436"/>
                  <a:pt x="7640" y="3398"/>
                </a:cubicBezTo>
                <a:cubicBezTo>
                  <a:pt x="7595" y="3358"/>
                  <a:pt x="7615" y="3340"/>
                  <a:pt x="7640" y="3299"/>
                </a:cubicBezTo>
              </a:path>
              <a:path w="5384" h="1365">
                <a:moveTo>
                  <a:pt x="8186" y="2902"/>
                </a:moveTo>
                <a:cubicBezTo>
                  <a:pt x="8147" y="3018"/>
                  <a:pt x="8026" y="3213"/>
                  <a:pt x="8111" y="3349"/>
                </a:cubicBezTo>
                <a:cubicBezTo>
                  <a:pt x="8156" y="3421"/>
                  <a:pt x="8218" y="3343"/>
                  <a:pt x="8260" y="3324"/>
                </a:cubicBezTo>
                <a:cubicBezTo>
                  <a:pt x="8357" y="3280"/>
                  <a:pt x="8432" y="3226"/>
                  <a:pt x="8483" y="3125"/>
                </a:cubicBezTo>
                <a:cubicBezTo>
                  <a:pt x="8519" y="3054"/>
                  <a:pt x="8554" y="2955"/>
                  <a:pt x="8558" y="2877"/>
                </a:cubicBezTo>
                <a:cubicBezTo>
                  <a:pt x="8561" y="2825"/>
                  <a:pt x="8491" y="2763"/>
                  <a:pt x="8434" y="2753"/>
                </a:cubicBezTo>
                <a:cubicBezTo>
                  <a:pt x="8360" y="2739"/>
                  <a:pt x="8261" y="2753"/>
                  <a:pt x="8186" y="27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1" name="Ink 5"/>
          <p:cNvSpPr/>
          <p:nvPr/>
        </p:nvSpPr>
        <p:spPr>
          <a:xfrm>
            <a:off x="3946680" y="1197000"/>
            <a:ext cx="384120" cy="223920"/>
          </a:xfrm>
          <a:custGeom>
            <a:avLst/>
            <a:gdLst/>
            <a:ahLst/>
            <a:rect l="l" t="t" r="r" b="b"/>
            <a:pathLst>
              <a:path w="1067" h="621">
                <a:moveTo>
                  <a:pt x="11063" y="3423"/>
                </a:moveTo>
                <a:cubicBezTo>
                  <a:pt x="11063" y="3485"/>
                  <a:pt x="11063" y="3567"/>
                  <a:pt x="11088" y="3621"/>
                </a:cubicBezTo>
                <a:cubicBezTo>
                  <a:pt x="11104" y="3657"/>
                  <a:pt x="11129" y="3679"/>
                  <a:pt x="11137" y="3721"/>
                </a:cubicBezTo>
              </a:path>
              <a:path w="1067" h="621">
                <a:moveTo>
                  <a:pt x="10964" y="3597"/>
                </a:moveTo>
                <a:cubicBezTo>
                  <a:pt x="11026" y="3602"/>
                  <a:pt x="11077" y="3611"/>
                  <a:pt x="11137" y="3621"/>
                </a:cubicBezTo>
              </a:path>
              <a:path w="1067" h="621">
                <a:moveTo>
                  <a:pt x="11013" y="3919"/>
                </a:moveTo>
                <a:cubicBezTo>
                  <a:pt x="11125" y="3939"/>
                  <a:pt x="11158" y="3926"/>
                  <a:pt x="11261" y="3870"/>
                </a:cubicBezTo>
              </a:path>
              <a:path w="1067" h="621">
                <a:moveTo>
                  <a:pt x="11410" y="3423"/>
                </a:moveTo>
                <a:cubicBezTo>
                  <a:pt x="11464" y="3392"/>
                  <a:pt x="11542" y="3321"/>
                  <a:pt x="11609" y="3324"/>
                </a:cubicBezTo>
                <a:cubicBezTo>
                  <a:pt x="11625" y="3332"/>
                  <a:pt x="11642" y="3341"/>
                  <a:pt x="11658" y="3349"/>
                </a:cubicBezTo>
                <a:cubicBezTo>
                  <a:pt x="11686" y="3416"/>
                  <a:pt x="11640" y="3463"/>
                  <a:pt x="11584" y="3522"/>
                </a:cubicBezTo>
                <a:cubicBezTo>
                  <a:pt x="11536" y="3573"/>
                  <a:pt x="11488" y="3604"/>
                  <a:pt x="11435" y="3646"/>
                </a:cubicBezTo>
                <a:cubicBezTo>
                  <a:pt x="11498" y="3618"/>
                  <a:pt x="11600" y="3553"/>
                  <a:pt x="11658" y="3621"/>
                </a:cubicBezTo>
                <a:cubicBezTo>
                  <a:pt x="11720" y="3693"/>
                  <a:pt x="11677" y="3795"/>
                  <a:pt x="11609" y="3845"/>
                </a:cubicBezTo>
                <a:cubicBezTo>
                  <a:pt x="11556" y="3884"/>
                  <a:pt x="11482" y="3883"/>
                  <a:pt x="11435" y="3845"/>
                </a:cubicBezTo>
                <a:cubicBezTo>
                  <a:pt x="11412" y="3822"/>
                  <a:pt x="11404" y="3818"/>
                  <a:pt x="11410" y="3795"/>
                </a:cubicBezTo>
              </a:path>
              <a:path w="1067" h="621">
                <a:moveTo>
                  <a:pt x="11832" y="3473"/>
                </a:moveTo>
                <a:cubicBezTo>
                  <a:pt x="11816" y="3585"/>
                  <a:pt x="11788" y="3633"/>
                  <a:pt x="11832" y="3721"/>
                </a:cubicBezTo>
                <a:cubicBezTo>
                  <a:pt x="11895" y="3685"/>
                  <a:pt x="11921" y="3662"/>
                  <a:pt x="11956" y="3597"/>
                </a:cubicBezTo>
                <a:cubicBezTo>
                  <a:pt x="11985" y="3543"/>
                  <a:pt x="12044" y="3462"/>
                  <a:pt x="12030" y="3398"/>
                </a:cubicBezTo>
                <a:cubicBezTo>
                  <a:pt x="12002" y="3273"/>
                  <a:pt x="11881" y="3352"/>
                  <a:pt x="11807" y="3373"/>
                </a:cubicBezTo>
                <a:cubicBezTo>
                  <a:pt x="11774" y="3381"/>
                  <a:pt x="11741" y="3390"/>
                  <a:pt x="11708" y="33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2" name="Ink 6"/>
          <p:cNvSpPr/>
          <p:nvPr/>
        </p:nvSpPr>
        <p:spPr>
          <a:xfrm>
            <a:off x="660240" y="1616040"/>
            <a:ext cx="142920" cy="277920"/>
          </a:xfrm>
          <a:custGeom>
            <a:avLst/>
            <a:gdLst/>
            <a:ahLst/>
            <a:rect l="l" t="t" r="r" b="b"/>
            <a:pathLst>
              <a:path w="397" h="770">
                <a:moveTo>
                  <a:pt x="2232" y="4490"/>
                </a:moveTo>
                <a:cubicBezTo>
                  <a:pt x="2192" y="4572"/>
                  <a:pt x="2182" y="4631"/>
                  <a:pt x="2158" y="4713"/>
                </a:cubicBezTo>
                <a:cubicBezTo>
                  <a:pt x="2136" y="4790"/>
                  <a:pt x="2133" y="4852"/>
                  <a:pt x="2133" y="4936"/>
                </a:cubicBezTo>
              </a:path>
              <a:path w="397" h="770">
                <a:moveTo>
                  <a:pt x="1836" y="4986"/>
                </a:moveTo>
                <a:cubicBezTo>
                  <a:pt x="1968" y="4986"/>
                  <a:pt x="2100" y="4986"/>
                  <a:pt x="2232" y="4986"/>
                </a:cubicBezTo>
              </a:path>
              <a:path w="397" h="770">
                <a:moveTo>
                  <a:pt x="1910" y="5259"/>
                </a:moveTo>
                <a:cubicBezTo>
                  <a:pt x="1996" y="5259"/>
                  <a:pt x="2052" y="5244"/>
                  <a:pt x="2133" y="5209"/>
                </a:cubicBezTo>
                <a:cubicBezTo>
                  <a:pt x="2150" y="5201"/>
                  <a:pt x="2166" y="5192"/>
                  <a:pt x="218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3" name="Ink 7"/>
          <p:cNvSpPr/>
          <p:nvPr/>
        </p:nvSpPr>
        <p:spPr>
          <a:xfrm>
            <a:off x="938160" y="1633680"/>
            <a:ext cx="98640" cy="349200"/>
          </a:xfrm>
          <a:custGeom>
            <a:avLst/>
            <a:gdLst/>
            <a:ahLst/>
            <a:rect l="l" t="t" r="r" b="b"/>
            <a:pathLst>
              <a:path w="274" h="969">
                <a:moveTo>
                  <a:pt x="2604" y="4539"/>
                </a:moveTo>
                <a:cubicBezTo>
                  <a:pt x="2630" y="4632"/>
                  <a:pt x="2646" y="4739"/>
                  <a:pt x="2629" y="4837"/>
                </a:cubicBezTo>
                <a:cubicBezTo>
                  <a:pt x="2614" y="4923"/>
                  <a:pt x="2604" y="4996"/>
                  <a:pt x="2604" y="5085"/>
                </a:cubicBezTo>
                <a:cubicBezTo>
                  <a:pt x="2604" y="5126"/>
                  <a:pt x="2604" y="5168"/>
                  <a:pt x="2604" y="5209"/>
                </a:cubicBezTo>
              </a:path>
              <a:path w="274" h="969">
                <a:moveTo>
                  <a:pt x="2877" y="5259"/>
                </a:moveTo>
                <a:cubicBezTo>
                  <a:pt x="2877" y="5350"/>
                  <a:pt x="2877" y="5573"/>
                  <a:pt x="2877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4" name="Ink 8"/>
          <p:cNvSpPr/>
          <p:nvPr/>
        </p:nvSpPr>
        <p:spPr>
          <a:xfrm>
            <a:off x="1170000" y="1598760"/>
            <a:ext cx="428760" cy="33948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3398" y="4514"/>
                </a:moveTo>
                <a:cubicBezTo>
                  <a:pt x="3419" y="4635"/>
                  <a:pt x="3447" y="4726"/>
                  <a:pt x="3473" y="4837"/>
                </a:cubicBezTo>
                <a:cubicBezTo>
                  <a:pt x="3473" y="4845"/>
                  <a:pt x="3473" y="4854"/>
                  <a:pt x="3473" y="4862"/>
                </a:cubicBezTo>
              </a:path>
              <a:path w="1192" h="944">
                <a:moveTo>
                  <a:pt x="3299" y="4787"/>
                </a:moveTo>
                <a:cubicBezTo>
                  <a:pt x="3414" y="4762"/>
                  <a:pt x="3463" y="4764"/>
                  <a:pt x="3572" y="4787"/>
                </a:cubicBezTo>
                <a:cubicBezTo>
                  <a:pt x="3580" y="4787"/>
                  <a:pt x="3589" y="4787"/>
                  <a:pt x="3597" y="4787"/>
                </a:cubicBezTo>
              </a:path>
              <a:path w="1192" h="944">
                <a:moveTo>
                  <a:pt x="3249" y="5110"/>
                </a:moveTo>
                <a:cubicBezTo>
                  <a:pt x="3349" y="5132"/>
                  <a:pt x="3424" y="5138"/>
                  <a:pt x="3522" y="5110"/>
                </a:cubicBezTo>
                <a:cubicBezTo>
                  <a:pt x="3572" y="5085"/>
                  <a:pt x="3588" y="5077"/>
                  <a:pt x="3621" y="5060"/>
                </a:cubicBezTo>
              </a:path>
              <a:path w="1192" h="944">
                <a:moveTo>
                  <a:pt x="3894" y="4514"/>
                </a:moveTo>
                <a:cubicBezTo>
                  <a:pt x="3985" y="4456"/>
                  <a:pt x="4100" y="4384"/>
                  <a:pt x="4192" y="4514"/>
                </a:cubicBezTo>
                <a:cubicBezTo>
                  <a:pt x="4239" y="4581"/>
                  <a:pt x="4157" y="4714"/>
                  <a:pt x="4118" y="4762"/>
                </a:cubicBezTo>
                <a:cubicBezTo>
                  <a:pt x="4063" y="4830"/>
                  <a:pt x="3982" y="4931"/>
                  <a:pt x="3919" y="4986"/>
                </a:cubicBezTo>
                <a:cubicBezTo>
                  <a:pt x="3872" y="5010"/>
                  <a:pt x="3855" y="5016"/>
                  <a:pt x="3870" y="5060"/>
                </a:cubicBezTo>
                <a:cubicBezTo>
                  <a:pt x="3916" y="5088"/>
                  <a:pt x="3983" y="5098"/>
                  <a:pt x="4043" y="5085"/>
                </a:cubicBezTo>
                <a:cubicBezTo>
                  <a:pt x="4110" y="5063"/>
                  <a:pt x="4128" y="5058"/>
                  <a:pt x="4167" y="5035"/>
                </a:cubicBezTo>
              </a:path>
              <a:path w="1192" h="944">
                <a:moveTo>
                  <a:pt x="4440" y="5011"/>
                </a:moveTo>
                <a:cubicBezTo>
                  <a:pt x="4416" y="5099"/>
                  <a:pt x="4400" y="5228"/>
                  <a:pt x="4366" y="5308"/>
                </a:cubicBezTo>
                <a:cubicBezTo>
                  <a:pt x="4346" y="5355"/>
                  <a:pt x="4322" y="5354"/>
                  <a:pt x="4366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5" name="Ink 9"/>
          <p:cNvSpPr/>
          <p:nvPr/>
        </p:nvSpPr>
        <p:spPr>
          <a:xfrm>
            <a:off x="1714680" y="1554120"/>
            <a:ext cx="36648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4862" y="4390"/>
                </a:moveTo>
                <a:cubicBezTo>
                  <a:pt x="4882" y="4493"/>
                  <a:pt x="4903" y="4586"/>
                  <a:pt x="4911" y="4688"/>
                </a:cubicBezTo>
              </a:path>
              <a:path w="1018" h="844">
                <a:moveTo>
                  <a:pt x="4762" y="4564"/>
                </a:moveTo>
                <a:cubicBezTo>
                  <a:pt x="4875" y="4584"/>
                  <a:pt x="4957" y="4618"/>
                  <a:pt x="5060" y="4638"/>
                </a:cubicBezTo>
              </a:path>
              <a:path w="1018" h="844">
                <a:moveTo>
                  <a:pt x="4762" y="4986"/>
                </a:moveTo>
                <a:cubicBezTo>
                  <a:pt x="4899" y="4966"/>
                  <a:pt x="4963" y="4960"/>
                  <a:pt x="5085" y="4911"/>
                </a:cubicBezTo>
              </a:path>
              <a:path w="1018" h="844">
                <a:moveTo>
                  <a:pt x="5407" y="4366"/>
                </a:moveTo>
                <a:cubicBezTo>
                  <a:pt x="5526" y="4332"/>
                  <a:pt x="5547" y="4323"/>
                  <a:pt x="5655" y="4341"/>
                </a:cubicBezTo>
                <a:cubicBezTo>
                  <a:pt x="5734" y="4354"/>
                  <a:pt x="5763" y="4386"/>
                  <a:pt x="5705" y="4465"/>
                </a:cubicBezTo>
                <a:cubicBezTo>
                  <a:pt x="5667" y="4517"/>
                  <a:pt x="5596" y="4574"/>
                  <a:pt x="5531" y="4589"/>
                </a:cubicBezTo>
                <a:cubicBezTo>
                  <a:pt x="5471" y="4602"/>
                  <a:pt x="5477" y="4594"/>
                  <a:pt x="5432" y="4638"/>
                </a:cubicBezTo>
                <a:cubicBezTo>
                  <a:pt x="5484" y="4669"/>
                  <a:pt x="5581" y="4669"/>
                  <a:pt x="5631" y="4713"/>
                </a:cubicBezTo>
                <a:cubicBezTo>
                  <a:pt x="5689" y="4764"/>
                  <a:pt x="5692" y="4863"/>
                  <a:pt x="5631" y="4911"/>
                </a:cubicBezTo>
                <a:cubicBezTo>
                  <a:pt x="5570" y="4959"/>
                  <a:pt x="5482" y="4982"/>
                  <a:pt x="5407" y="4986"/>
                </a:cubicBezTo>
                <a:cubicBezTo>
                  <a:pt x="5356" y="4986"/>
                  <a:pt x="5337" y="4985"/>
                  <a:pt x="5308" y="4961"/>
                </a:cubicBezTo>
              </a:path>
              <a:path w="1018" h="844">
                <a:moveTo>
                  <a:pt x="5779" y="4961"/>
                </a:moveTo>
                <a:cubicBezTo>
                  <a:pt x="5779" y="5038"/>
                  <a:pt x="5769" y="5088"/>
                  <a:pt x="5755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6" name="Ink 10"/>
          <p:cNvSpPr/>
          <p:nvPr/>
        </p:nvSpPr>
        <p:spPr>
          <a:xfrm>
            <a:off x="2205000" y="1527120"/>
            <a:ext cx="911160" cy="339840"/>
          </a:xfrm>
          <a:custGeom>
            <a:avLst/>
            <a:gdLst/>
            <a:ahLst/>
            <a:rect l="l" t="t" r="r" b="b"/>
            <a:pathLst>
              <a:path w="2531" h="943">
                <a:moveTo>
                  <a:pt x="6201" y="4341"/>
                </a:moveTo>
                <a:cubicBezTo>
                  <a:pt x="6211" y="4417"/>
                  <a:pt x="6239" y="4490"/>
                  <a:pt x="6251" y="4564"/>
                </a:cubicBezTo>
                <a:cubicBezTo>
                  <a:pt x="6251" y="4581"/>
                  <a:pt x="6251" y="4597"/>
                  <a:pt x="6251" y="4614"/>
                </a:cubicBezTo>
              </a:path>
              <a:path w="2531" h="943">
                <a:moveTo>
                  <a:pt x="6127" y="4465"/>
                </a:moveTo>
                <a:cubicBezTo>
                  <a:pt x="6221" y="4465"/>
                  <a:pt x="6288" y="4485"/>
                  <a:pt x="6375" y="4490"/>
                </a:cubicBezTo>
                <a:cubicBezTo>
                  <a:pt x="6391" y="4490"/>
                  <a:pt x="6408" y="4490"/>
                  <a:pt x="6424" y="4490"/>
                </a:cubicBezTo>
              </a:path>
              <a:path w="2531" h="943">
                <a:moveTo>
                  <a:pt x="6176" y="4911"/>
                </a:moveTo>
                <a:cubicBezTo>
                  <a:pt x="6278" y="4911"/>
                  <a:pt x="6334" y="4907"/>
                  <a:pt x="6424" y="4862"/>
                </a:cubicBezTo>
                <a:cubicBezTo>
                  <a:pt x="6441" y="4854"/>
                  <a:pt x="6457" y="4845"/>
                  <a:pt x="6474" y="4837"/>
                </a:cubicBezTo>
              </a:path>
              <a:path w="2531" h="943">
                <a:moveTo>
                  <a:pt x="6846" y="4266"/>
                </a:moveTo>
                <a:cubicBezTo>
                  <a:pt x="7053" y="4266"/>
                  <a:pt x="7152" y="4357"/>
                  <a:pt x="7144" y="4242"/>
                </a:cubicBezTo>
              </a:path>
              <a:path w="2531" h="943">
                <a:moveTo>
                  <a:pt x="6796" y="4291"/>
                </a:moveTo>
                <a:cubicBezTo>
                  <a:pt x="6712" y="4381"/>
                  <a:pt x="6624" y="4437"/>
                  <a:pt x="6697" y="4564"/>
                </a:cubicBezTo>
                <a:cubicBezTo>
                  <a:pt x="6718" y="4601"/>
                  <a:pt x="6835" y="4603"/>
                  <a:pt x="6871" y="4589"/>
                </a:cubicBezTo>
                <a:cubicBezTo>
                  <a:pt x="6927" y="4568"/>
                  <a:pt x="6989" y="4554"/>
                  <a:pt x="7045" y="4614"/>
                </a:cubicBezTo>
                <a:cubicBezTo>
                  <a:pt x="7080" y="4652"/>
                  <a:pt x="7130" y="4761"/>
                  <a:pt x="7119" y="4812"/>
                </a:cubicBezTo>
                <a:cubicBezTo>
                  <a:pt x="7102" y="4887"/>
                  <a:pt x="7065" y="4932"/>
                  <a:pt x="6995" y="4936"/>
                </a:cubicBezTo>
                <a:cubicBezTo>
                  <a:pt x="6906" y="4941"/>
                  <a:pt x="6802" y="4953"/>
                  <a:pt x="6722" y="4911"/>
                </a:cubicBezTo>
                <a:cubicBezTo>
                  <a:pt x="6714" y="4903"/>
                  <a:pt x="6705" y="4895"/>
                  <a:pt x="6697" y="4887"/>
                </a:cubicBezTo>
              </a:path>
              <a:path w="2531" h="943">
                <a:moveTo>
                  <a:pt x="7218" y="4986"/>
                </a:moveTo>
                <a:cubicBezTo>
                  <a:pt x="7213" y="5066"/>
                  <a:pt x="7221" y="5149"/>
                  <a:pt x="7169" y="5184"/>
                </a:cubicBezTo>
              </a:path>
              <a:path w="2531" h="943">
                <a:moveTo>
                  <a:pt x="7615" y="4316"/>
                </a:moveTo>
                <a:cubicBezTo>
                  <a:pt x="7634" y="4429"/>
                  <a:pt x="7640" y="4524"/>
                  <a:pt x="7640" y="4638"/>
                </a:cubicBezTo>
              </a:path>
              <a:path w="2531" h="943">
                <a:moveTo>
                  <a:pt x="7491" y="4465"/>
                </a:moveTo>
                <a:cubicBezTo>
                  <a:pt x="7587" y="4471"/>
                  <a:pt x="7721" y="4522"/>
                  <a:pt x="7813" y="4514"/>
                </a:cubicBezTo>
                <a:cubicBezTo>
                  <a:pt x="7830" y="4506"/>
                  <a:pt x="7846" y="4498"/>
                  <a:pt x="7863" y="4490"/>
                </a:cubicBezTo>
              </a:path>
              <a:path w="2531" h="943">
                <a:moveTo>
                  <a:pt x="7491" y="4762"/>
                </a:moveTo>
                <a:cubicBezTo>
                  <a:pt x="7633" y="4783"/>
                  <a:pt x="7704" y="4777"/>
                  <a:pt x="7838" y="4762"/>
                </a:cubicBezTo>
              </a:path>
              <a:path w="2531" h="943">
                <a:moveTo>
                  <a:pt x="8210" y="4242"/>
                </a:moveTo>
                <a:cubicBezTo>
                  <a:pt x="8233" y="4332"/>
                  <a:pt x="8188" y="4393"/>
                  <a:pt x="8161" y="4490"/>
                </a:cubicBezTo>
                <a:cubicBezTo>
                  <a:pt x="8117" y="4647"/>
                  <a:pt x="8067" y="4683"/>
                  <a:pt x="8210" y="4787"/>
                </a:cubicBezTo>
                <a:cubicBezTo>
                  <a:pt x="8278" y="4837"/>
                  <a:pt x="8350" y="4809"/>
                  <a:pt x="8409" y="4762"/>
                </a:cubicBezTo>
                <a:cubicBezTo>
                  <a:pt x="8447" y="4732"/>
                  <a:pt x="8487" y="4637"/>
                  <a:pt x="8458" y="4589"/>
                </a:cubicBezTo>
                <a:cubicBezTo>
                  <a:pt x="8450" y="4589"/>
                  <a:pt x="8442" y="4589"/>
                  <a:pt x="8434" y="4589"/>
                </a:cubicBezTo>
                <a:cubicBezTo>
                  <a:pt x="8360" y="4610"/>
                  <a:pt x="8328" y="4661"/>
                  <a:pt x="8285" y="4738"/>
                </a:cubicBezTo>
                <a:cubicBezTo>
                  <a:pt x="8242" y="4815"/>
                  <a:pt x="8250" y="4894"/>
                  <a:pt x="8334" y="4936"/>
                </a:cubicBezTo>
                <a:cubicBezTo>
                  <a:pt x="8342" y="4936"/>
                  <a:pt x="8351" y="4936"/>
                  <a:pt x="8359" y="4936"/>
                </a:cubicBezTo>
              </a:path>
              <a:path w="2531" h="943">
                <a:moveTo>
                  <a:pt x="8657" y="4837"/>
                </a:moveTo>
                <a:cubicBezTo>
                  <a:pt x="8628" y="4960"/>
                  <a:pt x="8613" y="5013"/>
                  <a:pt x="8533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7" name="Ink 11"/>
          <p:cNvSpPr/>
          <p:nvPr/>
        </p:nvSpPr>
        <p:spPr>
          <a:xfrm>
            <a:off x="3616200" y="1527120"/>
            <a:ext cx="822600" cy="384120"/>
          </a:xfrm>
          <a:custGeom>
            <a:avLst/>
            <a:gdLst/>
            <a:ahLst/>
            <a:rect l="l" t="t" r="r" b="b"/>
            <a:pathLst>
              <a:path w="2283" h="1067">
                <a:moveTo>
                  <a:pt x="12328" y="4986"/>
                </a:moveTo>
                <a:cubicBezTo>
                  <a:pt x="12324" y="5080"/>
                  <a:pt x="12366" y="5268"/>
                  <a:pt x="12278" y="5234"/>
                </a:cubicBezTo>
                <a:cubicBezTo>
                  <a:pt x="12270" y="5226"/>
                  <a:pt x="12262" y="5217"/>
                  <a:pt x="12254" y="5209"/>
                </a:cubicBezTo>
              </a:path>
              <a:path w="2283" h="1067">
                <a:moveTo>
                  <a:pt x="11559" y="4266"/>
                </a:moveTo>
                <a:cubicBezTo>
                  <a:pt x="11559" y="4351"/>
                  <a:pt x="11576" y="4445"/>
                  <a:pt x="11534" y="4514"/>
                </a:cubicBezTo>
              </a:path>
              <a:path w="2283" h="1067">
                <a:moveTo>
                  <a:pt x="11410" y="4415"/>
                </a:moveTo>
                <a:cubicBezTo>
                  <a:pt x="11493" y="4415"/>
                  <a:pt x="11575" y="4415"/>
                  <a:pt x="11658" y="4415"/>
                </a:cubicBezTo>
              </a:path>
              <a:path w="2283" h="1067">
                <a:moveTo>
                  <a:pt x="11336" y="4738"/>
                </a:moveTo>
                <a:cubicBezTo>
                  <a:pt x="11456" y="4738"/>
                  <a:pt x="11571" y="4747"/>
                  <a:pt x="11683" y="4713"/>
                </a:cubicBezTo>
              </a:path>
              <a:path w="2283" h="1067">
                <a:moveTo>
                  <a:pt x="11857" y="4291"/>
                </a:moveTo>
                <a:cubicBezTo>
                  <a:pt x="11967" y="4291"/>
                  <a:pt x="11990" y="4318"/>
                  <a:pt x="12030" y="4266"/>
                </a:cubicBezTo>
              </a:path>
              <a:path w="2283" h="1067">
                <a:moveTo>
                  <a:pt x="11757" y="4366"/>
                </a:moveTo>
                <a:cubicBezTo>
                  <a:pt x="11796" y="4529"/>
                  <a:pt x="11786" y="4508"/>
                  <a:pt x="11906" y="4589"/>
                </a:cubicBezTo>
                <a:cubicBezTo>
                  <a:pt x="12041" y="4681"/>
                  <a:pt x="12066" y="4700"/>
                  <a:pt x="11956" y="4787"/>
                </a:cubicBezTo>
                <a:cubicBezTo>
                  <a:pt x="11910" y="4823"/>
                  <a:pt x="11795" y="4820"/>
                  <a:pt x="11757" y="4762"/>
                </a:cubicBezTo>
                <a:cubicBezTo>
                  <a:pt x="11757" y="4713"/>
                  <a:pt x="11757" y="4696"/>
                  <a:pt x="11757" y="4663"/>
                </a:cubicBezTo>
              </a:path>
              <a:path w="2283" h="1067">
                <a:moveTo>
                  <a:pt x="12129" y="4514"/>
                </a:moveTo>
                <a:cubicBezTo>
                  <a:pt x="12089" y="4595"/>
                  <a:pt x="12073" y="4608"/>
                  <a:pt x="12080" y="4663"/>
                </a:cubicBezTo>
                <a:cubicBezTo>
                  <a:pt x="12146" y="4690"/>
                  <a:pt x="12200" y="4643"/>
                  <a:pt x="12229" y="4564"/>
                </a:cubicBezTo>
                <a:cubicBezTo>
                  <a:pt x="12247" y="4513"/>
                  <a:pt x="12285" y="4384"/>
                  <a:pt x="12229" y="4341"/>
                </a:cubicBezTo>
                <a:cubicBezTo>
                  <a:pt x="12177" y="4301"/>
                  <a:pt x="12115" y="4316"/>
                  <a:pt x="12055" y="4316"/>
                </a:cubicBezTo>
              </a:path>
              <a:path w="2283" h="1067">
                <a:moveTo>
                  <a:pt x="11038" y="4986"/>
                </a:moveTo>
                <a:cubicBezTo>
                  <a:pt x="11032" y="5092"/>
                  <a:pt x="11005" y="5148"/>
                  <a:pt x="10988" y="5234"/>
                </a:cubicBezTo>
                <a:cubicBezTo>
                  <a:pt x="10988" y="5278"/>
                  <a:pt x="10991" y="5291"/>
                  <a:pt x="10964" y="5308"/>
                </a:cubicBezTo>
              </a:path>
              <a:path w="2283" h="1067">
                <a:moveTo>
                  <a:pt x="10319" y="4415"/>
                </a:moveTo>
                <a:cubicBezTo>
                  <a:pt x="10374" y="4371"/>
                  <a:pt x="10421" y="4344"/>
                  <a:pt x="10492" y="4341"/>
                </a:cubicBezTo>
                <a:cubicBezTo>
                  <a:pt x="10560" y="4341"/>
                  <a:pt x="10579" y="4338"/>
                  <a:pt x="10616" y="4366"/>
                </a:cubicBezTo>
                <a:cubicBezTo>
                  <a:pt x="10607" y="4493"/>
                  <a:pt x="10579" y="4551"/>
                  <a:pt x="10517" y="4663"/>
                </a:cubicBezTo>
                <a:cubicBezTo>
                  <a:pt x="10492" y="4709"/>
                  <a:pt x="10430" y="4791"/>
                  <a:pt x="10418" y="4837"/>
                </a:cubicBezTo>
                <a:cubicBezTo>
                  <a:pt x="10418" y="4854"/>
                  <a:pt x="10418" y="4870"/>
                  <a:pt x="10418" y="4887"/>
                </a:cubicBezTo>
                <a:cubicBezTo>
                  <a:pt x="10494" y="4879"/>
                  <a:pt x="10531" y="4863"/>
                  <a:pt x="10592" y="4812"/>
                </a:cubicBezTo>
                <a:cubicBezTo>
                  <a:pt x="10608" y="4795"/>
                  <a:pt x="10625" y="4779"/>
                  <a:pt x="10641" y="4762"/>
                </a:cubicBezTo>
              </a:path>
              <a:path w="2283" h="1067">
                <a:moveTo>
                  <a:pt x="10840" y="4316"/>
                </a:moveTo>
                <a:cubicBezTo>
                  <a:pt x="10917" y="4290"/>
                  <a:pt x="10945" y="4280"/>
                  <a:pt x="10988" y="4242"/>
                </a:cubicBezTo>
              </a:path>
              <a:path w="2283" h="1067">
                <a:moveTo>
                  <a:pt x="10765" y="4341"/>
                </a:moveTo>
                <a:cubicBezTo>
                  <a:pt x="10709" y="4455"/>
                  <a:pt x="10710" y="4460"/>
                  <a:pt x="10765" y="4564"/>
                </a:cubicBezTo>
                <a:cubicBezTo>
                  <a:pt x="10801" y="4632"/>
                  <a:pt x="10880" y="4644"/>
                  <a:pt x="10864" y="4738"/>
                </a:cubicBezTo>
                <a:cubicBezTo>
                  <a:pt x="10843" y="4861"/>
                  <a:pt x="10785" y="4832"/>
                  <a:pt x="10691" y="4862"/>
                </a:cubicBezTo>
                <a:cubicBezTo>
                  <a:pt x="10643" y="4886"/>
                  <a:pt x="10629" y="4894"/>
                  <a:pt x="10592" y="4887"/>
                </a:cubicBezTo>
              </a:path>
              <a:path w="2283" h="1067">
                <a:moveTo>
                  <a:pt x="10170" y="4366"/>
                </a:moveTo>
                <a:cubicBezTo>
                  <a:pt x="10209" y="4480"/>
                  <a:pt x="10225" y="4494"/>
                  <a:pt x="10220" y="4564"/>
                </a:cubicBezTo>
              </a:path>
              <a:path w="2283" h="1067">
                <a:moveTo>
                  <a:pt x="10120" y="4564"/>
                </a:moveTo>
                <a:cubicBezTo>
                  <a:pt x="10219" y="4584"/>
                  <a:pt x="10235" y="4592"/>
                  <a:pt x="10294" y="4589"/>
                </a:cubicBezTo>
              </a:path>
              <a:path w="2283" h="1067">
                <a:moveTo>
                  <a:pt x="10046" y="4837"/>
                </a:moveTo>
                <a:cubicBezTo>
                  <a:pt x="10137" y="4837"/>
                  <a:pt x="10209" y="4832"/>
                  <a:pt x="10294" y="4812"/>
                </a:cubicBezTo>
                <a:cubicBezTo>
                  <a:pt x="10302" y="4812"/>
                  <a:pt x="10311" y="4812"/>
                  <a:pt x="10319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8" name="Ink 12"/>
          <p:cNvSpPr/>
          <p:nvPr/>
        </p:nvSpPr>
        <p:spPr>
          <a:xfrm>
            <a:off x="4572000" y="1465200"/>
            <a:ext cx="536400" cy="384120"/>
          </a:xfrm>
          <a:custGeom>
            <a:avLst/>
            <a:gdLst/>
            <a:ahLst/>
            <a:rect l="l" t="t" r="r" b="b"/>
            <a:pathLst>
              <a:path w="1489" h="1068">
                <a:moveTo>
                  <a:pt x="14188" y="4738"/>
                </a:moveTo>
                <a:cubicBezTo>
                  <a:pt x="14166" y="4819"/>
                  <a:pt x="14131" y="4906"/>
                  <a:pt x="14114" y="4986"/>
                </a:cubicBezTo>
                <a:cubicBezTo>
                  <a:pt x="14102" y="5044"/>
                  <a:pt x="14094" y="5084"/>
                  <a:pt x="14064" y="5135"/>
                </a:cubicBezTo>
              </a:path>
              <a:path w="1489" h="1068">
                <a:moveTo>
                  <a:pt x="12874" y="4068"/>
                </a:moveTo>
                <a:cubicBezTo>
                  <a:pt x="12893" y="4161"/>
                  <a:pt x="12929" y="4251"/>
                  <a:pt x="12948" y="4341"/>
                </a:cubicBezTo>
                <a:cubicBezTo>
                  <a:pt x="12959" y="4394"/>
                  <a:pt x="12947" y="4426"/>
                  <a:pt x="12923" y="4465"/>
                </a:cubicBezTo>
              </a:path>
              <a:path w="1489" h="1068">
                <a:moveTo>
                  <a:pt x="12725" y="4316"/>
                </a:moveTo>
                <a:cubicBezTo>
                  <a:pt x="12808" y="4339"/>
                  <a:pt x="12893" y="4320"/>
                  <a:pt x="12973" y="4341"/>
                </a:cubicBezTo>
                <a:cubicBezTo>
                  <a:pt x="13023" y="4354"/>
                  <a:pt x="13044" y="4366"/>
                  <a:pt x="13097" y="4366"/>
                </a:cubicBezTo>
              </a:path>
              <a:path w="1489" h="1068">
                <a:moveTo>
                  <a:pt x="12700" y="4614"/>
                </a:moveTo>
                <a:cubicBezTo>
                  <a:pt x="12793" y="4651"/>
                  <a:pt x="12843" y="4663"/>
                  <a:pt x="12948" y="4663"/>
                </a:cubicBezTo>
                <a:cubicBezTo>
                  <a:pt x="12956" y="4663"/>
                  <a:pt x="12965" y="4663"/>
                  <a:pt x="12973" y="4663"/>
                </a:cubicBezTo>
              </a:path>
              <a:path w="1489" h="1068">
                <a:moveTo>
                  <a:pt x="13171" y="4217"/>
                </a:moveTo>
                <a:cubicBezTo>
                  <a:pt x="13262" y="4201"/>
                  <a:pt x="13357" y="4182"/>
                  <a:pt x="13444" y="4167"/>
                </a:cubicBezTo>
                <a:cubicBezTo>
                  <a:pt x="13489" y="4167"/>
                  <a:pt x="13502" y="4164"/>
                  <a:pt x="13519" y="4192"/>
                </a:cubicBezTo>
                <a:cubicBezTo>
                  <a:pt x="13482" y="4265"/>
                  <a:pt x="13447" y="4339"/>
                  <a:pt x="13419" y="4415"/>
                </a:cubicBezTo>
                <a:cubicBezTo>
                  <a:pt x="13385" y="4506"/>
                  <a:pt x="13339" y="4629"/>
                  <a:pt x="13320" y="4713"/>
                </a:cubicBezTo>
                <a:cubicBezTo>
                  <a:pt x="13313" y="4743"/>
                  <a:pt x="13322" y="4815"/>
                  <a:pt x="13295" y="4762"/>
                </a:cubicBezTo>
              </a:path>
              <a:path w="1489" h="1068">
                <a:moveTo>
                  <a:pt x="13643" y="4217"/>
                </a:moveTo>
                <a:cubicBezTo>
                  <a:pt x="13726" y="4217"/>
                  <a:pt x="13808" y="4217"/>
                  <a:pt x="13891" y="4217"/>
                </a:cubicBezTo>
              </a:path>
              <a:path w="1489" h="1068">
                <a:moveTo>
                  <a:pt x="13593" y="4266"/>
                </a:moveTo>
                <a:cubicBezTo>
                  <a:pt x="13560" y="4419"/>
                  <a:pt x="13563" y="4393"/>
                  <a:pt x="13667" y="4490"/>
                </a:cubicBezTo>
                <a:cubicBezTo>
                  <a:pt x="13724" y="4544"/>
                  <a:pt x="13798" y="4606"/>
                  <a:pt x="13816" y="4688"/>
                </a:cubicBezTo>
                <a:cubicBezTo>
                  <a:pt x="13837" y="4785"/>
                  <a:pt x="13731" y="4784"/>
                  <a:pt x="13667" y="4787"/>
                </a:cubicBezTo>
                <a:cubicBezTo>
                  <a:pt x="13608" y="4790"/>
                  <a:pt x="13555" y="4768"/>
                  <a:pt x="13494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59" name="Ink 13"/>
          <p:cNvSpPr/>
          <p:nvPr/>
        </p:nvSpPr>
        <p:spPr>
          <a:xfrm>
            <a:off x="5241960" y="1401840"/>
            <a:ext cx="642960" cy="322200"/>
          </a:xfrm>
          <a:custGeom>
            <a:avLst/>
            <a:gdLst/>
            <a:ahLst/>
            <a:rect l="l" t="t" r="r" b="b"/>
            <a:pathLst>
              <a:path w="1787" h="894">
                <a:moveTo>
                  <a:pt x="14833" y="3894"/>
                </a:moveTo>
                <a:cubicBezTo>
                  <a:pt x="14842" y="3964"/>
                  <a:pt x="14858" y="4019"/>
                  <a:pt x="14858" y="4093"/>
                </a:cubicBezTo>
                <a:cubicBezTo>
                  <a:pt x="14858" y="4154"/>
                  <a:pt x="14858" y="4237"/>
                  <a:pt x="14833" y="4291"/>
                </a:cubicBezTo>
                <a:cubicBezTo>
                  <a:pt x="14808" y="4316"/>
                  <a:pt x="14800" y="4324"/>
                  <a:pt x="14784" y="4341"/>
                </a:cubicBezTo>
              </a:path>
              <a:path w="1787" h="894">
                <a:moveTo>
                  <a:pt x="14635" y="4291"/>
                </a:moveTo>
                <a:cubicBezTo>
                  <a:pt x="14754" y="4291"/>
                  <a:pt x="14825" y="4302"/>
                  <a:pt x="14932" y="4316"/>
                </a:cubicBezTo>
              </a:path>
              <a:path w="1787" h="894">
                <a:moveTo>
                  <a:pt x="14560" y="4539"/>
                </a:moveTo>
                <a:cubicBezTo>
                  <a:pt x="14665" y="4554"/>
                  <a:pt x="14725" y="4539"/>
                  <a:pt x="14833" y="4539"/>
                </a:cubicBezTo>
                <a:cubicBezTo>
                  <a:pt x="14850" y="4539"/>
                  <a:pt x="14866" y="4539"/>
                  <a:pt x="14883" y="4539"/>
                </a:cubicBezTo>
              </a:path>
              <a:path w="1787" h="894">
                <a:moveTo>
                  <a:pt x="15280" y="4043"/>
                </a:moveTo>
                <a:cubicBezTo>
                  <a:pt x="15262" y="4194"/>
                  <a:pt x="15235" y="4341"/>
                  <a:pt x="15230" y="4490"/>
                </a:cubicBezTo>
                <a:cubicBezTo>
                  <a:pt x="15227" y="4577"/>
                  <a:pt x="15210" y="4743"/>
                  <a:pt x="15255" y="4787"/>
                </a:cubicBezTo>
              </a:path>
              <a:path w="1787" h="894">
                <a:moveTo>
                  <a:pt x="15627" y="4217"/>
                </a:moveTo>
                <a:cubicBezTo>
                  <a:pt x="15718" y="4217"/>
                  <a:pt x="15849" y="4238"/>
                  <a:pt x="15925" y="4192"/>
                </a:cubicBezTo>
              </a:path>
              <a:path w="1787" h="894">
                <a:moveTo>
                  <a:pt x="15528" y="4242"/>
                </a:moveTo>
                <a:cubicBezTo>
                  <a:pt x="15510" y="4262"/>
                  <a:pt x="15327" y="4424"/>
                  <a:pt x="15429" y="4490"/>
                </a:cubicBezTo>
                <a:cubicBezTo>
                  <a:pt x="15486" y="4527"/>
                  <a:pt x="15561" y="4465"/>
                  <a:pt x="15602" y="4440"/>
                </a:cubicBezTo>
                <a:cubicBezTo>
                  <a:pt x="15653" y="4410"/>
                  <a:pt x="15717" y="4336"/>
                  <a:pt x="15776" y="4390"/>
                </a:cubicBezTo>
                <a:cubicBezTo>
                  <a:pt x="15812" y="4424"/>
                  <a:pt x="15814" y="4544"/>
                  <a:pt x="15801" y="4589"/>
                </a:cubicBezTo>
                <a:cubicBezTo>
                  <a:pt x="15781" y="4660"/>
                  <a:pt x="15701" y="4693"/>
                  <a:pt x="15652" y="4713"/>
                </a:cubicBezTo>
                <a:cubicBezTo>
                  <a:pt x="15594" y="4737"/>
                  <a:pt x="15566" y="4738"/>
                  <a:pt x="15503" y="4738"/>
                </a:cubicBezTo>
                <a:cubicBezTo>
                  <a:pt x="15470" y="4640"/>
                  <a:pt x="15482" y="4606"/>
                  <a:pt x="15528" y="4514"/>
                </a:cubicBezTo>
              </a:path>
              <a:path w="1787" h="894">
                <a:moveTo>
                  <a:pt x="16024" y="4366"/>
                </a:moveTo>
                <a:cubicBezTo>
                  <a:pt x="15974" y="4473"/>
                  <a:pt x="15835" y="4656"/>
                  <a:pt x="15949" y="4688"/>
                </a:cubicBezTo>
                <a:cubicBezTo>
                  <a:pt x="16004" y="4703"/>
                  <a:pt x="16126" y="4697"/>
                  <a:pt x="16173" y="4663"/>
                </a:cubicBezTo>
                <a:cubicBezTo>
                  <a:pt x="16245" y="4611"/>
                  <a:pt x="16286" y="4515"/>
                  <a:pt x="16321" y="4440"/>
                </a:cubicBezTo>
                <a:cubicBezTo>
                  <a:pt x="16359" y="4361"/>
                  <a:pt x="16335" y="4274"/>
                  <a:pt x="16247" y="4266"/>
                </a:cubicBezTo>
                <a:cubicBezTo>
                  <a:pt x="16171" y="4266"/>
                  <a:pt x="16145" y="4267"/>
                  <a:pt x="16098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0" name="Ink 14"/>
          <p:cNvSpPr/>
          <p:nvPr/>
        </p:nvSpPr>
        <p:spPr>
          <a:xfrm>
            <a:off x="411120" y="2295360"/>
            <a:ext cx="652680" cy="517680"/>
          </a:xfrm>
          <a:custGeom>
            <a:avLst/>
            <a:gdLst/>
            <a:ahLst/>
            <a:rect l="l" t="t" r="r" b="b"/>
            <a:pathLst>
              <a:path w="1812" h="1439">
                <a:moveTo>
                  <a:pt x="1141" y="6995"/>
                </a:moveTo>
                <a:cubicBezTo>
                  <a:pt x="1210" y="7051"/>
                  <a:pt x="1250" y="7045"/>
                  <a:pt x="1339" y="7045"/>
                </a:cubicBezTo>
                <a:cubicBezTo>
                  <a:pt x="1430" y="7045"/>
                  <a:pt x="1521" y="7045"/>
                  <a:pt x="1612" y="7045"/>
                </a:cubicBezTo>
              </a:path>
              <a:path w="1812" h="1439">
                <a:moveTo>
                  <a:pt x="2108" y="6548"/>
                </a:moveTo>
                <a:cubicBezTo>
                  <a:pt x="2069" y="6609"/>
                  <a:pt x="2056" y="6661"/>
                  <a:pt x="2034" y="6722"/>
                </a:cubicBezTo>
                <a:cubicBezTo>
                  <a:pt x="2011" y="6788"/>
                  <a:pt x="1987" y="6850"/>
                  <a:pt x="1984" y="6921"/>
                </a:cubicBezTo>
                <a:cubicBezTo>
                  <a:pt x="1980" y="7014"/>
                  <a:pt x="1996" y="7080"/>
                  <a:pt x="2009" y="7169"/>
                </a:cubicBezTo>
                <a:cubicBezTo>
                  <a:pt x="2017" y="7221"/>
                  <a:pt x="2034" y="7281"/>
                  <a:pt x="2084" y="7317"/>
                </a:cubicBezTo>
                <a:cubicBezTo>
                  <a:pt x="2146" y="7362"/>
                  <a:pt x="2244" y="7352"/>
                  <a:pt x="2307" y="7317"/>
                </a:cubicBezTo>
                <a:cubicBezTo>
                  <a:pt x="2365" y="7285"/>
                  <a:pt x="2442" y="7183"/>
                  <a:pt x="2456" y="7119"/>
                </a:cubicBezTo>
                <a:cubicBezTo>
                  <a:pt x="2456" y="7051"/>
                  <a:pt x="2459" y="7032"/>
                  <a:pt x="2431" y="6995"/>
                </a:cubicBezTo>
                <a:cubicBezTo>
                  <a:pt x="2379" y="6983"/>
                  <a:pt x="2280" y="6968"/>
                  <a:pt x="2232" y="7020"/>
                </a:cubicBezTo>
                <a:cubicBezTo>
                  <a:pt x="2200" y="7054"/>
                  <a:pt x="2130" y="7198"/>
                  <a:pt x="2133" y="7243"/>
                </a:cubicBezTo>
                <a:cubicBezTo>
                  <a:pt x="2136" y="7283"/>
                  <a:pt x="2176" y="7334"/>
                  <a:pt x="2208" y="7367"/>
                </a:cubicBezTo>
                <a:cubicBezTo>
                  <a:pt x="2216" y="7375"/>
                  <a:pt x="2224" y="7384"/>
                  <a:pt x="2232" y="7392"/>
                </a:cubicBezTo>
              </a:path>
              <a:path w="1812" h="1439">
                <a:moveTo>
                  <a:pt x="2952" y="6375"/>
                </a:moveTo>
                <a:cubicBezTo>
                  <a:pt x="2952" y="6457"/>
                  <a:pt x="2938" y="6519"/>
                  <a:pt x="2927" y="6598"/>
                </a:cubicBezTo>
                <a:cubicBezTo>
                  <a:pt x="2915" y="6685"/>
                  <a:pt x="2910" y="6786"/>
                  <a:pt x="2902" y="6871"/>
                </a:cubicBezTo>
                <a:cubicBezTo>
                  <a:pt x="2882" y="7080"/>
                  <a:pt x="2895" y="7315"/>
                  <a:pt x="2927" y="7516"/>
                </a:cubicBezTo>
                <a:cubicBezTo>
                  <a:pt x="2934" y="7562"/>
                  <a:pt x="2927" y="7618"/>
                  <a:pt x="2927" y="7665"/>
                </a:cubicBezTo>
                <a:cubicBezTo>
                  <a:pt x="2891" y="7665"/>
                  <a:pt x="2789" y="7655"/>
                  <a:pt x="2729" y="7665"/>
                </a:cubicBezTo>
                <a:cubicBezTo>
                  <a:pt x="2638" y="7680"/>
                  <a:pt x="2547" y="7675"/>
                  <a:pt x="2456" y="7689"/>
                </a:cubicBezTo>
                <a:cubicBezTo>
                  <a:pt x="2309" y="7712"/>
                  <a:pt x="2158" y="7734"/>
                  <a:pt x="2009" y="7739"/>
                </a:cubicBezTo>
                <a:cubicBezTo>
                  <a:pt x="1908" y="7742"/>
                  <a:pt x="1786" y="7745"/>
                  <a:pt x="1687" y="7764"/>
                </a:cubicBezTo>
                <a:cubicBezTo>
                  <a:pt x="1611" y="7778"/>
                  <a:pt x="1464" y="7776"/>
                  <a:pt x="1414" y="7789"/>
                </a:cubicBezTo>
                <a:cubicBezTo>
                  <a:pt x="1406" y="7797"/>
                  <a:pt x="1397" y="7805"/>
                  <a:pt x="1389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1" name="Ink 15"/>
          <p:cNvSpPr/>
          <p:nvPr/>
        </p:nvSpPr>
        <p:spPr>
          <a:xfrm>
            <a:off x="1465200" y="2340000"/>
            <a:ext cx="34920" cy="366840"/>
          </a:xfrm>
          <a:custGeom>
            <a:avLst/>
            <a:gdLst/>
            <a:ahLst/>
            <a:rect l="l" t="t" r="r" b="b"/>
            <a:pathLst>
              <a:path w="100" h="1018">
                <a:moveTo>
                  <a:pt x="4167" y="6499"/>
                </a:moveTo>
                <a:cubicBezTo>
                  <a:pt x="4138" y="6575"/>
                  <a:pt x="4142" y="6639"/>
                  <a:pt x="4142" y="6722"/>
                </a:cubicBezTo>
                <a:cubicBezTo>
                  <a:pt x="4142" y="6850"/>
                  <a:pt x="4131" y="6967"/>
                  <a:pt x="4118" y="7094"/>
                </a:cubicBezTo>
                <a:cubicBezTo>
                  <a:pt x="4110" y="7171"/>
                  <a:pt x="4093" y="7238"/>
                  <a:pt x="4093" y="7317"/>
                </a:cubicBezTo>
                <a:cubicBezTo>
                  <a:pt x="4093" y="7380"/>
                  <a:pt x="4068" y="7420"/>
                  <a:pt x="4068" y="7491"/>
                </a:cubicBezTo>
                <a:cubicBezTo>
                  <a:pt x="4068" y="7499"/>
                  <a:pt x="4068" y="7508"/>
                  <a:pt x="4068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2" name="Ink 16"/>
          <p:cNvSpPr/>
          <p:nvPr/>
        </p:nvSpPr>
        <p:spPr>
          <a:xfrm>
            <a:off x="2133720" y="2286000"/>
            <a:ext cx="268200" cy="393840"/>
          </a:xfrm>
          <a:custGeom>
            <a:avLst/>
            <a:gdLst/>
            <a:ahLst/>
            <a:rect l="l" t="t" r="r" b="b"/>
            <a:pathLst>
              <a:path w="745" h="1092">
                <a:moveTo>
                  <a:pt x="6226" y="6474"/>
                </a:moveTo>
                <a:cubicBezTo>
                  <a:pt x="6180" y="6520"/>
                  <a:pt x="6158" y="6569"/>
                  <a:pt x="6127" y="6623"/>
                </a:cubicBezTo>
                <a:cubicBezTo>
                  <a:pt x="6072" y="6720"/>
                  <a:pt x="5999" y="6835"/>
                  <a:pt x="5978" y="6945"/>
                </a:cubicBezTo>
                <a:cubicBezTo>
                  <a:pt x="5964" y="7020"/>
                  <a:pt x="5932" y="7090"/>
                  <a:pt x="5928" y="7169"/>
                </a:cubicBezTo>
                <a:cubicBezTo>
                  <a:pt x="5924" y="7251"/>
                  <a:pt x="5953" y="7297"/>
                  <a:pt x="6003" y="7342"/>
                </a:cubicBezTo>
                <a:cubicBezTo>
                  <a:pt x="6059" y="7393"/>
                  <a:pt x="6084" y="7395"/>
                  <a:pt x="6152" y="7417"/>
                </a:cubicBezTo>
                <a:cubicBezTo>
                  <a:pt x="6241" y="7446"/>
                  <a:pt x="6292" y="7409"/>
                  <a:pt x="6375" y="7367"/>
                </a:cubicBezTo>
                <a:cubicBezTo>
                  <a:pt x="6449" y="7329"/>
                  <a:pt x="6503" y="7261"/>
                  <a:pt x="6548" y="7193"/>
                </a:cubicBezTo>
                <a:cubicBezTo>
                  <a:pt x="6586" y="7136"/>
                  <a:pt x="6637" y="7036"/>
                  <a:pt x="6648" y="6970"/>
                </a:cubicBezTo>
                <a:cubicBezTo>
                  <a:pt x="6664" y="6874"/>
                  <a:pt x="6662" y="6814"/>
                  <a:pt x="6648" y="6722"/>
                </a:cubicBezTo>
                <a:cubicBezTo>
                  <a:pt x="6635" y="6637"/>
                  <a:pt x="6629" y="6589"/>
                  <a:pt x="6573" y="6524"/>
                </a:cubicBezTo>
                <a:cubicBezTo>
                  <a:pt x="6529" y="6473"/>
                  <a:pt x="6478" y="6461"/>
                  <a:pt x="6424" y="6424"/>
                </a:cubicBezTo>
                <a:cubicBezTo>
                  <a:pt x="6381" y="6395"/>
                  <a:pt x="6298" y="6360"/>
                  <a:pt x="6276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3" name="Ink 17"/>
          <p:cNvSpPr/>
          <p:nvPr/>
        </p:nvSpPr>
        <p:spPr>
          <a:xfrm>
            <a:off x="2857680" y="2276640"/>
            <a:ext cx="509400" cy="376200"/>
          </a:xfrm>
          <a:custGeom>
            <a:avLst/>
            <a:gdLst/>
            <a:ahLst/>
            <a:rect l="l" t="t" r="r" b="b"/>
            <a:pathLst>
              <a:path w="1414" h="1043">
                <a:moveTo>
                  <a:pt x="7938" y="6796"/>
                </a:moveTo>
                <a:cubicBezTo>
                  <a:pt x="8078" y="6796"/>
                  <a:pt x="8219" y="6796"/>
                  <a:pt x="8359" y="6796"/>
                </a:cubicBezTo>
              </a:path>
              <a:path w="1414" h="1043">
                <a:moveTo>
                  <a:pt x="8806" y="6375"/>
                </a:moveTo>
                <a:cubicBezTo>
                  <a:pt x="8806" y="6491"/>
                  <a:pt x="8845" y="6635"/>
                  <a:pt x="8830" y="6747"/>
                </a:cubicBezTo>
                <a:cubicBezTo>
                  <a:pt x="8815" y="6863"/>
                  <a:pt x="8806" y="6973"/>
                  <a:pt x="8806" y="7094"/>
                </a:cubicBezTo>
                <a:cubicBezTo>
                  <a:pt x="8806" y="7185"/>
                  <a:pt x="8806" y="7276"/>
                  <a:pt x="8806" y="7367"/>
                </a:cubicBezTo>
                <a:cubicBezTo>
                  <a:pt x="8837" y="7327"/>
                  <a:pt x="8857" y="7289"/>
                  <a:pt x="8880" y="7243"/>
                </a:cubicBezTo>
              </a:path>
              <a:path w="1414" h="1043">
                <a:moveTo>
                  <a:pt x="9327" y="6325"/>
                </a:moveTo>
                <a:cubicBezTo>
                  <a:pt x="9327" y="6439"/>
                  <a:pt x="9306" y="6537"/>
                  <a:pt x="9302" y="6648"/>
                </a:cubicBezTo>
                <a:cubicBezTo>
                  <a:pt x="9294" y="6855"/>
                  <a:pt x="9294" y="7070"/>
                  <a:pt x="9327" y="7268"/>
                </a:cubicBezTo>
                <a:cubicBezTo>
                  <a:pt x="9327" y="7319"/>
                  <a:pt x="9328" y="7337"/>
                  <a:pt x="9351" y="73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4" name="Ink 18"/>
          <p:cNvSpPr/>
          <p:nvPr/>
        </p:nvSpPr>
        <p:spPr>
          <a:xfrm>
            <a:off x="3929040" y="2268360"/>
            <a:ext cx="669960" cy="339840"/>
          </a:xfrm>
          <a:custGeom>
            <a:avLst/>
            <a:gdLst/>
            <a:ahLst/>
            <a:rect l="l" t="t" r="r" b="b"/>
            <a:pathLst>
              <a:path w="1861" h="944">
                <a:moveTo>
                  <a:pt x="11013" y="6300"/>
                </a:moveTo>
                <a:cubicBezTo>
                  <a:pt x="10986" y="6451"/>
                  <a:pt x="10988" y="6599"/>
                  <a:pt x="10964" y="6747"/>
                </a:cubicBezTo>
                <a:cubicBezTo>
                  <a:pt x="10949" y="6841"/>
                  <a:pt x="10939" y="6922"/>
                  <a:pt x="10939" y="7020"/>
                </a:cubicBezTo>
                <a:cubicBezTo>
                  <a:pt x="10939" y="7056"/>
                  <a:pt x="10878" y="7221"/>
                  <a:pt x="10939" y="7243"/>
                </a:cubicBezTo>
                <a:cubicBezTo>
                  <a:pt x="10964" y="7218"/>
                  <a:pt x="10972" y="7210"/>
                  <a:pt x="10988" y="7193"/>
                </a:cubicBezTo>
              </a:path>
              <a:path w="1861" h="944">
                <a:moveTo>
                  <a:pt x="11683" y="6449"/>
                </a:moveTo>
                <a:cubicBezTo>
                  <a:pt x="11777" y="6449"/>
                  <a:pt x="11870" y="6452"/>
                  <a:pt x="11956" y="6424"/>
                </a:cubicBezTo>
                <a:cubicBezTo>
                  <a:pt x="11999" y="6403"/>
                  <a:pt x="12011" y="6399"/>
                  <a:pt x="12030" y="6375"/>
                </a:cubicBezTo>
              </a:path>
              <a:path w="1861" h="944">
                <a:moveTo>
                  <a:pt x="11584" y="6474"/>
                </a:moveTo>
                <a:cubicBezTo>
                  <a:pt x="11523" y="6549"/>
                  <a:pt x="11479" y="6596"/>
                  <a:pt x="11435" y="6672"/>
                </a:cubicBezTo>
                <a:cubicBezTo>
                  <a:pt x="11484" y="6685"/>
                  <a:pt x="11509" y="6617"/>
                  <a:pt x="11584" y="6598"/>
                </a:cubicBezTo>
                <a:cubicBezTo>
                  <a:pt x="11667" y="6577"/>
                  <a:pt x="11715" y="6649"/>
                  <a:pt x="11757" y="6697"/>
                </a:cubicBezTo>
                <a:cubicBezTo>
                  <a:pt x="11832" y="6782"/>
                  <a:pt x="11832" y="6835"/>
                  <a:pt x="11832" y="6945"/>
                </a:cubicBezTo>
                <a:cubicBezTo>
                  <a:pt x="11832" y="7022"/>
                  <a:pt x="11828" y="7078"/>
                  <a:pt x="11782" y="7144"/>
                </a:cubicBezTo>
                <a:cubicBezTo>
                  <a:pt x="11743" y="7200"/>
                  <a:pt x="11645" y="7207"/>
                  <a:pt x="11584" y="7193"/>
                </a:cubicBezTo>
                <a:cubicBezTo>
                  <a:pt x="11526" y="7180"/>
                  <a:pt x="11443" y="7139"/>
                  <a:pt x="11460" y="7069"/>
                </a:cubicBezTo>
                <a:cubicBezTo>
                  <a:pt x="11485" y="7020"/>
                  <a:pt x="11493" y="7004"/>
                  <a:pt x="11534" y="6995"/>
                </a:cubicBezTo>
              </a:path>
              <a:path w="1861" h="944">
                <a:moveTo>
                  <a:pt x="12254" y="6598"/>
                </a:moveTo>
                <a:cubicBezTo>
                  <a:pt x="12206" y="6716"/>
                  <a:pt x="12112" y="6881"/>
                  <a:pt x="12105" y="7020"/>
                </a:cubicBezTo>
                <a:cubicBezTo>
                  <a:pt x="12101" y="7090"/>
                  <a:pt x="12146" y="7135"/>
                  <a:pt x="12204" y="7169"/>
                </a:cubicBezTo>
                <a:cubicBezTo>
                  <a:pt x="12279" y="7212"/>
                  <a:pt x="12351" y="7194"/>
                  <a:pt x="12427" y="7169"/>
                </a:cubicBezTo>
                <a:cubicBezTo>
                  <a:pt x="12546" y="7130"/>
                  <a:pt x="12627" y="7069"/>
                  <a:pt x="12700" y="6970"/>
                </a:cubicBezTo>
                <a:cubicBezTo>
                  <a:pt x="12755" y="6896"/>
                  <a:pt x="12798" y="6818"/>
                  <a:pt x="12774" y="6722"/>
                </a:cubicBezTo>
                <a:cubicBezTo>
                  <a:pt x="12755" y="6648"/>
                  <a:pt x="12687" y="6629"/>
                  <a:pt x="12626" y="6598"/>
                </a:cubicBezTo>
                <a:cubicBezTo>
                  <a:pt x="12554" y="6562"/>
                  <a:pt x="12482" y="6573"/>
                  <a:pt x="12402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5" name="Ink 19"/>
          <p:cNvSpPr/>
          <p:nvPr/>
        </p:nvSpPr>
        <p:spPr>
          <a:xfrm>
            <a:off x="5572080" y="2017800"/>
            <a:ext cx="2448000" cy="679320"/>
          </a:xfrm>
          <a:custGeom>
            <a:avLst/>
            <a:gdLst/>
            <a:ahLst/>
            <a:rect l="l" t="t" r="r" b="b"/>
            <a:pathLst>
              <a:path w="6798" h="1886">
                <a:moveTo>
                  <a:pt x="15503" y="6722"/>
                </a:moveTo>
                <a:cubicBezTo>
                  <a:pt x="15486" y="6654"/>
                  <a:pt x="15554" y="6672"/>
                  <a:pt x="15627" y="6672"/>
                </a:cubicBezTo>
                <a:cubicBezTo>
                  <a:pt x="15708" y="6672"/>
                  <a:pt x="15770" y="6652"/>
                  <a:pt x="15850" y="6648"/>
                </a:cubicBezTo>
                <a:cubicBezTo>
                  <a:pt x="15936" y="6644"/>
                  <a:pt x="16001" y="6604"/>
                  <a:pt x="16073" y="6648"/>
                </a:cubicBezTo>
                <a:cubicBezTo>
                  <a:pt x="16022" y="6648"/>
                  <a:pt x="16007" y="6647"/>
                  <a:pt x="16073" y="6623"/>
                </a:cubicBezTo>
              </a:path>
              <a:path w="6798" h="1886">
                <a:moveTo>
                  <a:pt x="16446" y="6102"/>
                </a:moveTo>
                <a:cubicBezTo>
                  <a:pt x="16468" y="6125"/>
                  <a:pt x="16421" y="6219"/>
                  <a:pt x="16396" y="6276"/>
                </a:cubicBezTo>
                <a:cubicBezTo>
                  <a:pt x="16340" y="6406"/>
                  <a:pt x="16325" y="6538"/>
                  <a:pt x="16297" y="6672"/>
                </a:cubicBezTo>
                <a:cubicBezTo>
                  <a:pt x="16276" y="6770"/>
                  <a:pt x="16267" y="6847"/>
                  <a:pt x="16297" y="6945"/>
                </a:cubicBezTo>
                <a:cubicBezTo>
                  <a:pt x="16326" y="7040"/>
                  <a:pt x="16430" y="7067"/>
                  <a:pt x="16520" y="7045"/>
                </a:cubicBezTo>
                <a:cubicBezTo>
                  <a:pt x="16594" y="7027"/>
                  <a:pt x="16675" y="6956"/>
                  <a:pt x="16718" y="6896"/>
                </a:cubicBezTo>
                <a:cubicBezTo>
                  <a:pt x="16769" y="6825"/>
                  <a:pt x="16787" y="6771"/>
                  <a:pt x="16768" y="6697"/>
                </a:cubicBezTo>
                <a:cubicBezTo>
                  <a:pt x="16733" y="6680"/>
                  <a:pt x="16668" y="6686"/>
                  <a:pt x="16619" y="6722"/>
                </a:cubicBezTo>
                <a:cubicBezTo>
                  <a:pt x="16560" y="6765"/>
                  <a:pt x="16504" y="6834"/>
                  <a:pt x="16470" y="6896"/>
                </a:cubicBezTo>
                <a:cubicBezTo>
                  <a:pt x="16438" y="6953"/>
                  <a:pt x="16430" y="7018"/>
                  <a:pt x="16470" y="7069"/>
                </a:cubicBezTo>
                <a:cubicBezTo>
                  <a:pt x="16498" y="7097"/>
                  <a:pt x="16512" y="7106"/>
                  <a:pt x="16545" y="7094"/>
                </a:cubicBezTo>
              </a:path>
              <a:path w="6798" h="1886">
                <a:moveTo>
                  <a:pt x="17066" y="6970"/>
                </a:moveTo>
                <a:cubicBezTo>
                  <a:pt x="17083" y="7085"/>
                  <a:pt x="17090" y="7179"/>
                  <a:pt x="17090" y="7293"/>
                </a:cubicBezTo>
                <a:cubicBezTo>
                  <a:pt x="17090" y="7364"/>
                  <a:pt x="17116" y="7484"/>
                  <a:pt x="17066" y="7466"/>
                </a:cubicBezTo>
              </a:path>
              <a:path w="6798" h="1886">
                <a:moveTo>
                  <a:pt x="17462" y="6003"/>
                </a:moveTo>
                <a:cubicBezTo>
                  <a:pt x="17472" y="5932"/>
                  <a:pt x="17475" y="5893"/>
                  <a:pt x="17537" y="5854"/>
                </a:cubicBezTo>
                <a:cubicBezTo>
                  <a:pt x="17606" y="5811"/>
                  <a:pt x="17656" y="5804"/>
                  <a:pt x="17735" y="5804"/>
                </a:cubicBezTo>
                <a:cubicBezTo>
                  <a:pt x="17846" y="5804"/>
                  <a:pt x="17854" y="5853"/>
                  <a:pt x="17859" y="5953"/>
                </a:cubicBezTo>
                <a:cubicBezTo>
                  <a:pt x="17863" y="6037"/>
                  <a:pt x="17809" y="6161"/>
                  <a:pt x="17760" y="6226"/>
                </a:cubicBezTo>
                <a:cubicBezTo>
                  <a:pt x="17700" y="6306"/>
                  <a:pt x="17608" y="6378"/>
                  <a:pt x="17537" y="6449"/>
                </a:cubicBezTo>
                <a:cubicBezTo>
                  <a:pt x="17614" y="6471"/>
                  <a:pt x="17635" y="6415"/>
                  <a:pt x="17711" y="6424"/>
                </a:cubicBezTo>
                <a:cubicBezTo>
                  <a:pt x="17768" y="6430"/>
                  <a:pt x="17846" y="6491"/>
                  <a:pt x="17859" y="6548"/>
                </a:cubicBezTo>
                <a:cubicBezTo>
                  <a:pt x="17880" y="6641"/>
                  <a:pt x="17790" y="6756"/>
                  <a:pt x="17735" y="6821"/>
                </a:cubicBezTo>
                <a:cubicBezTo>
                  <a:pt x="17658" y="6912"/>
                  <a:pt x="17564" y="7010"/>
                  <a:pt x="17462" y="7069"/>
                </a:cubicBezTo>
                <a:cubicBezTo>
                  <a:pt x="17414" y="7093"/>
                  <a:pt x="17400" y="7102"/>
                  <a:pt x="17363" y="7094"/>
                </a:cubicBezTo>
                <a:cubicBezTo>
                  <a:pt x="17398" y="7011"/>
                  <a:pt x="17437" y="6947"/>
                  <a:pt x="17487" y="6871"/>
                </a:cubicBezTo>
              </a:path>
              <a:path w="6798" h="1886">
                <a:moveTo>
                  <a:pt x="18231" y="6276"/>
                </a:moveTo>
                <a:cubicBezTo>
                  <a:pt x="18218" y="6421"/>
                  <a:pt x="18186" y="6580"/>
                  <a:pt x="18231" y="6722"/>
                </a:cubicBezTo>
                <a:cubicBezTo>
                  <a:pt x="18239" y="6749"/>
                  <a:pt x="18308" y="6926"/>
                  <a:pt x="18256" y="6796"/>
                </a:cubicBezTo>
              </a:path>
              <a:path w="6798" h="1886">
                <a:moveTo>
                  <a:pt x="17983" y="6573"/>
                </a:moveTo>
                <a:cubicBezTo>
                  <a:pt x="18047" y="6564"/>
                  <a:pt x="18093" y="6546"/>
                  <a:pt x="18157" y="6524"/>
                </a:cubicBezTo>
                <a:cubicBezTo>
                  <a:pt x="18248" y="6493"/>
                  <a:pt x="18341" y="6460"/>
                  <a:pt x="18430" y="6424"/>
                </a:cubicBezTo>
                <a:cubicBezTo>
                  <a:pt x="18484" y="6398"/>
                  <a:pt x="18504" y="6386"/>
                  <a:pt x="18529" y="6350"/>
                </a:cubicBezTo>
              </a:path>
              <a:path w="6798" h="1886">
                <a:moveTo>
                  <a:pt x="18703" y="6152"/>
                </a:moveTo>
                <a:cubicBezTo>
                  <a:pt x="18675" y="6250"/>
                  <a:pt x="18639" y="6348"/>
                  <a:pt x="18628" y="6449"/>
                </a:cubicBezTo>
                <a:cubicBezTo>
                  <a:pt x="18618" y="6537"/>
                  <a:pt x="18645" y="6590"/>
                  <a:pt x="18703" y="6648"/>
                </a:cubicBezTo>
                <a:cubicBezTo>
                  <a:pt x="18749" y="6611"/>
                  <a:pt x="18801" y="6580"/>
                  <a:pt x="18827" y="6524"/>
                </a:cubicBezTo>
                <a:cubicBezTo>
                  <a:pt x="18863" y="6444"/>
                  <a:pt x="18867" y="6337"/>
                  <a:pt x="18876" y="6251"/>
                </a:cubicBezTo>
              </a:path>
              <a:path w="6798" h="1886">
                <a:moveTo>
                  <a:pt x="18876" y="5904"/>
                </a:moveTo>
                <a:cubicBezTo>
                  <a:pt x="18867" y="6004"/>
                  <a:pt x="18836" y="6101"/>
                  <a:pt x="18827" y="6201"/>
                </a:cubicBezTo>
                <a:cubicBezTo>
                  <a:pt x="18814" y="6338"/>
                  <a:pt x="18840" y="6467"/>
                  <a:pt x="18852" y="6598"/>
                </a:cubicBezTo>
                <a:cubicBezTo>
                  <a:pt x="18860" y="6691"/>
                  <a:pt x="18871" y="6782"/>
                  <a:pt x="18876" y="6871"/>
                </a:cubicBezTo>
                <a:cubicBezTo>
                  <a:pt x="18880" y="6942"/>
                  <a:pt x="18871" y="6959"/>
                  <a:pt x="18926" y="6945"/>
                </a:cubicBezTo>
              </a:path>
              <a:path w="6798" h="1886">
                <a:moveTo>
                  <a:pt x="19298" y="6524"/>
                </a:moveTo>
                <a:cubicBezTo>
                  <a:pt x="19315" y="6606"/>
                  <a:pt x="19304" y="6724"/>
                  <a:pt x="19348" y="6796"/>
                </a:cubicBezTo>
                <a:cubicBezTo>
                  <a:pt x="19394" y="6872"/>
                  <a:pt x="19447" y="6789"/>
                  <a:pt x="19472" y="6747"/>
                </a:cubicBezTo>
                <a:cubicBezTo>
                  <a:pt x="19480" y="6730"/>
                  <a:pt x="19488" y="6714"/>
                  <a:pt x="19496" y="6697"/>
                </a:cubicBezTo>
              </a:path>
              <a:path w="6798" h="1886">
                <a:moveTo>
                  <a:pt x="19298" y="6028"/>
                </a:moveTo>
                <a:cubicBezTo>
                  <a:pt x="19306" y="6036"/>
                  <a:pt x="19315" y="6044"/>
                  <a:pt x="19323" y="6052"/>
                </a:cubicBezTo>
              </a:path>
              <a:path w="6798" h="1886">
                <a:moveTo>
                  <a:pt x="19794" y="6648"/>
                </a:moveTo>
                <a:cubicBezTo>
                  <a:pt x="19812" y="6794"/>
                  <a:pt x="19819" y="6923"/>
                  <a:pt x="19819" y="7069"/>
                </a:cubicBezTo>
                <a:cubicBezTo>
                  <a:pt x="19819" y="7103"/>
                  <a:pt x="19828" y="7300"/>
                  <a:pt x="19794" y="7317"/>
                </a:cubicBezTo>
                <a:cubicBezTo>
                  <a:pt x="19771" y="7295"/>
                  <a:pt x="19763" y="7290"/>
                  <a:pt x="19769" y="7268"/>
                </a:cubicBezTo>
              </a:path>
              <a:path w="6798" h="1886">
                <a:moveTo>
                  <a:pt x="20141" y="5928"/>
                </a:moveTo>
                <a:cubicBezTo>
                  <a:pt x="20240" y="5829"/>
                  <a:pt x="20316" y="5713"/>
                  <a:pt x="20464" y="5755"/>
                </a:cubicBezTo>
                <a:cubicBezTo>
                  <a:pt x="20547" y="5778"/>
                  <a:pt x="20582" y="5817"/>
                  <a:pt x="20563" y="5904"/>
                </a:cubicBezTo>
                <a:cubicBezTo>
                  <a:pt x="20545" y="5987"/>
                  <a:pt x="20492" y="6065"/>
                  <a:pt x="20439" y="6127"/>
                </a:cubicBezTo>
                <a:cubicBezTo>
                  <a:pt x="20396" y="6178"/>
                  <a:pt x="20362" y="6229"/>
                  <a:pt x="20315" y="6276"/>
                </a:cubicBezTo>
                <a:cubicBezTo>
                  <a:pt x="20409" y="6276"/>
                  <a:pt x="20499" y="6266"/>
                  <a:pt x="20588" y="6300"/>
                </a:cubicBezTo>
                <a:cubicBezTo>
                  <a:pt x="20688" y="6338"/>
                  <a:pt x="20741" y="6403"/>
                  <a:pt x="20687" y="6499"/>
                </a:cubicBezTo>
                <a:cubicBezTo>
                  <a:pt x="20616" y="6625"/>
                  <a:pt x="20529" y="6711"/>
                  <a:pt x="20414" y="6796"/>
                </a:cubicBezTo>
                <a:cubicBezTo>
                  <a:pt x="20341" y="6850"/>
                  <a:pt x="20235" y="6962"/>
                  <a:pt x="20141" y="6945"/>
                </a:cubicBezTo>
                <a:cubicBezTo>
                  <a:pt x="20104" y="6908"/>
                  <a:pt x="20106" y="6884"/>
                  <a:pt x="20166" y="6846"/>
                </a:cubicBezTo>
              </a:path>
              <a:path w="6798" h="1886">
                <a:moveTo>
                  <a:pt x="20786" y="6400"/>
                </a:moveTo>
                <a:cubicBezTo>
                  <a:pt x="20905" y="6388"/>
                  <a:pt x="21053" y="6398"/>
                  <a:pt x="21158" y="6325"/>
                </a:cubicBezTo>
                <a:cubicBezTo>
                  <a:pt x="21166" y="6317"/>
                  <a:pt x="21175" y="6308"/>
                  <a:pt x="21183" y="6300"/>
                </a:cubicBezTo>
              </a:path>
              <a:path w="6798" h="1886">
                <a:moveTo>
                  <a:pt x="21456" y="5879"/>
                </a:moveTo>
                <a:cubicBezTo>
                  <a:pt x="21443" y="5938"/>
                  <a:pt x="21406" y="6061"/>
                  <a:pt x="21431" y="6127"/>
                </a:cubicBezTo>
                <a:cubicBezTo>
                  <a:pt x="21456" y="6191"/>
                  <a:pt x="21528" y="6198"/>
                  <a:pt x="21580" y="6201"/>
                </a:cubicBezTo>
                <a:cubicBezTo>
                  <a:pt x="21646" y="6204"/>
                  <a:pt x="21707" y="6171"/>
                  <a:pt x="21754" y="6127"/>
                </a:cubicBezTo>
                <a:cubicBezTo>
                  <a:pt x="21830" y="6055"/>
                  <a:pt x="21861" y="5998"/>
                  <a:pt x="21903" y="5904"/>
                </a:cubicBezTo>
              </a:path>
              <a:path w="6798" h="1886">
                <a:moveTo>
                  <a:pt x="21803" y="5606"/>
                </a:moveTo>
                <a:cubicBezTo>
                  <a:pt x="21736" y="5794"/>
                  <a:pt x="21707" y="5935"/>
                  <a:pt x="21679" y="6127"/>
                </a:cubicBezTo>
                <a:cubicBezTo>
                  <a:pt x="21659" y="6268"/>
                  <a:pt x="21634" y="6406"/>
                  <a:pt x="21630" y="6548"/>
                </a:cubicBezTo>
                <a:cubicBezTo>
                  <a:pt x="21627" y="6633"/>
                  <a:pt x="21537" y="6846"/>
                  <a:pt x="21605" y="6796"/>
                </a:cubicBezTo>
                <a:cubicBezTo>
                  <a:pt x="21630" y="6763"/>
                  <a:pt x="21654" y="6730"/>
                  <a:pt x="21679" y="6697"/>
                </a:cubicBezTo>
              </a:path>
              <a:path w="6798" h="1886">
                <a:moveTo>
                  <a:pt x="22051" y="6325"/>
                </a:moveTo>
                <a:cubicBezTo>
                  <a:pt x="22060" y="6404"/>
                  <a:pt x="22050" y="6614"/>
                  <a:pt x="22101" y="6697"/>
                </a:cubicBezTo>
                <a:cubicBezTo>
                  <a:pt x="22126" y="6722"/>
                  <a:pt x="22134" y="6730"/>
                  <a:pt x="22151" y="6747"/>
                </a:cubicBezTo>
                <a:cubicBezTo>
                  <a:pt x="22205" y="6715"/>
                  <a:pt x="22267" y="6669"/>
                  <a:pt x="22275" y="6598"/>
                </a:cubicBezTo>
                <a:cubicBezTo>
                  <a:pt x="22275" y="6548"/>
                  <a:pt x="22275" y="6499"/>
                  <a:pt x="22275" y="6449"/>
                </a:cubicBezTo>
              </a:path>
              <a:path w="6798" h="1886">
                <a:moveTo>
                  <a:pt x="22101" y="6003"/>
                </a:moveTo>
                <a:cubicBezTo>
                  <a:pt x="22109" y="5986"/>
                  <a:pt x="22118" y="5970"/>
                  <a:pt x="22126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6" name="Ink 20"/>
          <p:cNvSpPr/>
          <p:nvPr/>
        </p:nvSpPr>
        <p:spPr>
          <a:xfrm>
            <a:off x="1401840" y="2847960"/>
            <a:ext cx="223920" cy="741240"/>
          </a:xfrm>
          <a:custGeom>
            <a:avLst/>
            <a:gdLst/>
            <a:ahLst/>
            <a:rect l="l" t="t" r="r" b="b"/>
            <a:pathLst>
              <a:path w="621" h="2059">
                <a:moveTo>
                  <a:pt x="4192" y="7913"/>
                </a:moveTo>
                <a:cubicBezTo>
                  <a:pt x="4192" y="8114"/>
                  <a:pt x="4201" y="8312"/>
                  <a:pt x="4217" y="8508"/>
                </a:cubicBezTo>
                <a:cubicBezTo>
                  <a:pt x="4226" y="8618"/>
                  <a:pt x="4242" y="8694"/>
                  <a:pt x="4242" y="8806"/>
                </a:cubicBezTo>
                <a:cubicBezTo>
                  <a:pt x="4242" y="8916"/>
                  <a:pt x="4224" y="8814"/>
                  <a:pt x="4217" y="8781"/>
                </a:cubicBezTo>
              </a:path>
              <a:path w="621" h="2059">
                <a:moveTo>
                  <a:pt x="3894" y="8409"/>
                </a:moveTo>
                <a:cubicBezTo>
                  <a:pt x="3902" y="8483"/>
                  <a:pt x="3922" y="8553"/>
                  <a:pt x="3969" y="8632"/>
                </a:cubicBezTo>
                <a:cubicBezTo>
                  <a:pt x="3989" y="8666"/>
                  <a:pt x="4038" y="8757"/>
                  <a:pt x="4068" y="8781"/>
                </a:cubicBezTo>
                <a:cubicBezTo>
                  <a:pt x="4128" y="8828"/>
                  <a:pt x="4190" y="8751"/>
                  <a:pt x="4217" y="8731"/>
                </a:cubicBezTo>
                <a:cubicBezTo>
                  <a:pt x="4292" y="8675"/>
                  <a:pt x="4369" y="8642"/>
                  <a:pt x="4440" y="8582"/>
                </a:cubicBezTo>
                <a:cubicBezTo>
                  <a:pt x="4474" y="8553"/>
                  <a:pt x="4481" y="8525"/>
                  <a:pt x="4514" y="8508"/>
                </a:cubicBezTo>
              </a:path>
              <a:path w="621" h="2059">
                <a:moveTo>
                  <a:pt x="4341" y="9079"/>
                </a:moveTo>
                <a:cubicBezTo>
                  <a:pt x="4365" y="9226"/>
                  <a:pt x="4357" y="9248"/>
                  <a:pt x="4341" y="9376"/>
                </a:cubicBezTo>
                <a:cubicBezTo>
                  <a:pt x="4320" y="9541"/>
                  <a:pt x="4345" y="9774"/>
                  <a:pt x="4366" y="9897"/>
                </a:cubicBezTo>
                <a:cubicBezTo>
                  <a:pt x="4366" y="9954"/>
                  <a:pt x="4349" y="9979"/>
                  <a:pt x="4390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7" name="Ink 21"/>
          <p:cNvSpPr/>
          <p:nvPr/>
        </p:nvSpPr>
        <p:spPr>
          <a:xfrm>
            <a:off x="2035080" y="2847960"/>
            <a:ext cx="447840" cy="716040"/>
          </a:xfrm>
          <a:custGeom>
            <a:avLst/>
            <a:gdLst/>
            <a:ahLst/>
            <a:rect l="l" t="t" r="r" b="b"/>
            <a:pathLst>
              <a:path w="1242" h="1985">
                <a:moveTo>
                  <a:pt x="5655" y="8434"/>
                </a:moveTo>
                <a:cubicBezTo>
                  <a:pt x="5783" y="8434"/>
                  <a:pt x="5883" y="8415"/>
                  <a:pt x="6003" y="8409"/>
                </a:cubicBezTo>
                <a:cubicBezTo>
                  <a:pt x="6019" y="8409"/>
                  <a:pt x="6036" y="8409"/>
                  <a:pt x="6052" y="8409"/>
                </a:cubicBezTo>
              </a:path>
              <a:path w="1242" h="1985">
                <a:moveTo>
                  <a:pt x="6251" y="7913"/>
                </a:moveTo>
                <a:cubicBezTo>
                  <a:pt x="6277" y="7957"/>
                  <a:pt x="6292" y="8029"/>
                  <a:pt x="6276" y="8086"/>
                </a:cubicBezTo>
                <a:cubicBezTo>
                  <a:pt x="6252" y="8172"/>
                  <a:pt x="6238" y="8268"/>
                  <a:pt x="6226" y="8359"/>
                </a:cubicBezTo>
                <a:cubicBezTo>
                  <a:pt x="6217" y="8427"/>
                  <a:pt x="6250" y="8529"/>
                  <a:pt x="6276" y="8582"/>
                </a:cubicBezTo>
                <a:cubicBezTo>
                  <a:pt x="6294" y="8619"/>
                  <a:pt x="6403" y="8688"/>
                  <a:pt x="6449" y="8706"/>
                </a:cubicBezTo>
                <a:cubicBezTo>
                  <a:pt x="6532" y="8738"/>
                  <a:pt x="6663" y="8710"/>
                  <a:pt x="6722" y="8657"/>
                </a:cubicBezTo>
                <a:cubicBezTo>
                  <a:pt x="6809" y="8578"/>
                  <a:pt x="6757" y="8509"/>
                  <a:pt x="6697" y="8434"/>
                </a:cubicBezTo>
                <a:cubicBezTo>
                  <a:pt x="6662" y="8390"/>
                  <a:pt x="6541" y="8393"/>
                  <a:pt x="6499" y="8434"/>
                </a:cubicBezTo>
                <a:cubicBezTo>
                  <a:pt x="6444" y="8489"/>
                  <a:pt x="6429" y="8559"/>
                  <a:pt x="6424" y="8632"/>
                </a:cubicBezTo>
                <a:cubicBezTo>
                  <a:pt x="6421" y="8687"/>
                  <a:pt x="6435" y="8731"/>
                  <a:pt x="6449" y="8781"/>
                </a:cubicBezTo>
                <a:cubicBezTo>
                  <a:pt x="6457" y="8806"/>
                  <a:pt x="6466" y="8830"/>
                  <a:pt x="6474" y="8855"/>
                </a:cubicBezTo>
              </a:path>
              <a:path w="1242" h="1985">
                <a:moveTo>
                  <a:pt x="5655" y="9401"/>
                </a:moveTo>
                <a:cubicBezTo>
                  <a:pt x="5761" y="9468"/>
                  <a:pt x="5803" y="9475"/>
                  <a:pt x="5928" y="9475"/>
                </a:cubicBezTo>
                <a:cubicBezTo>
                  <a:pt x="6023" y="9475"/>
                  <a:pt x="6063" y="9474"/>
                  <a:pt x="6152" y="9451"/>
                </a:cubicBezTo>
              </a:path>
              <a:path w="1242" h="1985">
                <a:moveTo>
                  <a:pt x="6474" y="9153"/>
                </a:moveTo>
                <a:cubicBezTo>
                  <a:pt x="6403" y="9203"/>
                  <a:pt x="6396" y="9225"/>
                  <a:pt x="6375" y="9302"/>
                </a:cubicBezTo>
                <a:cubicBezTo>
                  <a:pt x="6353" y="9381"/>
                  <a:pt x="6350" y="9444"/>
                  <a:pt x="6350" y="9525"/>
                </a:cubicBezTo>
                <a:cubicBezTo>
                  <a:pt x="6350" y="9613"/>
                  <a:pt x="6372" y="9679"/>
                  <a:pt x="6424" y="9748"/>
                </a:cubicBezTo>
                <a:cubicBezTo>
                  <a:pt x="6456" y="9791"/>
                  <a:pt x="6550" y="9878"/>
                  <a:pt x="6598" y="9897"/>
                </a:cubicBezTo>
                <a:cubicBezTo>
                  <a:pt x="6672" y="9926"/>
                  <a:pt x="6746" y="9889"/>
                  <a:pt x="6796" y="9847"/>
                </a:cubicBezTo>
                <a:cubicBezTo>
                  <a:pt x="6843" y="9808"/>
                  <a:pt x="6884" y="9773"/>
                  <a:pt x="6896" y="9699"/>
                </a:cubicBezTo>
                <a:cubicBezTo>
                  <a:pt x="6913" y="9598"/>
                  <a:pt x="6857" y="9606"/>
                  <a:pt x="6796" y="9550"/>
                </a:cubicBezTo>
                <a:cubicBezTo>
                  <a:pt x="6743" y="9501"/>
                  <a:pt x="6713" y="9574"/>
                  <a:pt x="6672" y="9599"/>
                </a:cubicBezTo>
                <a:cubicBezTo>
                  <a:pt x="6641" y="9617"/>
                  <a:pt x="6632" y="9720"/>
                  <a:pt x="6648" y="9773"/>
                </a:cubicBezTo>
                <a:cubicBezTo>
                  <a:pt x="6675" y="9830"/>
                  <a:pt x="6686" y="9854"/>
                  <a:pt x="6697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8" name="Ink 22"/>
          <p:cNvSpPr/>
          <p:nvPr/>
        </p:nvSpPr>
        <p:spPr>
          <a:xfrm>
            <a:off x="2963880" y="2911320"/>
            <a:ext cx="528480" cy="785880"/>
          </a:xfrm>
          <a:custGeom>
            <a:avLst/>
            <a:gdLst/>
            <a:ahLst/>
            <a:rect l="l" t="t" r="r" b="b"/>
            <a:pathLst>
              <a:path w="1465" h="2184">
                <a:moveTo>
                  <a:pt x="8235" y="8285"/>
                </a:moveTo>
                <a:cubicBezTo>
                  <a:pt x="8287" y="8255"/>
                  <a:pt x="8339" y="8226"/>
                  <a:pt x="8384" y="8186"/>
                </a:cubicBezTo>
                <a:cubicBezTo>
                  <a:pt x="8437" y="8139"/>
                  <a:pt x="8488" y="8115"/>
                  <a:pt x="8558" y="8111"/>
                </a:cubicBezTo>
                <a:cubicBezTo>
                  <a:pt x="8649" y="8106"/>
                  <a:pt x="8687" y="8103"/>
                  <a:pt x="8756" y="8161"/>
                </a:cubicBezTo>
                <a:cubicBezTo>
                  <a:pt x="8815" y="8211"/>
                  <a:pt x="8772" y="8309"/>
                  <a:pt x="8731" y="8359"/>
                </a:cubicBezTo>
                <a:cubicBezTo>
                  <a:pt x="8683" y="8418"/>
                  <a:pt x="8603" y="8475"/>
                  <a:pt x="8533" y="8483"/>
                </a:cubicBezTo>
                <a:cubicBezTo>
                  <a:pt x="8453" y="8492"/>
                  <a:pt x="8463" y="8517"/>
                  <a:pt x="8384" y="8483"/>
                </a:cubicBezTo>
                <a:cubicBezTo>
                  <a:pt x="8525" y="8437"/>
                  <a:pt x="8495" y="8446"/>
                  <a:pt x="8632" y="8483"/>
                </a:cubicBezTo>
                <a:cubicBezTo>
                  <a:pt x="8724" y="8508"/>
                  <a:pt x="8784" y="8517"/>
                  <a:pt x="8806" y="8632"/>
                </a:cubicBezTo>
                <a:cubicBezTo>
                  <a:pt x="8820" y="8705"/>
                  <a:pt x="8803" y="8817"/>
                  <a:pt x="8731" y="8855"/>
                </a:cubicBezTo>
                <a:cubicBezTo>
                  <a:pt x="8632" y="8907"/>
                  <a:pt x="8484" y="8831"/>
                  <a:pt x="8409" y="8806"/>
                </a:cubicBezTo>
                <a:cubicBezTo>
                  <a:pt x="8322" y="8777"/>
                  <a:pt x="8345" y="8821"/>
                  <a:pt x="8334" y="8706"/>
                </a:cubicBezTo>
              </a:path>
              <a:path w="1465" h="2184">
                <a:moveTo>
                  <a:pt x="9128" y="8086"/>
                </a:moveTo>
                <a:cubicBezTo>
                  <a:pt x="9194" y="8173"/>
                  <a:pt x="9183" y="8204"/>
                  <a:pt x="9153" y="8310"/>
                </a:cubicBezTo>
                <a:cubicBezTo>
                  <a:pt x="9128" y="8400"/>
                  <a:pt x="9107" y="8489"/>
                  <a:pt x="9103" y="8582"/>
                </a:cubicBezTo>
                <a:cubicBezTo>
                  <a:pt x="9100" y="8650"/>
                  <a:pt x="9131" y="8751"/>
                  <a:pt x="9203" y="8781"/>
                </a:cubicBezTo>
                <a:cubicBezTo>
                  <a:pt x="9239" y="8796"/>
                  <a:pt x="9371" y="8868"/>
                  <a:pt x="9401" y="8855"/>
                </a:cubicBezTo>
                <a:cubicBezTo>
                  <a:pt x="9478" y="8821"/>
                  <a:pt x="9516" y="8751"/>
                  <a:pt x="9575" y="8706"/>
                </a:cubicBezTo>
                <a:cubicBezTo>
                  <a:pt x="9651" y="8648"/>
                  <a:pt x="9583" y="8541"/>
                  <a:pt x="9500" y="8508"/>
                </a:cubicBezTo>
                <a:cubicBezTo>
                  <a:pt x="9464" y="8494"/>
                  <a:pt x="9313" y="8556"/>
                  <a:pt x="9277" y="8582"/>
                </a:cubicBezTo>
                <a:cubicBezTo>
                  <a:pt x="9204" y="8634"/>
                  <a:pt x="9182" y="8727"/>
                  <a:pt x="9178" y="8806"/>
                </a:cubicBezTo>
                <a:cubicBezTo>
                  <a:pt x="9178" y="8822"/>
                  <a:pt x="9178" y="8839"/>
                  <a:pt x="9178" y="8855"/>
                </a:cubicBezTo>
              </a:path>
              <a:path w="1465" h="2184">
                <a:moveTo>
                  <a:pt x="8533" y="9599"/>
                </a:moveTo>
                <a:cubicBezTo>
                  <a:pt x="8561" y="9766"/>
                  <a:pt x="8554" y="9556"/>
                  <a:pt x="8582" y="9500"/>
                </a:cubicBezTo>
                <a:cubicBezTo>
                  <a:pt x="8625" y="9414"/>
                  <a:pt x="8716" y="9397"/>
                  <a:pt x="8806" y="9376"/>
                </a:cubicBezTo>
                <a:cubicBezTo>
                  <a:pt x="8867" y="9455"/>
                  <a:pt x="8876" y="9497"/>
                  <a:pt x="8880" y="9599"/>
                </a:cubicBezTo>
                <a:cubicBezTo>
                  <a:pt x="8884" y="9703"/>
                  <a:pt x="8885" y="9798"/>
                  <a:pt x="8855" y="9897"/>
                </a:cubicBezTo>
                <a:cubicBezTo>
                  <a:pt x="8825" y="9998"/>
                  <a:pt x="8804" y="10048"/>
                  <a:pt x="8731" y="10120"/>
                </a:cubicBezTo>
                <a:cubicBezTo>
                  <a:pt x="8672" y="10179"/>
                  <a:pt x="8663" y="10195"/>
                  <a:pt x="8582" y="10195"/>
                </a:cubicBezTo>
                <a:cubicBezTo>
                  <a:pt x="8506" y="10195"/>
                  <a:pt x="8471" y="10154"/>
                  <a:pt x="8483" y="10071"/>
                </a:cubicBezTo>
                <a:cubicBezTo>
                  <a:pt x="8518" y="10036"/>
                  <a:pt x="8531" y="10014"/>
                  <a:pt x="8533" y="9971"/>
                </a:cubicBezTo>
                <a:cubicBezTo>
                  <a:pt x="8618" y="9971"/>
                  <a:pt x="8637" y="10011"/>
                  <a:pt x="8706" y="10046"/>
                </a:cubicBezTo>
                <a:cubicBezTo>
                  <a:pt x="8774" y="10080"/>
                  <a:pt x="8807" y="10166"/>
                  <a:pt x="8880" y="10195"/>
                </a:cubicBezTo>
                <a:cubicBezTo>
                  <a:pt x="8956" y="10224"/>
                  <a:pt x="8988" y="10186"/>
                  <a:pt x="9029" y="10145"/>
                </a:cubicBezTo>
              </a:path>
              <a:path w="1465" h="2184">
                <a:moveTo>
                  <a:pt x="9252" y="9451"/>
                </a:moveTo>
                <a:cubicBezTo>
                  <a:pt x="9369" y="9409"/>
                  <a:pt x="9441" y="9430"/>
                  <a:pt x="9550" y="9401"/>
                </a:cubicBezTo>
                <a:cubicBezTo>
                  <a:pt x="9621" y="9382"/>
                  <a:pt x="9614" y="9384"/>
                  <a:pt x="9624" y="9327"/>
                </a:cubicBezTo>
              </a:path>
              <a:path w="1465" h="2184">
                <a:moveTo>
                  <a:pt x="9203" y="9376"/>
                </a:moveTo>
                <a:cubicBezTo>
                  <a:pt x="9149" y="9435"/>
                  <a:pt x="9066" y="9504"/>
                  <a:pt x="9103" y="9599"/>
                </a:cubicBezTo>
                <a:cubicBezTo>
                  <a:pt x="9137" y="9687"/>
                  <a:pt x="9194" y="9674"/>
                  <a:pt x="9277" y="9674"/>
                </a:cubicBezTo>
                <a:cubicBezTo>
                  <a:pt x="9382" y="9674"/>
                  <a:pt x="9414" y="9694"/>
                  <a:pt x="9500" y="9748"/>
                </a:cubicBezTo>
                <a:cubicBezTo>
                  <a:pt x="9594" y="9807"/>
                  <a:pt x="9635" y="9865"/>
                  <a:pt x="9674" y="9971"/>
                </a:cubicBezTo>
                <a:cubicBezTo>
                  <a:pt x="9695" y="10027"/>
                  <a:pt x="9730" y="10143"/>
                  <a:pt x="9674" y="10195"/>
                </a:cubicBezTo>
                <a:cubicBezTo>
                  <a:pt x="9600" y="10263"/>
                  <a:pt x="9582" y="10269"/>
                  <a:pt x="9475" y="10269"/>
                </a:cubicBezTo>
                <a:cubicBezTo>
                  <a:pt x="9348" y="10269"/>
                  <a:pt x="9228" y="10294"/>
                  <a:pt x="9128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69" name="Ink 23"/>
          <p:cNvSpPr/>
          <p:nvPr/>
        </p:nvSpPr>
        <p:spPr>
          <a:xfrm>
            <a:off x="3776760" y="3000240"/>
            <a:ext cx="750960" cy="750960"/>
          </a:xfrm>
          <a:custGeom>
            <a:avLst/>
            <a:gdLst/>
            <a:ahLst/>
            <a:rect l="l" t="t" r="r" b="b"/>
            <a:pathLst>
              <a:path w="2085" h="2085">
                <a:moveTo>
                  <a:pt x="10492" y="8657"/>
                </a:moveTo>
                <a:cubicBezTo>
                  <a:pt x="10593" y="8623"/>
                  <a:pt x="10659" y="8652"/>
                  <a:pt x="10765" y="8657"/>
                </a:cubicBezTo>
                <a:cubicBezTo>
                  <a:pt x="10817" y="8657"/>
                  <a:pt x="10835" y="8656"/>
                  <a:pt x="10864" y="8632"/>
                </a:cubicBezTo>
              </a:path>
              <a:path w="2085" h="2085">
                <a:moveTo>
                  <a:pt x="11112" y="8334"/>
                </a:moveTo>
                <a:cubicBezTo>
                  <a:pt x="11081" y="8454"/>
                  <a:pt x="11027" y="8584"/>
                  <a:pt x="11013" y="8706"/>
                </a:cubicBezTo>
                <a:cubicBezTo>
                  <a:pt x="11000" y="8814"/>
                  <a:pt x="11000" y="8906"/>
                  <a:pt x="11013" y="9004"/>
                </a:cubicBezTo>
                <a:cubicBezTo>
                  <a:pt x="11027" y="9107"/>
                  <a:pt x="10983" y="9098"/>
                  <a:pt x="11063" y="9079"/>
                </a:cubicBezTo>
              </a:path>
              <a:path w="2085" h="2085">
                <a:moveTo>
                  <a:pt x="11361" y="8434"/>
                </a:moveTo>
                <a:cubicBezTo>
                  <a:pt x="11482" y="8416"/>
                  <a:pt x="11587" y="8409"/>
                  <a:pt x="11708" y="8409"/>
                </a:cubicBezTo>
                <a:cubicBezTo>
                  <a:pt x="11757" y="8409"/>
                  <a:pt x="11774" y="8409"/>
                  <a:pt x="11807" y="8409"/>
                </a:cubicBezTo>
              </a:path>
              <a:path w="2085" h="2085">
                <a:moveTo>
                  <a:pt x="11460" y="8483"/>
                </a:moveTo>
                <a:cubicBezTo>
                  <a:pt x="11355" y="8588"/>
                  <a:pt x="11305" y="8576"/>
                  <a:pt x="11311" y="8657"/>
                </a:cubicBezTo>
                <a:cubicBezTo>
                  <a:pt x="11387" y="8732"/>
                  <a:pt x="11401" y="8692"/>
                  <a:pt x="11485" y="8657"/>
                </a:cubicBezTo>
                <a:cubicBezTo>
                  <a:pt x="11553" y="8629"/>
                  <a:pt x="11641" y="8609"/>
                  <a:pt x="11708" y="8657"/>
                </a:cubicBezTo>
                <a:cubicBezTo>
                  <a:pt x="11792" y="8718"/>
                  <a:pt x="11837" y="8772"/>
                  <a:pt x="11857" y="8880"/>
                </a:cubicBezTo>
                <a:cubicBezTo>
                  <a:pt x="11882" y="9017"/>
                  <a:pt x="11781" y="9034"/>
                  <a:pt x="11683" y="9079"/>
                </a:cubicBezTo>
                <a:cubicBezTo>
                  <a:pt x="11603" y="9115"/>
                  <a:pt x="11587" y="9084"/>
                  <a:pt x="11509" y="9079"/>
                </a:cubicBezTo>
                <a:cubicBezTo>
                  <a:pt x="11451" y="9079"/>
                  <a:pt x="11435" y="9070"/>
                  <a:pt x="11460" y="9004"/>
                </a:cubicBezTo>
              </a:path>
              <a:path w="2085" h="2085">
                <a:moveTo>
                  <a:pt x="12005" y="8483"/>
                </a:moveTo>
                <a:cubicBezTo>
                  <a:pt x="12005" y="8614"/>
                  <a:pt x="11955" y="8805"/>
                  <a:pt x="11981" y="8930"/>
                </a:cubicBezTo>
                <a:cubicBezTo>
                  <a:pt x="11987" y="8959"/>
                  <a:pt x="12128" y="9071"/>
                  <a:pt x="12154" y="9079"/>
                </a:cubicBezTo>
                <a:cubicBezTo>
                  <a:pt x="12257" y="9111"/>
                  <a:pt x="12375" y="9076"/>
                  <a:pt x="12452" y="9029"/>
                </a:cubicBezTo>
                <a:cubicBezTo>
                  <a:pt x="12522" y="8986"/>
                  <a:pt x="12555" y="8890"/>
                  <a:pt x="12576" y="8806"/>
                </a:cubicBezTo>
                <a:cubicBezTo>
                  <a:pt x="12596" y="8728"/>
                  <a:pt x="12503" y="8622"/>
                  <a:pt x="12452" y="8582"/>
                </a:cubicBezTo>
                <a:cubicBezTo>
                  <a:pt x="12355" y="8505"/>
                  <a:pt x="12225" y="8535"/>
                  <a:pt x="12129" y="8558"/>
                </a:cubicBezTo>
              </a:path>
              <a:path w="2085" h="2085">
                <a:moveTo>
                  <a:pt x="11782" y="9748"/>
                </a:moveTo>
                <a:cubicBezTo>
                  <a:pt x="11743" y="9843"/>
                  <a:pt x="11675" y="9944"/>
                  <a:pt x="11658" y="10046"/>
                </a:cubicBezTo>
                <a:cubicBezTo>
                  <a:pt x="11641" y="10151"/>
                  <a:pt x="11652" y="10235"/>
                  <a:pt x="11733" y="10294"/>
                </a:cubicBezTo>
                <a:cubicBezTo>
                  <a:pt x="11765" y="10317"/>
                  <a:pt x="11975" y="10421"/>
                  <a:pt x="12005" y="10418"/>
                </a:cubicBezTo>
                <a:cubicBezTo>
                  <a:pt x="12075" y="10410"/>
                  <a:pt x="12223" y="10327"/>
                  <a:pt x="12254" y="10269"/>
                </a:cubicBezTo>
                <a:cubicBezTo>
                  <a:pt x="12302" y="10179"/>
                  <a:pt x="12303" y="10095"/>
                  <a:pt x="12303" y="9996"/>
                </a:cubicBezTo>
                <a:cubicBezTo>
                  <a:pt x="12303" y="9920"/>
                  <a:pt x="12208" y="9796"/>
                  <a:pt x="12154" y="9748"/>
                </a:cubicBezTo>
                <a:cubicBezTo>
                  <a:pt x="12063" y="9668"/>
                  <a:pt x="11970" y="9674"/>
                  <a:pt x="11857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0" name="Ink 24"/>
          <p:cNvSpPr/>
          <p:nvPr/>
        </p:nvSpPr>
        <p:spPr>
          <a:xfrm>
            <a:off x="866880" y="3813120"/>
            <a:ext cx="1990800" cy="473040"/>
          </a:xfrm>
          <a:custGeom>
            <a:avLst/>
            <a:gdLst/>
            <a:ahLst/>
            <a:rect l="l" t="t" r="r" b="b"/>
            <a:pathLst>
              <a:path w="5533" h="1315">
                <a:moveTo>
                  <a:pt x="2406" y="11038"/>
                </a:moveTo>
                <a:cubicBezTo>
                  <a:pt x="2416" y="11151"/>
                  <a:pt x="2450" y="11259"/>
                  <a:pt x="2505" y="11361"/>
                </a:cubicBezTo>
                <a:cubicBezTo>
                  <a:pt x="2568" y="11477"/>
                  <a:pt x="2668" y="11564"/>
                  <a:pt x="2753" y="11658"/>
                </a:cubicBezTo>
                <a:cubicBezTo>
                  <a:pt x="2792" y="11701"/>
                  <a:pt x="2829" y="11738"/>
                  <a:pt x="2877" y="11757"/>
                </a:cubicBezTo>
              </a:path>
              <a:path w="5533" h="1315">
                <a:moveTo>
                  <a:pt x="2753" y="10914"/>
                </a:moveTo>
                <a:cubicBezTo>
                  <a:pt x="2686" y="11085"/>
                  <a:pt x="2601" y="11242"/>
                  <a:pt x="2530" y="11410"/>
                </a:cubicBezTo>
                <a:cubicBezTo>
                  <a:pt x="2483" y="11522"/>
                  <a:pt x="2459" y="11643"/>
                  <a:pt x="2431" y="11757"/>
                </a:cubicBezTo>
                <a:cubicBezTo>
                  <a:pt x="2431" y="11749"/>
                  <a:pt x="2431" y="11741"/>
                  <a:pt x="2431" y="11733"/>
                </a:cubicBezTo>
              </a:path>
              <a:path w="5533" h="1315">
                <a:moveTo>
                  <a:pt x="2877" y="10592"/>
                </a:moveTo>
                <a:cubicBezTo>
                  <a:pt x="2946" y="10611"/>
                  <a:pt x="2976" y="10653"/>
                  <a:pt x="2952" y="10740"/>
                </a:cubicBezTo>
                <a:cubicBezTo>
                  <a:pt x="2929" y="10822"/>
                  <a:pt x="2856" y="10854"/>
                  <a:pt x="2902" y="10939"/>
                </a:cubicBezTo>
                <a:cubicBezTo>
                  <a:pt x="2932" y="10995"/>
                  <a:pt x="2995" y="11010"/>
                  <a:pt x="3051" y="11013"/>
                </a:cubicBezTo>
                <a:cubicBezTo>
                  <a:pt x="3100" y="11016"/>
                  <a:pt x="3151" y="11013"/>
                  <a:pt x="3200" y="11013"/>
                </a:cubicBezTo>
              </a:path>
              <a:path w="5533" h="1315">
                <a:moveTo>
                  <a:pt x="3101" y="11361"/>
                </a:moveTo>
                <a:cubicBezTo>
                  <a:pt x="3240" y="11361"/>
                  <a:pt x="3362" y="11365"/>
                  <a:pt x="3497" y="11336"/>
                </a:cubicBezTo>
              </a:path>
              <a:path w="5533" h="1315">
                <a:moveTo>
                  <a:pt x="3870" y="10988"/>
                </a:moveTo>
                <a:cubicBezTo>
                  <a:pt x="3834" y="11079"/>
                  <a:pt x="3691" y="11357"/>
                  <a:pt x="3696" y="11485"/>
                </a:cubicBezTo>
                <a:cubicBezTo>
                  <a:pt x="3699" y="11559"/>
                  <a:pt x="3732" y="11641"/>
                  <a:pt x="3795" y="11683"/>
                </a:cubicBezTo>
                <a:cubicBezTo>
                  <a:pt x="3856" y="11724"/>
                  <a:pt x="3954" y="11747"/>
                  <a:pt x="4018" y="11708"/>
                </a:cubicBezTo>
                <a:cubicBezTo>
                  <a:pt x="4081" y="11669"/>
                  <a:pt x="4128" y="11553"/>
                  <a:pt x="4142" y="11485"/>
                </a:cubicBezTo>
                <a:cubicBezTo>
                  <a:pt x="4142" y="11435"/>
                  <a:pt x="4142" y="11418"/>
                  <a:pt x="4142" y="11385"/>
                </a:cubicBezTo>
                <a:cubicBezTo>
                  <a:pt x="4084" y="11327"/>
                  <a:pt x="4011" y="11323"/>
                  <a:pt x="3944" y="11385"/>
                </a:cubicBezTo>
                <a:cubicBezTo>
                  <a:pt x="3909" y="11417"/>
                  <a:pt x="3868" y="11538"/>
                  <a:pt x="3894" y="11584"/>
                </a:cubicBezTo>
                <a:cubicBezTo>
                  <a:pt x="3938" y="11662"/>
                  <a:pt x="4042" y="11675"/>
                  <a:pt x="4118" y="11683"/>
                </a:cubicBezTo>
              </a:path>
              <a:path w="5533" h="1315">
                <a:moveTo>
                  <a:pt x="4366" y="11261"/>
                </a:moveTo>
                <a:cubicBezTo>
                  <a:pt x="4423" y="11497"/>
                  <a:pt x="4425" y="11590"/>
                  <a:pt x="4614" y="11733"/>
                </a:cubicBezTo>
                <a:cubicBezTo>
                  <a:pt x="4680" y="11783"/>
                  <a:pt x="4712" y="11797"/>
                  <a:pt x="4787" y="11807"/>
                </a:cubicBezTo>
              </a:path>
              <a:path w="5533" h="1315">
                <a:moveTo>
                  <a:pt x="4589" y="11286"/>
                </a:moveTo>
                <a:cubicBezTo>
                  <a:pt x="4470" y="11451"/>
                  <a:pt x="4171" y="11643"/>
                  <a:pt x="4291" y="11807"/>
                </a:cubicBezTo>
                <a:cubicBezTo>
                  <a:pt x="4308" y="11807"/>
                  <a:pt x="4324" y="11807"/>
                  <a:pt x="4341" y="11807"/>
                </a:cubicBezTo>
              </a:path>
              <a:path w="5533" h="1315">
                <a:moveTo>
                  <a:pt x="4936" y="11187"/>
                </a:moveTo>
                <a:cubicBezTo>
                  <a:pt x="4955" y="11329"/>
                  <a:pt x="4968" y="11470"/>
                  <a:pt x="4986" y="11609"/>
                </a:cubicBezTo>
                <a:cubicBezTo>
                  <a:pt x="4986" y="11658"/>
                  <a:pt x="4986" y="11675"/>
                  <a:pt x="4986" y="11708"/>
                </a:cubicBezTo>
              </a:path>
              <a:path w="5533" h="1315">
                <a:moveTo>
                  <a:pt x="4762" y="11435"/>
                </a:moveTo>
                <a:cubicBezTo>
                  <a:pt x="4913" y="11435"/>
                  <a:pt x="4960" y="11444"/>
                  <a:pt x="5085" y="11410"/>
                </a:cubicBezTo>
              </a:path>
              <a:path w="5533" h="1315">
                <a:moveTo>
                  <a:pt x="5308" y="11013"/>
                </a:moveTo>
                <a:cubicBezTo>
                  <a:pt x="5435" y="10959"/>
                  <a:pt x="5473" y="10941"/>
                  <a:pt x="5581" y="11038"/>
                </a:cubicBezTo>
                <a:cubicBezTo>
                  <a:pt x="5642" y="11093"/>
                  <a:pt x="5673" y="11153"/>
                  <a:pt x="5655" y="11237"/>
                </a:cubicBezTo>
                <a:cubicBezTo>
                  <a:pt x="5631" y="11353"/>
                  <a:pt x="5548" y="11355"/>
                  <a:pt x="5482" y="11435"/>
                </a:cubicBezTo>
                <a:cubicBezTo>
                  <a:pt x="5410" y="11523"/>
                  <a:pt x="5413" y="11597"/>
                  <a:pt x="5507" y="11658"/>
                </a:cubicBezTo>
                <a:cubicBezTo>
                  <a:pt x="5603" y="11721"/>
                  <a:pt x="5676" y="11709"/>
                  <a:pt x="5779" y="11683"/>
                </a:cubicBezTo>
              </a:path>
              <a:path w="5533" h="1315">
                <a:moveTo>
                  <a:pt x="5978" y="10964"/>
                </a:moveTo>
                <a:cubicBezTo>
                  <a:pt x="6069" y="10933"/>
                  <a:pt x="6158" y="10982"/>
                  <a:pt x="6226" y="10914"/>
                </a:cubicBezTo>
              </a:path>
              <a:path w="5533" h="1315">
                <a:moveTo>
                  <a:pt x="6003" y="10939"/>
                </a:moveTo>
                <a:cubicBezTo>
                  <a:pt x="5870" y="10996"/>
                  <a:pt x="5832" y="10981"/>
                  <a:pt x="5804" y="11063"/>
                </a:cubicBezTo>
                <a:cubicBezTo>
                  <a:pt x="5854" y="11124"/>
                  <a:pt x="5885" y="11168"/>
                  <a:pt x="5953" y="11212"/>
                </a:cubicBezTo>
                <a:cubicBezTo>
                  <a:pt x="6029" y="11261"/>
                  <a:pt x="6174" y="11335"/>
                  <a:pt x="6226" y="11410"/>
                </a:cubicBezTo>
                <a:cubicBezTo>
                  <a:pt x="6263" y="11463"/>
                  <a:pt x="6269" y="11606"/>
                  <a:pt x="6226" y="11658"/>
                </a:cubicBezTo>
                <a:cubicBezTo>
                  <a:pt x="6176" y="11719"/>
                  <a:pt x="6069" y="11708"/>
                  <a:pt x="6003" y="11708"/>
                </a:cubicBezTo>
                <a:cubicBezTo>
                  <a:pt x="5931" y="11708"/>
                  <a:pt x="5872" y="11681"/>
                  <a:pt x="5804" y="11658"/>
                </a:cubicBezTo>
              </a:path>
              <a:path w="5533" h="1315">
                <a:moveTo>
                  <a:pt x="6573" y="11212"/>
                </a:moveTo>
                <a:cubicBezTo>
                  <a:pt x="6656" y="11212"/>
                  <a:pt x="6738" y="11212"/>
                  <a:pt x="6821" y="11212"/>
                </a:cubicBezTo>
              </a:path>
              <a:path w="5533" h="1315">
                <a:moveTo>
                  <a:pt x="6548" y="11460"/>
                </a:moveTo>
                <a:cubicBezTo>
                  <a:pt x="6632" y="11513"/>
                  <a:pt x="6695" y="11555"/>
                  <a:pt x="6796" y="11559"/>
                </a:cubicBezTo>
                <a:cubicBezTo>
                  <a:pt x="6821" y="11559"/>
                  <a:pt x="6846" y="11559"/>
                  <a:pt x="6871" y="11559"/>
                </a:cubicBezTo>
              </a:path>
              <a:path w="5533" h="1315">
                <a:moveTo>
                  <a:pt x="7218" y="11112"/>
                </a:moveTo>
                <a:cubicBezTo>
                  <a:pt x="7129" y="11229"/>
                  <a:pt x="7011" y="11329"/>
                  <a:pt x="7069" y="11485"/>
                </a:cubicBezTo>
                <a:cubicBezTo>
                  <a:pt x="7129" y="11644"/>
                  <a:pt x="7269" y="11778"/>
                  <a:pt x="7417" y="11857"/>
                </a:cubicBezTo>
                <a:cubicBezTo>
                  <a:pt x="7508" y="11905"/>
                  <a:pt x="7619" y="11926"/>
                  <a:pt x="7714" y="11881"/>
                </a:cubicBezTo>
                <a:cubicBezTo>
                  <a:pt x="7836" y="11823"/>
                  <a:pt x="7915" y="11744"/>
                  <a:pt x="7938" y="11609"/>
                </a:cubicBezTo>
                <a:cubicBezTo>
                  <a:pt x="7961" y="11473"/>
                  <a:pt x="7920" y="11357"/>
                  <a:pt x="7863" y="11237"/>
                </a:cubicBezTo>
                <a:cubicBezTo>
                  <a:pt x="7793" y="11089"/>
                  <a:pt x="7652" y="10976"/>
                  <a:pt x="7491" y="10964"/>
                </a:cubicBezTo>
                <a:cubicBezTo>
                  <a:pt x="7398" y="10957"/>
                  <a:pt x="7369" y="10989"/>
                  <a:pt x="7293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1" name="Ink 25"/>
          <p:cNvSpPr/>
          <p:nvPr/>
        </p:nvSpPr>
        <p:spPr>
          <a:xfrm>
            <a:off x="554040" y="4473720"/>
            <a:ext cx="2990880" cy="447480"/>
          </a:xfrm>
          <a:custGeom>
            <a:avLst/>
            <a:gdLst/>
            <a:ahLst/>
            <a:rect l="l" t="t" r="r" b="b"/>
            <a:pathLst>
              <a:path w="8310" h="1241">
                <a:moveTo>
                  <a:pt x="1538" y="12675"/>
                </a:moveTo>
                <a:cubicBezTo>
                  <a:pt x="1573" y="12779"/>
                  <a:pt x="1616" y="12875"/>
                  <a:pt x="1662" y="12973"/>
                </a:cubicBezTo>
                <a:cubicBezTo>
                  <a:pt x="1725" y="13106"/>
                  <a:pt x="1772" y="13276"/>
                  <a:pt x="1860" y="13395"/>
                </a:cubicBezTo>
                <a:cubicBezTo>
                  <a:pt x="1926" y="13484"/>
                  <a:pt x="2027" y="13575"/>
                  <a:pt x="2108" y="13643"/>
                </a:cubicBezTo>
                <a:cubicBezTo>
                  <a:pt x="2116" y="13651"/>
                  <a:pt x="2125" y="13659"/>
                  <a:pt x="2133" y="13667"/>
                </a:cubicBezTo>
              </a:path>
              <a:path w="8310" h="1241">
                <a:moveTo>
                  <a:pt x="1935" y="12675"/>
                </a:moveTo>
                <a:cubicBezTo>
                  <a:pt x="1855" y="12791"/>
                  <a:pt x="1782" y="12913"/>
                  <a:pt x="1736" y="13047"/>
                </a:cubicBezTo>
                <a:cubicBezTo>
                  <a:pt x="1699" y="13156"/>
                  <a:pt x="1666" y="13281"/>
                  <a:pt x="1662" y="13395"/>
                </a:cubicBezTo>
                <a:cubicBezTo>
                  <a:pt x="1662" y="13469"/>
                  <a:pt x="1662" y="13494"/>
                  <a:pt x="1662" y="13543"/>
                </a:cubicBezTo>
              </a:path>
              <a:path w="8310" h="1241">
                <a:moveTo>
                  <a:pt x="2208" y="13022"/>
                </a:moveTo>
                <a:cubicBezTo>
                  <a:pt x="2257" y="13022"/>
                  <a:pt x="2307" y="13022"/>
                  <a:pt x="2356" y="13022"/>
                </a:cubicBezTo>
              </a:path>
              <a:path w="8310" h="1241">
                <a:moveTo>
                  <a:pt x="2133" y="13246"/>
                </a:moveTo>
                <a:cubicBezTo>
                  <a:pt x="2266" y="13259"/>
                  <a:pt x="2375" y="13271"/>
                  <a:pt x="2505" y="13271"/>
                </a:cubicBezTo>
              </a:path>
              <a:path w="8310" h="1241">
                <a:moveTo>
                  <a:pt x="3051" y="12650"/>
                </a:moveTo>
                <a:cubicBezTo>
                  <a:pt x="3030" y="12747"/>
                  <a:pt x="3016" y="12831"/>
                  <a:pt x="2977" y="12923"/>
                </a:cubicBezTo>
                <a:cubicBezTo>
                  <a:pt x="2943" y="13004"/>
                  <a:pt x="2952" y="13083"/>
                  <a:pt x="2952" y="13171"/>
                </a:cubicBezTo>
                <a:cubicBezTo>
                  <a:pt x="2952" y="13241"/>
                  <a:pt x="2999" y="13347"/>
                  <a:pt x="3051" y="13395"/>
                </a:cubicBezTo>
                <a:cubicBezTo>
                  <a:pt x="3106" y="13446"/>
                  <a:pt x="3173" y="13490"/>
                  <a:pt x="3249" y="13494"/>
                </a:cubicBezTo>
                <a:cubicBezTo>
                  <a:pt x="3371" y="13501"/>
                  <a:pt x="3368" y="13459"/>
                  <a:pt x="3398" y="13370"/>
                </a:cubicBezTo>
                <a:cubicBezTo>
                  <a:pt x="3426" y="13287"/>
                  <a:pt x="3426" y="13249"/>
                  <a:pt x="3373" y="13171"/>
                </a:cubicBezTo>
                <a:cubicBezTo>
                  <a:pt x="3290" y="13049"/>
                  <a:pt x="3155" y="13133"/>
                  <a:pt x="3150" y="13246"/>
                </a:cubicBezTo>
                <a:cubicBezTo>
                  <a:pt x="3146" y="13338"/>
                  <a:pt x="3153" y="13432"/>
                  <a:pt x="3175" y="13519"/>
                </a:cubicBezTo>
                <a:cubicBezTo>
                  <a:pt x="3175" y="13511"/>
                  <a:pt x="3175" y="13502"/>
                  <a:pt x="3175" y="13494"/>
                </a:cubicBezTo>
              </a:path>
              <a:path w="8310" h="1241">
                <a:moveTo>
                  <a:pt x="3845" y="12650"/>
                </a:moveTo>
                <a:cubicBezTo>
                  <a:pt x="3820" y="12775"/>
                  <a:pt x="3828" y="12829"/>
                  <a:pt x="3845" y="12948"/>
                </a:cubicBezTo>
                <a:cubicBezTo>
                  <a:pt x="3854" y="13008"/>
                  <a:pt x="3844" y="13045"/>
                  <a:pt x="3870" y="13097"/>
                </a:cubicBezTo>
              </a:path>
              <a:path w="8310" h="1241">
                <a:moveTo>
                  <a:pt x="3572" y="12849"/>
                </a:moveTo>
                <a:cubicBezTo>
                  <a:pt x="3664" y="12849"/>
                  <a:pt x="3732" y="12869"/>
                  <a:pt x="3820" y="12898"/>
                </a:cubicBezTo>
                <a:cubicBezTo>
                  <a:pt x="3885" y="12920"/>
                  <a:pt x="3900" y="12928"/>
                  <a:pt x="3944" y="12923"/>
                </a:cubicBezTo>
              </a:path>
              <a:path w="8310" h="1241">
                <a:moveTo>
                  <a:pt x="3770" y="13171"/>
                </a:moveTo>
                <a:cubicBezTo>
                  <a:pt x="3878" y="13198"/>
                  <a:pt x="3941" y="13206"/>
                  <a:pt x="4043" y="13196"/>
                </a:cubicBezTo>
                <a:cubicBezTo>
                  <a:pt x="4060" y="13196"/>
                  <a:pt x="4076" y="13196"/>
                  <a:pt x="4093" y="13196"/>
                </a:cubicBezTo>
              </a:path>
              <a:path w="8310" h="1241">
                <a:moveTo>
                  <a:pt x="4440" y="12675"/>
                </a:moveTo>
                <a:cubicBezTo>
                  <a:pt x="4426" y="12760"/>
                  <a:pt x="4417" y="12833"/>
                  <a:pt x="4415" y="12923"/>
                </a:cubicBezTo>
                <a:cubicBezTo>
                  <a:pt x="4413" y="13036"/>
                  <a:pt x="4437" y="13134"/>
                  <a:pt x="4440" y="13246"/>
                </a:cubicBezTo>
                <a:cubicBezTo>
                  <a:pt x="4442" y="13334"/>
                  <a:pt x="4456" y="13408"/>
                  <a:pt x="4465" y="13494"/>
                </a:cubicBezTo>
                <a:cubicBezTo>
                  <a:pt x="4465" y="13510"/>
                  <a:pt x="4465" y="13527"/>
                  <a:pt x="4465" y="13543"/>
                </a:cubicBezTo>
                <a:cubicBezTo>
                  <a:pt x="4432" y="13473"/>
                  <a:pt x="4419" y="13453"/>
                  <a:pt x="4415" y="13370"/>
                </a:cubicBezTo>
                <a:cubicBezTo>
                  <a:pt x="4406" y="13161"/>
                  <a:pt x="4425" y="12953"/>
                  <a:pt x="4440" y="12750"/>
                </a:cubicBezTo>
                <a:cubicBezTo>
                  <a:pt x="4448" y="12644"/>
                  <a:pt x="4440" y="12534"/>
                  <a:pt x="4440" y="12427"/>
                </a:cubicBezTo>
                <a:cubicBezTo>
                  <a:pt x="4530" y="12432"/>
                  <a:pt x="4601" y="12436"/>
                  <a:pt x="4688" y="12452"/>
                </a:cubicBezTo>
                <a:cubicBezTo>
                  <a:pt x="4824" y="12477"/>
                  <a:pt x="4972" y="12493"/>
                  <a:pt x="5110" y="12502"/>
                </a:cubicBezTo>
                <a:cubicBezTo>
                  <a:pt x="5257" y="12512"/>
                  <a:pt x="5410" y="12508"/>
                  <a:pt x="5556" y="12526"/>
                </a:cubicBezTo>
                <a:cubicBezTo>
                  <a:pt x="5731" y="12547"/>
                  <a:pt x="5899" y="12551"/>
                  <a:pt x="6077" y="12551"/>
                </a:cubicBezTo>
                <a:cubicBezTo>
                  <a:pt x="6269" y="12551"/>
                  <a:pt x="6455" y="12576"/>
                  <a:pt x="6648" y="12576"/>
                </a:cubicBezTo>
                <a:cubicBezTo>
                  <a:pt x="6848" y="12576"/>
                  <a:pt x="7042" y="12601"/>
                  <a:pt x="7243" y="12601"/>
                </a:cubicBezTo>
                <a:cubicBezTo>
                  <a:pt x="7494" y="12601"/>
                  <a:pt x="7740" y="12606"/>
                  <a:pt x="7987" y="12626"/>
                </a:cubicBezTo>
                <a:cubicBezTo>
                  <a:pt x="8084" y="12634"/>
                  <a:pt x="8273" y="12655"/>
                  <a:pt x="8359" y="12601"/>
                </a:cubicBezTo>
                <a:cubicBezTo>
                  <a:pt x="8416" y="12601"/>
                  <a:pt x="8428" y="12596"/>
                  <a:pt x="8359" y="12551"/>
                </a:cubicBezTo>
              </a:path>
              <a:path w="8310" h="1241">
                <a:moveTo>
                  <a:pt x="4887" y="12675"/>
                </a:moveTo>
                <a:cubicBezTo>
                  <a:pt x="4887" y="12765"/>
                  <a:pt x="4876" y="12839"/>
                  <a:pt x="4862" y="12923"/>
                </a:cubicBezTo>
                <a:cubicBezTo>
                  <a:pt x="4850" y="12996"/>
                  <a:pt x="4821" y="13076"/>
                  <a:pt x="4812" y="13146"/>
                </a:cubicBezTo>
                <a:cubicBezTo>
                  <a:pt x="4803" y="13217"/>
                  <a:pt x="4833" y="13306"/>
                  <a:pt x="4862" y="13370"/>
                </a:cubicBezTo>
                <a:cubicBezTo>
                  <a:pt x="4890" y="13433"/>
                  <a:pt x="4927" y="13439"/>
                  <a:pt x="4986" y="13469"/>
                </a:cubicBezTo>
              </a:path>
              <a:path w="8310" h="1241">
                <a:moveTo>
                  <a:pt x="5011" y="13022"/>
                </a:moveTo>
                <a:cubicBezTo>
                  <a:pt x="5123" y="13000"/>
                  <a:pt x="5178" y="13009"/>
                  <a:pt x="5283" y="13022"/>
                </a:cubicBezTo>
              </a:path>
              <a:path w="8310" h="1241">
                <a:moveTo>
                  <a:pt x="5556" y="12824"/>
                </a:moveTo>
                <a:cubicBezTo>
                  <a:pt x="5509" y="12899"/>
                  <a:pt x="5462" y="12959"/>
                  <a:pt x="5457" y="13047"/>
                </a:cubicBezTo>
                <a:cubicBezTo>
                  <a:pt x="5453" y="13123"/>
                  <a:pt x="5463" y="13181"/>
                  <a:pt x="5507" y="13246"/>
                </a:cubicBezTo>
                <a:cubicBezTo>
                  <a:pt x="5547" y="13305"/>
                  <a:pt x="5631" y="13310"/>
                  <a:pt x="5680" y="13271"/>
                </a:cubicBezTo>
                <a:cubicBezTo>
                  <a:pt x="5744" y="13221"/>
                  <a:pt x="5772" y="13098"/>
                  <a:pt x="5755" y="13022"/>
                </a:cubicBezTo>
                <a:cubicBezTo>
                  <a:pt x="5730" y="12998"/>
                  <a:pt x="5721" y="12990"/>
                  <a:pt x="5705" y="12973"/>
                </a:cubicBezTo>
                <a:cubicBezTo>
                  <a:pt x="5606" y="12985"/>
                  <a:pt x="5610" y="12991"/>
                  <a:pt x="5581" y="13072"/>
                </a:cubicBezTo>
                <a:cubicBezTo>
                  <a:pt x="5552" y="13154"/>
                  <a:pt x="5575" y="13204"/>
                  <a:pt x="5631" y="13271"/>
                </a:cubicBezTo>
                <a:cubicBezTo>
                  <a:pt x="5639" y="13279"/>
                  <a:pt x="5647" y="13287"/>
                  <a:pt x="5655" y="13295"/>
                </a:cubicBezTo>
              </a:path>
              <a:path w="8310" h="1241">
                <a:moveTo>
                  <a:pt x="5928" y="12675"/>
                </a:moveTo>
                <a:cubicBezTo>
                  <a:pt x="5978" y="12790"/>
                  <a:pt x="6038" y="12920"/>
                  <a:pt x="6052" y="13047"/>
                </a:cubicBezTo>
                <a:cubicBezTo>
                  <a:pt x="6065" y="13163"/>
                  <a:pt x="6066" y="13309"/>
                  <a:pt x="6028" y="13419"/>
                </a:cubicBezTo>
                <a:cubicBezTo>
                  <a:pt x="6011" y="13468"/>
                  <a:pt x="6005" y="13593"/>
                  <a:pt x="5928" y="13593"/>
                </a:cubicBezTo>
                <a:cubicBezTo>
                  <a:pt x="5864" y="13593"/>
                  <a:pt x="5899" y="13511"/>
                  <a:pt x="5904" y="13494"/>
                </a:cubicBezTo>
              </a:path>
              <a:path w="8310" h="1241">
                <a:moveTo>
                  <a:pt x="6276" y="12750"/>
                </a:moveTo>
                <a:cubicBezTo>
                  <a:pt x="6370" y="12750"/>
                  <a:pt x="6390" y="12729"/>
                  <a:pt x="6424" y="12774"/>
                </a:cubicBezTo>
                <a:cubicBezTo>
                  <a:pt x="6414" y="12888"/>
                  <a:pt x="6409" y="12885"/>
                  <a:pt x="6325" y="12948"/>
                </a:cubicBezTo>
                <a:cubicBezTo>
                  <a:pt x="6277" y="12984"/>
                  <a:pt x="6259" y="13037"/>
                  <a:pt x="6325" y="13072"/>
                </a:cubicBezTo>
                <a:cubicBezTo>
                  <a:pt x="6390" y="13094"/>
                  <a:pt x="6405" y="13102"/>
                  <a:pt x="6449" y="13097"/>
                </a:cubicBezTo>
              </a:path>
              <a:path w="8310" h="1241">
                <a:moveTo>
                  <a:pt x="6548" y="13246"/>
                </a:moveTo>
                <a:cubicBezTo>
                  <a:pt x="6728" y="13273"/>
                  <a:pt x="6695" y="13286"/>
                  <a:pt x="6846" y="13221"/>
                </a:cubicBezTo>
              </a:path>
              <a:path w="8310" h="1241">
                <a:moveTo>
                  <a:pt x="6995" y="12973"/>
                </a:moveTo>
                <a:cubicBezTo>
                  <a:pt x="6960" y="13043"/>
                  <a:pt x="6963" y="13084"/>
                  <a:pt x="7020" y="13146"/>
                </a:cubicBezTo>
                <a:cubicBezTo>
                  <a:pt x="7080" y="13211"/>
                  <a:pt x="7134" y="13235"/>
                  <a:pt x="7218" y="13246"/>
                </a:cubicBezTo>
              </a:path>
              <a:path w="8310" h="1241">
                <a:moveTo>
                  <a:pt x="7342" y="12774"/>
                </a:moveTo>
                <a:cubicBezTo>
                  <a:pt x="7267" y="12857"/>
                  <a:pt x="7202" y="12924"/>
                  <a:pt x="7218" y="13047"/>
                </a:cubicBezTo>
                <a:cubicBezTo>
                  <a:pt x="7232" y="13160"/>
                  <a:pt x="7273" y="13260"/>
                  <a:pt x="7293" y="13370"/>
                </a:cubicBezTo>
                <a:cubicBezTo>
                  <a:pt x="7293" y="13414"/>
                  <a:pt x="7290" y="13427"/>
                  <a:pt x="7317" y="13444"/>
                </a:cubicBezTo>
              </a:path>
              <a:path w="8310" h="1241">
                <a:moveTo>
                  <a:pt x="7565" y="12824"/>
                </a:moveTo>
                <a:cubicBezTo>
                  <a:pt x="7507" y="12919"/>
                  <a:pt x="7490" y="12964"/>
                  <a:pt x="7466" y="13072"/>
                </a:cubicBezTo>
                <a:cubicBezTo>
                  <a:pt x="7444" y="13170"/>
                  <a:pt x="7459" y="13301"/>
                  <a:pt x="7516" y="13395"/>
                </a:cubicBezTo>
                <a:cubicBezTo>
                  <a:pt x="7548" y="13448"/>
                  <a:pt x="7593" y="13485"/>
                  <a:pt x="7640" y="13519"/>
                </a:cubicBezTo>
              </a:path>
              <a:path w="8310" h="1241">
                <a:moveTo>
                  <a:pt x="7913" y="12948"/>
                </a:moveTo>
                <a:cubicBezTo>
                  <a:pt x="7880" y="13061"/>
                  <a:pt x="7854" y="13180"/>
                  <a:pt x="7838" y="13295"/>
                </a:cubicBezTo>
                <a:cubicBezTo>
                  <a:pt x="7829" y="13364"/>
                  <a:pt x="7849" y="13413"/>
                  <a:pt x="7863" y="13469"/>
                </a:cubicBezTo>
              </a:path>
              <a:path w="8310" h="1241">
                <a:moveTo>
                  <a:pt x="8037" y="12725"/>
                </a:moveTo>
                <a:cubicBezTo>
                  <a:pt x="8095" y="12894"/>
                  <a:pt x="8183" y="13086"/>
                  <a:pt x="8161" y="13271"/>
                </a:cubicBezTo>
                <a:cubicBezTo>
                  <a:pt x="8153" y="13341"/>
                  <a:pt x="8090" y="13479"/>
                  <a:pt x="8012" y="13494"/>
                </a:cubicBezTo>
                <a:cubicBezTo>
                  <a:pt x="7984" y="13466"/>
                  <a:pt x="7975" y="13452"/>
                  <a:pt x="7987" y="13419"/>
                </a:cubicBezTo>
              </a:path>
              <a:path w="8310" h="1241">
                <a:moveTo>
                  <a:pt x="8409" y="12750"/>
                </a:moveTo>
                <a:cubicBezTo>
                  <a:pt x="8344" y="12878"/>
                  <a:pt x="8334" y="12928"/>
                  <a:pt x="8334" y="13072"/>
                </a:cubicBezTo>
                <a:cubicBezTo>
                  <a:pt x="8334" y="13175"/>
                  <a:pt x="8359" y="13302"/>
                  <a:pt x="8409" y="13395"/>
                </a:cubicBezTo>
                <a:cubicBezTo>
                  <a:pt x="8417" y="13403"/>
                  <a:pt x="8426" y="13411"/>
                  <a:pt x="8434" y="13419"/>
                </a:cubicBezTo>
              </a:path>
              <a:path w="8310" h="1241">
                <a:moveTo>
                  <a:pt x="8706" y="12849"/>
                </a:moveTo>
                <a:cubicBezTo>
                  <a:pt x="8805" y="12828"/>
                  <a:pt x="8882" y="12792"/>
                  <a:pt x="8905" y="12923"/>
                </a:cubicBezTo>
                <a:cubicBezTo>
                  <a:pt x="8921" y="13015"/>
                  <a:pt x="8901" y="13110"/>
                  <a:pt x="8830" y="13171"/>
                </a:cubicBezTo>
                <a:cubicBezTo>
                  <a:pt x="8784" y="13211"/>
                  <a:pt x="8712" y="13238"/>
                  <a:pt x="8657" y="13246"/>
                </a:cubicBezTo>
                <a:cubicBezTo>
                  <a:pt x="8656" y="13189"/>
                  <a:pt x="8745" y="13224"/>
                  <a:pt x="8806" y="13271"/>
                </a:cubicBezTo>
                <a:cubicBezTo>
                  <a:pt x="8878" y="13327"/>
                  <a:pt x="8913" y="13359"/>
                  <a:pt x="9004" y="13370"/>
                </a:cubicBezTo>
              </a:path>
              <a:path w="8310" h="1241">
                <a:moveTo>
                  <a:pt x="9252" y="12824"/>
                </a:moveTo>
                <a:cubicBezTo>
                  <a:pt x="9329" y="12824"/>
                  <a:pt x="9358" y="12825"/>
                  <a:pt x="9426" y="12799"/>
                </a:cubicBezTo>
              </a:path>
              <a:path w="8310" h="1241">
                <a:moveTo>
                  <a:pt x="9327" y="12774"/>
                </a:moveTo>
                <a:cubicBezTo>
                  <a:pt x="9192" y="12813"/>
                  <a:pt x="9202" y="12801"/>
                  <a:pt x="9153" y="12898"/>
                </a:cubicBezTo>
                <a:cubicBezTo>
                  <a:pt x="9128" y="12948"/>
                  <a:pt x="9151" y="13011"/>
                  <a:pt x="9178" y="13072"/>
                </a:cubicBezTo>
                <a:cubicBezTo>
                  <a:pt x="9214" y="13153"/>
                  <a:pt x="9302" y="13173"/>
                  <a:pt x="9351" y="13246"/>
                </a:cubicBezTo>
                <a:cubicBezTo>
                  <a:pt x="9388" y="13302"/>
                  <a:pt x="9396" y="13321"/>
                  <a:pt x="9376" y="13370"/>
                </a:cubicBezTo>
                <a:cubicBezTo>
                  <a:pt x="9326" y="13341"/>
                  <a:pt x="9293" y="13312"/>
                  <a:pt x="9252" y="13271"/>
                </a:cubicBezTo>
                <a:cubicBezTo>
                  <a:pt x="9202" y="13222"/>
                  <a:pt x="9227" y="13153"/>
                  <a:pt x="9252" y="13097"/>
                </a:cubicBezTo>
                <a:cubicBezTo>
                  <a:pt x="9260" y="13080"/>
                  <a:pt x="9269" y="13064"/>
                  <a:pt x="9277" y="13047"/>
                </a:cubicBezTo>
              </a:path>
              <a:path w="8310" h="1241">
                <a:moveTo>
                  <a:pt x="9773" y="12849"/>
                </a:moveTo>
                <a:cubicBezTo>
                  <a:pt x="9811" y="13055"/>
                  <a:pt x="9851" y="13202"/>
                  <a:pt x="9823" y="13395"/>
                </a:cubicBezTo>
                <a:cubicBezTo>
                  <a:pt x="9823" y="13439"/>
                  <a:pt x="9826" y="13453"/>
                  <a:pt x="9798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2" name="Ink 26"/>
          <p:cNvSpPr/>
          <p:nvPr/>
        </p:nvSpPr>
        <p:spPr>
          <a:xfrm>
            <a:off x="1535040" y="5106960"/>
            <a:ext cx="546120" cy="366840"/>
          </a:xfrm>
          <a:custGeom>
            <a:avLst/>
            <a:gdLst/>
            <a:ahLst/>
            <a:rect l="l" t="t" r="r" b="b"/>
            <a:pathLst>
              <a:path w="1514" h="1018">
                <a:moveTo>
                  <a:pt x="4341" y="14188"/>
                </a:moveTo>
                <a:cubicBezTo>
                  <a:pt x="4415" y="14208"/>
                  <a:pt x="4495" y="14215"/>
                  <a:pt x="4564" y="14238"/>
                </a:cubicBezTo>
                <a:cubicBezTo>
                  <a:pt x="4662" y="14271"/>
                  <a:pt x="4727" y="14324"/>
                  <a:pt x="4762" y="14412"/>
                </a:cubicBezTo>
                <a:cubicBezTo>
                  <a:pt x="4799" y="14506"/>
                  <a:pt x="4794" y="14621"/>
                  <a:pt x="4738" y="14709"/>
                </a:cubicBezTo>
                <a:cubicBezTo>
                  <a:pt x="4695" y="14776"/>
                  <a:pt x="4540" y="14841"/>
                  <a:pt x="4465" y="14858"/>
                </a:cubicBezTo>
                <a:cubicBezTo>
                  <a:pt x="4417" y="14869"/>
                  <a:pt x="4273" y="14864"/>
                  <a:pt x="4266" y="14784"/>
                </a:cubicBezTo>
                <a:cubicBezTo>
                  <a:pt x="4259" y="14703"/>
                  <a:pt x="4364" y="14619"/>
                  <a:pt x="4440" y="14660"/>
                </a:cubicBezTo>
                <a:cubicBezTo>
                  <a:pt x="4517" y="14702"/>
                  <a:pt x="4554" y="14806"/>
                  <a:pt x="4614" y="14858"/>
                </a:cubicBezTo>
                <a:cubicBezTo>
                  <a:pt x="4654" y="14878"/>
                  <a:pt x="4660" y="14887"/>
                  <a:pt x="4688" y="14883"/>
                </a:cubicBezTo>
              </a:path>
              <a:path w="1514" h="1018">
                <a:moveTo>
                  <a:pt x="5035" y="14387"/>
                </a:moveTo>
                <a:cubicBezTo>
                  <a:pt x="4988" y="14568"/>
                  <a:pt x="4938" y="14681"/>
                  <a:pt x="5011" y="14858"/>
                </a:cubicBezTo>
                <a:cubicBezTo>
                  <a:pt x="5065" y="14990"/>
                  <a:pt x="5072" y="15028"/>
                  <a:pt x="5184" y="15056"/>
                </a:cubicBezTo>
              </a:path>
              <a:path w="1514" h="1018">
                <a:moveTo>
                  <a:pt x="5383" y="14461"/>
                </a:moveTo>
                <a:cubicBezTo>
                  <a:pt x="5343" y="14579"/>
                  <a:pt x="5294" y="14687"/>
                  <a:pt x="5333" y="14808"/>
                </a:cubicBezTo>
                <a:cubicBezTo>
                  <a:pt x="5355" y="14852"/>
                  <a:pt x="5358" y="14864"/>
                  <a:pt x="5383" y="14883"/>
                </a:cubicBezTo>
              </a:path>
              <a:path w="1514" h="1018">
                <a:moveTo>
                  <a:pt x="5631" y="14238"/>
                </a:moveTo>
                <a:cubicBezTo>
                  <a:pt x="5720" y="14507"/>
                  <a:pt x="5813" y="14722"/>
                  <a:pt x="5779" y="15007"/>
                </a:cubicBezTo>
                <a:cubicBezTo>
                  <a:pt x="5765" y="15127"/>
                  <a:pt x="5741" y="15137"/>
                  <a:pt x="5655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3" name="Ink 27"/>
          <p:cNvSpPr/>
          <p:nvPr/>
        </p:nvSpPr>
        <p:spPr>
          <a:xfrm>
            <a:off x="625320" y="5232240"/>
            <a:ext cx="4392720" cy="1046160"/>
          </a:xfrm>
          <a:custGeom>
            <a:avLst/>
            <a:gdLst/>
            <a:ahLst/>
            <a:rect l="l" t="t" r="r" b="b"/>
            <a:pathLst>
              <a:path w="12205" h="2903">
                <a:moveTo>
                  <a:pt x="1836" y="15131"/>
                </a:moveTo>
                <a:cubicBezTo>
                  <a:pt x="1869" y="15256"/>
                  <a:pt x="1882" y="15411"/>
                  <a:pt x="1935" y="15528"/>
                </a:cubicBezTo>
                <a:cubicBezTo>
                  <a:pt x="2010" y="15695"/>
                  <a:pt x="2106" y="15857"/>
                  <a:pt x="2183" y="16024"/>
                </a:cubicBezTo>
                <a:cubicBezTo>
                  <a:pt x="2191" y="16049"/>
                  <a:pt x="2200" y="16073"/>
                  <a:pt x="2208" y="16098"/>
                </a:cubicBezTo>
              </a:path>
              <a:path w="12205" h="2903">
                <a:moveTo>
                  <a:pt x="2208" y="15205"/>
                </a:moveTo>
                <a:cubicBezTo>
                  <a:pt x="2121" y="15313"/>
                  <a:pt x="2044" y="15450"/>
                  <a:pt x="1984" y="15577"/>
                </a:cubicBezTo>
                <a:cubicBezTo>
                  <a:pt x="1923" y="15705"/>
                  <a:pt x="1878" y="15849"/>
                  <a:pt x="1811" y="15974"/>
                </a:cubicBezTo>
                <a:cubicBezTo>
                  <a:pt x="1771" y="16034"/>
                  <a:pt x="1768" y="16046"/>
                  <a:pt x="1736" y="16073"/>
                </a:cubicBezTo>
              </a:path>
              <a:path w="12205" h="2903">
                <a:moveTo>
                  <a:pt x="2183" y="15503"/>
                </a:moveTo>
                <a:cubicBezTo>
                  <a:pt x="2302" y="15521"/>
                  <a:pt x="2359" y="15534"/>
                  <a:pt x="2456" y="15553"/>
                </a:cubicBezTo>
              </a:path>
              <a:path w="12205" h="2903">
                <a:moveTo>
                  <a:pt x="2257" y="15801"/>
                </a:moveTo>
                <a:cubicBezTo>
                  <a:pt x="2343" y="15880"/>
                  <a:pt x="2389" y="15966"/>
                  <a:pt x="2505" y="15900"/>
                </a:cubicBezTo>
                <a:cubicBezTo>
                  <a:pt x="2574" y="15854"/>
                  <a:pt x="2594" y="15842"/>
                  <a:pt x="2629" y="15801"/>
                </a:cubicBezTo>
              </a:path>
              <a:path w="12205" h="2903">
                <a:moveTo>
                  <a:pt x="2902" y="15304"/>
                </a:moveTo>
                <a:cubicBezTo>
                  <a:pt x="2876" y="15424"/>
                  <a:pt x="2818" y="15556"/>
                  <a:pt x="2803" y="15677"/>
                </a:cubicBezTo>
                <a:cubicBezTo>
                  <a:pt x="2792" y="15766"/>
                  <a:pt x="2828" y="15921"/>
                  <a:pt x="2877" y="15999"/>
                </a:cubicBezTo>
                <a:cubicBezTo>
                  <a:pt x="2939" y="16097"/>
                  <a:pt x="3021" y="16084"/>
                  <a:pt x="3076" y="15999"/>
                </a:cubicBezTo>
                <a:cubicBezTo>
                  <a:pt x="3124" y="15925"/>
                  <a:pt x="3146" y="15835"/>
                  <a:pt x="3150" y="15751"/>
                </a:cubicBezTo>
                <a:cubicBezTo>
                  <a:pt x="3150" y="15699"/>
                  <a:pt x="3149" y="15681"/>
                  <a:pt x="3125" y="15652"/>
                </a:cubicBezTo>
                <a:cubicBezTo>
                  <a:pt x="3033" y="15686"/>
                  <a:pt x="3006" y="15742"/>
                  <a:pt x="3001" y="15850"/>
                </a:cubicBezTo>
                <a:cubicBezTo>
                  <a:pt x="2997" y="15939"/>
                  <a:pt x="2989" y="15987"/>
                  <a:pt x="3051" y="16049"/>
                </a:cubicBezTo>
              </a:path>
              <a:path w="12205" h="2903">
                <a:moveTo>
                  <a:pt x="3373" y="15131"/>
                </a:moveTo>
                <a:cubicBezTo>
                  <a:pt x="3377" y="15231"/>
                  <a:pt x="3430" y="15408"/>
                  <a:pt x="3423" y="15503"/>
                </a:cubicBezTo>
                <a:cubicBezTo>
                  <a:pt x="3415" y="15536"/>
                  <a:pt x="3406" y="15569"/>
                  <a:pt x="3398" y="15602"/>
                </a:cubicBezTo>
              </a:path>
              <a:path w="12205" h="2903">
                <a:moveTo>
                  <a:pt x="3225" y="15404"/>
                </a:moveTo>
                <a:cubicBezTo>
                  <a:pt x="3343" y="15452"/>
                  <a:pt x="3399" y="15478"/>
                  <a:pt x="3522" y="15478"/>
                </a:cubicBezTo>
              </a:path>
              <a:path w="12205" h="2903">
                <a:moveTo>
                  <a:pt x="3423" y="15825"/>
                </a:moveTo>
                <a:cubicBezTo>
                  <a:pt x="3520" y="15878"/>
                  <a:pt x="3544" y="15889"/>
                  <a:pt x="3646" y="15850"/>
                </a:cubicBezTo>
              </a:path>
              <a:path w="12205" h="2903">
                <a:moveTo>
                  <a:pt x="3919" y="15503"/>
                </a:moveTo>
                <a:cubicBezTo>
                  <a:pt x="3895" y="15679"/>
                  <a:pt x="3894" y="15846"/>
                  <a:pt x="3894" y="16024"/>
                </a:cubicBezTo>
                <a:cubicBezTo>
                  <a:pt x="3894" y="16123"/>
                  <a:pt x="3894" y="16222"/>
                  <a:pt x="3894" y="16321"/>
                </a:cubicBezTo>
                <a:cubicBezTo>
                  <a:pt x="3870" y="16281"/>
                  <a:pt x="3850" y="16198"/>
                  <a:pt x="3845" y="16148"/>
                </a:cubicBezTo>
                <a:cubicBezTo>
                  <a:pt x="3829" y="16005"/>
                  <a:pt x="3855" y="15864"/>
                  <a:pt x="3870" y="15726"/>
                </a:cubicBezTo>
                <a:cubicBezTo>
                  <a:pt x="3879" y="15648"/>
                  <a:pt x="3825" y="15543"/>
                  <a:pt x="3845" y="15478"/>
                </a:cubicBezTo>
                <a:cubicBezTo>
                  <a:pt x="3872" y="15391"/>
                  <a:pt x="3896" y="15384"/>
                  <a:pt x="3994" y="15379"/>
                </a:cubicBezTo>
                <a:cubicBezTo>
                  <a:pt x="4052" y="15376"/>
                  <a:pt x="4158" y="15392"/>
                  <a:pt x="4217" y="15404"/>
                </a:cubicBezTo>
                <a:cubicBezTo>
                  <a:pt x="4338" y="15428"/>
                  <a:pt x="4465" y="15449"/>
                  <a:pt x="4589" y="15453"/>
                </a:cubicBezTo>
                <a:cubicBezTo>
                  <a:pt x="4669" y="15456"/>
                  <a:pt x="4740" y="15461"/>
                  <a:pt x="4812" y="15429"/>
                </a:cubicBezTo>
                <a:cubicBezTo>
                  <a:pt x="4858" y="15409"/>
                  <a:pt x="4877" y="15389"/>
                  <a:pt x="4911" y="15354"/>
                </a:cubicBezTo>
              </a:path>
              <a:path w="12205" h="2903">
                <a:moveTo>
                  <a:pt x="4192" y="15726"/>
                </a:moveTo>
                <a:cubicBezTo>
                  <a:pt x="4268" y="15726"/>
                  <a:pt x="4298" y="15727"/>
                  <a:pt x="4366" y="15701"/>
                </a:cubicBezTo>
              </a:path>
              <a:path w="12205" h="2903">
                <a:moveTo>
                  <a:pt x="4465" y="15528"/>
                </a:moveTo>
                <a:cubicBezTo>
                  <a:pt x="4414" y="15636"/>
                  <a:pt x="4347" y="15708"/>
                  <a:pt x="4341" y="15825"/>
                </a:cubicBezTo>
                <a:cubicBezTo>
                  <a:pt x="4337" y="15908"/>
                  <a:pt x="4341" y="15978"/>
                  <a:pt x="4390" y="16049"/>
                </a:cubicBezTo>
                <a:cubicBezTo>
                  <a:pt x="4434" y="16112"/>
                  <a:pt x="4506" y="16108"/>
                  <a:pt x="4564" y="16073"/>
                </a:cubicBezTo>
                <a:cubicBezTo>
                  <a:pt x="4612" y="16044"/>
                  <a:pt x="4635" y="15973"/>
                  <a:pt x="4638" y="15925"/>
                </a:cubicBezTo>
                <a:cubicBezTo>
                  <a:pt x="4641" y="15869"/>
                  <a:pt x="4640" y="15845"/>
                  <a:pt x="4614" y="15801"/>
                </a:cubicBezTo>
                <a:cubicBezTo>
                  <a:pt x="4570" y="15843"/>
                  <a:pt x="4508" y="15865"/>
                  <a:pt x="4490" y="15925"/>
                </a:cubicBezTo>
                <a:cubicBezTo>
                  <a:pt x="4474" y="15981"/>
                  <a:pt x="4489" y="16055"/>
                  <a:pt x="4514" y="16098"/>
                </a:cubicBezTo>
              </a:path>
              <a:path w="12205" h="2903">
                <a:moveTo>
                  <a:pt x="4713" y="15602"/>
                </a:moveTo>
                <a:cubicBezTo>
                  <a:pt x="4721" y="15672"/>
                  <a:pt x="4733" y="15796"/>
                  <a:pt x="4787" y="15850"/>
                </a:cubicBezTo>
                <a:cubicBezTo>
                  <a:pt x="4828" y="15870"/>
                  <a:pt x="4834" y="15879"/>
                  <a:pt x="4862" y="15875"/>
                </a:cubicBezTo>
              </a:path>
              <a:path w="12205" h="2903">
                <a:moveTo>
                  <a:pt x="4986" y="15528"/>
                </a:moveTo>
                <a:cubicBezTo>
                  <a:pt x="4912" y="15683"/>
                  <a:pt x="4894" y="15767"/>
                  <a:pt x="4862" y="15925"/>
                </a:cubicBezTo>
                <a:cubicBezTo>
                  <a:pt x="4844" y="16012"/>
                  <a:pt x="4837" y="16083"/>
                  <a:pt x="4837" y="16173"/>
                </a:cubicBezTo>
              </a:path>
              <a:path w="12205" h="2903">
                <a:moveTo>
                  <a:pt x="5283" y="16049"/>
                </a:moveTo>
                <a:cubicBezTo>
                  <a:pt x="5055" y="16155"/>
                  <a:pt x="4803" y="16201"/>
                  <a:pt x="4564" y="16272"/>
                </a:cubicBezTo>
                <a:cubicBezTo>
                  <a:pt x="4376" y="16328"/>
                  <a:pt x="4183" y="16371"/>
                  <a:pt x="3994" y="16421"/>
                </a:cubicBezTo>
                <a:cubicBezTo>
                  <a:pt x="3810" y="16469"/>
                  <a:pt x="3647" y="16543"/>
                  <a:pt x="3473" y="16619"/>
                </a:cubicBezTo>
                <a:cubicBezTo>
                  <a:pt x="3426" y="16640"/>
                  <a:pt x="3390" y="16668"/>
                  <a:pt x="3349" y="16694"/>
                </a:cubicBezTo>
              </a:path>
              <a:path w="12205" h="2903">
                <a:moveTo>
                  <a:pt x="3969" y="16768"/>
                </a:moveTo>
                <a:cubicBezTo>
                  <a:pt x="4043" y="16813"/>
                  <a:pt x="4042" y="16754"/>
                  <a:pt x="4118" y="16768"/>
                </a:cubicBezTo>
                <a:cubicBezTo>
                  <a:pt x="4201" y="16783"/>
                  <a:pt x="4295" y="16903"/>
                  <a:pt x="4291" y="16991"/>
                </a:cubicBezTo>
                <a:cubicBezTo>
                  <a:pt x="4288" y="17063"/>
                  <a:pt x="4259" y="17201"/>
                  <a:pt x="4217" y="17264"/>
                </a:cubicBezTo>
                <a:cubicBezTo>
                  <a:pt x="4165" y="17342"/>
                  <a:pt x="4100" y="17338"/>
                  <a:pt x="4018" y="17338"/>
                </a:cubicBezTo>
                <a:cubicBezTo>
                  <a:pt x="3963" y="17338"/>
                  <a:pt x="3914" y="17316"/>
                  <a:pt x="3870" y="17289"/>
                </a:cubicBezTo>
                <a:cubicBezTo>
                  <a:pt x="3881" y="17199"/>
                  <a:pt x="3901" y="17181"/>
                  <a:pt x="3994" y="17165"/>
                </a:cubicBezTo>
                <a:cubicBezTo>
                  <a:pt x="4084" y="17150"/>
                  <a:pt x="4181" y="17209"/>
                  <a:pt x="4242" y="17264"/>
                </a:cubicBezTo>
                <a:cubicBezTo>
                  <a:pt x="4307" y="17323"/>
                  <a:pt x="4349" y="17390"/>
                  <a:pt x="4415" y="17438"/>
                </a:cubicBezTo>
              </a:path>
              <a:path w="12205" h="2903">
                <a:moveTo>
                  <a:pt x="5928" y="15900"/>
                </a:moveTo>
                <a:cubicBezTo>
                  <a:pt x="6024" y="15881"/>
                  <a:pt x="6104" y="15875"/>
                  <a:pt x="6201" y="15875"/>
                </a:cubicBezTo>
              </a:path>
              <a:path w="12205" h="2903">
                <a:moveTo>
                  <a:pt x="5904" y="16098"/>
                </a:moveTo>
                <a:cubicBezTo>
                  <a:pt x="5985" y="16125"/>
                  <a:pt x="6043" y="16141"/>
                  <a:pt x="6127" y="16148"/>
                </a:cubicBezTo>
              </a:path>
              <a:path w="12205" h="2903">
                <a:moveTo>
                  <a:pt x="6796" y="15081"/>
                </a:moveTo>
                <a:cubicBezTo>
                  <a:pt x="6829" y="15168"/>
                  <a:pt x="6856" y="15243"/>
                  <a:pt x="6896" y="15329"/>
                </a:cubicBezTo>
                <a:cubicBezTo>
                  <a:pt x="6973" y="15498"/>
                  <a:pt x="7035" y="15648"/>
                  <a:pt x="7144" y="15801"/>
                </a:cubicBezTo>
                <a:cubicBezTo>
                  <a:pt x="7264" y="15961"/>
                  <a:pt x="7280" y="15993"/>
                  <a:pt x="7367" y="16073"/>
                </a:cubicBezTo>
              </a:path>
              <a:path w="12205" h="2903">
                <a:moveTo>
                  <a:pt x="7317" y="15032"/>
                </a:moveTo>
                <a:cubicBezTo>
                  <a:pt x="7200" y="15084"/>
                  <a:pt x="7166" y="15147"/>
                  <a:pt x="7094" y="15255"/>
                </a:cubicBezTo>
                <a:cubicBezTo>
                  <a:pt x="7020" y="15367"/>
                  <a:pt x="6942" y="15500"/>
                  <a:pt x="6896" y="15627"/>
                </a:cubicBezTo>
                <a:cubicBezTo>
                  <a:pt x="6858" y="15731"/>
                  <a:pt x="6831" y="15843"/>
                  <a:pt x="6796" y="15949"/>
                </a:cubicBezTo>
                <a:cubicBezTo>
                  <a:pt x="6772" y="16022"/>
                  <a:pt x="6764" y="16046"/>
                  <a:pt x="6772" y="16098"/>
                </a:cubicBezTo>
              </a:path>
              <a:path w="12205" h="2903">
                <a:moveTo>
                  <a:pt x="7466" y="15503"/>
                </a:moveTo>
                <a:cubicBezTo>
                  <a:pt x="7565" y="15483"/>
                  <a:pt x="7581" y="15475"/>
                  <a:pt x="7640" y="15478"/>
                </a:cubicBezTo>
              </a:path>
              <a:path w="12205" h="2903">
                <a:moveTo>
                  <a:pt x="7491" y="15602"/>
                </a:moveTo>
                <a:cubicBezTo>
                  <a:pt x="7714" y="15663"/>
                  <a:pt x="7711" y="15696"/>
                  <a:pt x="7888" y="15652"/>
                </a:cubicBezTo>
              </a:path>
              <a:path w="12205" h="2903">
                <a:moveTo>
                  <a:pt x="8210" y="14957"/>
                </a:moveTo>
                <a:cubicBezTo>
                  <a:pt x="8174" y="15031"/>
                  <a:pt x="8143" y="15105"/>
                  <a:pt x="8111" y="15180"/>
                </a:cubicBezTo>
                <a:cubicBezTo>
                  <a:pt x="8067" y="15281"/>
                  <a:pt x="8077" y="15423"/>
                  <a:pt x="8111" y="15528"/>
                </a:cubicBezTo>
                <a:cubicBezTo>
                  <a:pt x="8139" y="15616"/>
                  <a:pt x="8211" y="15744"/>
                  <a:pt x="8285" y="15801"/>
                </a:cubicBezTo>
                <a:cubicBezTo>
                  <a:pt x="8366" y="15864"/>
                  <a:pt x="8429" y="15859"/>
                  <a:pt x="8483" y="15776"/>
                </a:cubicBezTo>
                <a:cubicBezTo>
                  <a:pt x="8534" y="15697"/>
                  <a:pt x="8554" y="15620"/>
                  <a:pt x="8558" y="15528"/>
                </a:cubicBezTo>
                <a:cubicBezTo>
                  <a:pt x="8562" y="15449"/>
                  <a:pt x="8530" y="15388"/>
                  <a:pt x="8483" y="15329"/>
                </a:cubicBezTo>
                <a:cubicBezTo>
                  <a:pt x="8435" y="15378"/>
                  <a:pt x="8412" y="15407"/>
                  <a:pt x="8409" y="15478"/>
                </a:cubicBezTo>
                <a:cubicBezTo>
                  <a:pt x="8405" y="15579"/>
                  <a:pt x="8439" y="15633"/>
                  <a:pt x="8458" y="15726"/>
                </a:cubicBezTo>
                <a:cubicBezTo>
                  <a:pt x="8458" y="15778"/>
                  <a:pt x="8459" y="15796"/>
                  <a:pt x="8483" y="15825"/>
                </a:cubicBezTo>
              </a:path>
              <a:path w="12205" h="2903">
                <a:moveTo>
                  <a:pt x="8756" y="14908"/>
                </a:moveTo>
                <a:cubicBezTo>
                  <a:pt x="8781" y="14999"/>
                  <a:pt x="8802" y="15085"/>
                  <a:pt x="8806" y="15180"/>
                </a:cubicBezTo>
                <a:cubicBezTo>
                  <a:pt x="8809" y="15250"/>
                  <a:pt x="8810" y="15297"/>
                  <a:pt x="8781" y="15354"/>
                </a:cubicBezTo>
              </a:path>
              <a:path w="12205" h="2903">
                <a:moveTo>
                  <a:pt x="8607" y="15205"/>
                </a:moveTo>
                <a:cubicBezTo>
                  <a:pt x="8727" y="15192"/>
                  <a:pt x="8810" y="15205"/>
                  <a:pt x="8930" y="15205"/>
                </a:cubicBezTo>
                <a:cubicBezTo>
                  <a:pt x="8946" y="15205"/>
                  <a:pt x="8963" y="15205"/>
                  <a:pt x="8979" y="15205"/>
                </a:cubicBezTo>
              </a:path>
              <a:path w="12205" h="2903">
                <a:moveTo>
                  <a:pt x="8905" y="15577"/>
                </a:moveTo>
                <a:cubicBezTo>
                  <a:pt x="9027" y="15620"/>
                  <a:pt x="9036" y="15627"/>
                  <a:pt x="9153" y="15627"/>
                </a:cubicBezTo>
              </a:path>
              <a:path w="12205" h="2903">
                <a:moveTo>
                  <a:pt x="9624" y="14808"/>
                </a:moveTo>
                <a:cubicBezTo>
                  <a:pt x="9563" y="14741"/>
                  <a:pt x="9516" y="14656"/>
                  <a:pt x="9426" y="14709"/>
                </a:cubicBezTo>
                <a:cubicBezTo>
                  <a:pt x="9344" y="14758"/>
                  <a:pt x="9390" y="14846"/>
                  <a:pt x="9426" y="14908"/>
                </a:cubicBezTo>
                <a:cubicBezTo>
                  <a:pt x="9491" y="15020"/>
                  <a:pt x="9518" y="15141"/>
                  <a:pt x="9575" y="15255"/>
                </a:cubicBezTo>
                <a:cubicBezTo>
                  <a:pt x="9629" y="15363"/>
                  <a:pt x="9624" y="15430"/>
                  <a:pt x="9624" y="15553"/>
                </a:cubicBezTo>
                <a:cubicBezTo>
                  <a:pt x="9624" y="15612"/>
                  <a:pt x="9614" y="15612"/>
                  <a:pt x="9575" y="15652"/>
                </a:cubicBezTo>
                <a:cubicBezTo>
                  <a:pt x="9513" y="15600"/>
                  <a:pt x="9464" y="15574"/>
                  <a:pt x="9426" y="15503"/>
                </a:cubicBezTo>
                <a:cubicBezTo>
                  <a:pt x="9378" y="15411"/>
                  <a:pt x="9361" y="15356"/>
                  <a:pt x="9401" y="15255"/>
                </a:cubicBezTo>
                <a:cubicBezTo>
                  <a:pt x="9429" y="15186"/>
                  <a:pt x="9520" y="15135"/>
                  <a:pt x="9575" y="15081"/>
                </a:cubicBezTo>
                <a:cubicBezTo>
                  <a:pt x="9624" y="15032"/>
                  <a:pt x="9709" y="15011"/>
                  <a:pt x="9748" y="14957"/>
                </a:cubicBezTo>
                <a:cubicBezTo>
                  <a:pt x="9770" y="14914"/>
                  <a:pt x="9783" y="14902"/>
                  <a:pt x="9748" y="14883"/>
                </a:cubicBezTo>
              </a:path>
              <a:path w="12205" h="2903">
                <a:moveTo>
                  <a:pt x="9847" y="15230"/>
                </a:moveTo>
                <a:cubicBezTo>
                  <a:pt x="9867" y="15348"/>
                  <a:pt x="9876" y="15493"/>
                  <a:pt x="9922" y="15602"/>
                </a:cubicBezTo>
                <a:cubicBezTo>
                  <a:pt x="9944" y="15646"/>
                  <a:pt x="9947" y="15657"/>
                  <a:pt x="9971" y="15677"/>
                </a:cubicBezTo>
              </a:path>
              <a:path w="12205" h="2903">
                <a:moveTo>
                  <a:pt x="9996" y="14833"/>
                </a:moveTo>
                <a:cubicBezTo>
                  <a:pt x="10026" y="14893"/>
                  <a:pt x="10041" y="14919"/>
                  <a:pt x="10071" y="14957"/>
                </a:cubicBezTo>
              </a:path>
              <a:path w="12205" h="2903">
                <a:moveTo>
                  <a:pt x="10468" y="15478"/>
                </a:moveTo>
                <a:cubicBezTo>
                  <a:pt x="10359" y="15596"/>
                  <a:pt x="10302" y="15611"/>
                  <a:pt x="10145" y="15652"/>
                </a:cubicBezTo>
                <a:cubicBezTo>
                  <a:pt x="9937" y="15706"/>
                  <a:pt x="9731" y="15769"/>
                  <a:pt x="9525" y="15825"/>
                </a:cubicBezTo>
                <a:cubicBezTo>
                  <a:pt x="9362" y="15869"/>
                  <a:pt x="9234" y="15906"/>
                  <a:pt x="9079" y="15974"/>
                </a:cubicBezTo>
                <a:cubicBezTo>
                  <a:pt x="8938" y="16036"/>
                  <a:pt x="8780" y="16086"/>
                  <a:pt x="8657" y="16173"/>
                </a:cubicBezTo>
                <a:cubicBezTo>
                  <a:pt x="8620" y="16199"/>
                  <a:pt x="8538" y="16267"/>
                  <a:pt x="8558" y="16321"/>
                </a:cubicBezTo>
                <a:cubicBezTo>
                  <a:pt x="8566" y="16321"/>
                  <a:pt x="8574" y="16321"/>
                  <a:pt x="8582" y="16321"/>
                </a:cubicBezTo>
              </a:path>
              <a:path w="12205" h="2903">
                <a:moveTo>
                  <a:pt x="9451" y="16098"/>
                </a:moveTo>
                <a:cubicBezTo>
                  <a:pt x="9560" y="16106"/>
                  <a:pt x="9603" y="16125"/>
                  <a:pt x="9699" y="16173"/>
                </a:cubicBezTo>
                <a:cubicBezTo>
                  <a:pt x="9783" y="16215"/>
                  <a:pt x="9859" y="16293"/>
                  <a:pt x="9847" y="16396"/>
                </a:cubicBezTo>
                <a:cubicBezTo>
                  <a:pt x="9836" y="16488"/>
                  <a:pt x="9756" y="16578"/>
                  <a:pt x="9699" y="16644"/>
                </a:cubicBezTo>
                <a:cubicBezTo>
                  <a:pt x="9601" y="16758"/>
                  <a:pt x="9519" y="16775"/>
                  <a:pt x="9401" y="16818"/>
                </a:cubicBezTo>
                <a:cubicBezTo>
                  <a:pt x="9367" y="16831"/>
                  <a:pt x="9295" y="16830"/>
                  <a:pt x="9277" y="16768"/>
                </a:cubicBezTo>
                <a:cubicBezTo>
                  <a:pt x="9269" y="16741"/>
                  <a:pt x="9313" y="16641"/>
                  <a:pt x="9351" y="16644"/>
                </a:cubicBezTo>
                <a:cubicBezTo>
                  <a:pt x="9439" y="16650"/>
                  <a:pt x="9547" y="16757"/>
                  <a:pt x="9624" y="16793"/>
                </a:cubicBezTo>
                <a:cubicBezTo>
                  <a:pt x="9723" y="16839"/>
                  <a:pt x="9821" y="16875"/>
                  <a:pt x="9922" y="16917"/>
                </a:cubicBezTo>
                <a:cubicBezTo>
                  <a:pt x="10000" y="16949"/>
                  <a:pt x="10086" y="17000"/>
                  <a:pt x="10170" y="17016"/>
                </a:cubicBezTo>
                <a:cubicBezTo>
                  <a:pt x="10248" y="17031"/>
                  <a:pt x="10252" y="17017"/>
                  <a:pt x="10294" y="16966"/>
                </a:cubicBezTo>
              </a:path>
              <a:path w="12205" h="2903">
                <a:moveTo>
                  <a:pt x="10790" y="15205"/>
                </a:moveTo>
                <a:cubicBezTo>
                  <a:pt x="10886" y="15205"/>
                  <a:pt x="10969" y="15226"/>
                  <a:pt x="11063" y="15230"/>
                </a:cubicBezTo>
                <a:cubicBezTo>
                  <a:pt x="11112" y="15232"/>
                  <a:pt x="11163" y="15230"/>
                  <a:pt x="11212" y="15230"/>
                </a:cubicBezTo>
              </a:path>
              <a:path w="12205" h="2903">
                <a:moveTo>
                  <a:pt x="10864" y="15652"/>
                </a:moveTo>
                <a:cubicBezTo>
                  <a:pt x="10949" y="15732"/>
                  <a:pt x="11052" y="15860"/>
                  <a:pt x="11187" y="15850"/>
                </a:cubicBezTo>
                <a:cubicBezTo>
                  <a:pt x="11212" y="15842"/>
                  <a:pt x="11236" y="15833"/>
                  <a:pt x="11261" y="15825"/>
                </a:cubicBezTo>
              </a:path>
              <a:path w="12205" h="2903">
                <a:moveTo>
                  <a:pt x="11609" y="14957"/>
                </a:moveTo>
                <a:cubicBezTo>
                  <a:pt x="11667" y="14923"/>
                  <a:pt x="11721" y="14889"/>
                  <a:pt x="11782" y="14858"/>
                </a:cubicBezTo>
                <a:cubicBezTo>
                  <a:pt x="11854" y="14822"/>
                  <a:pt x="11925" y="14833"/>
                  <a:pt x="12005" y="14833"/>
                </a:cubicBezTo>
                <a:cubicBezTo>
                  <a:pt x="12076" y="14833"/>
                  <a:pt x="12159" y="14858"/>
                  <a:pt x="12154" y="14957"/>
                </a:cubicBezTo>
                <a:cubicBezTo>
                  <a:pt x="12149" y="15056"/>
                  <a:pt x="12020" y="15130"/>
                  <a:pt x="11956" y="15180"/>
                </a:cubicBezTo>
                <a:cubicBezTo>
                  <a:pt x="11894" y="15228"/>
                  <a:pt x="11819" y="15257"/>
                  <a:pt x="11757" y="15304"/>
                </a:cubicBezTo>
                <a:cubicBezTo>
                  <a:pt x="11749" y="15312"/>
                  <a:pt x="11741" y="15321"/>
                  <a:pt x="11733" y="15329"/>
                </a:cubicBezTo>
                <a:cubicBezTo>
                  <a:pt x="11795" y="15338"/>
                  <a:pt x="11845" y="15352"/>
                  <a:pt x="11906" y="15379"/>
                </a:cubicBezTo>
                <a:cubicBezTo>
                  <a:pt x="11965" y="15406"/>
                  <a:pt x="12033" y="15434"/>
                  <a:pt x="12080" y="15478"/>
                </a:cubicBezTo>
                <a:cubicBezTo>
                  <a:pt x="12129" y="15525"/>
                  <a:pt x="12189" y="15609"/>
                  <a:pt x="12204" y="15677"/>
                </a:cubicBezTo>
                <a:cubicBezTo>
                  <a:pt x="12216" y="15730"/>
                  <a:pt x="12181" y="15890"/>
                  <a:pt x="12129" y="15925"/>
                </a:cubicBezTo>
                <a:cubicBezTo>
                  <a:pt x="12089" y="15953"/>
                  <a:pt x="11966" y="15957"/>
                  <a:pt x="11931" y="15925"/>
                </a:cubicBezTo>
                <a:cubicBezTo>
                  <a:pt x="11889" y="15886"/>
                  <a:pt x="11835" y="15801"/>
                  <a:pt x="11807" y="15751"/>
                </a:cubicBezTo>
                <a:cubicBezTo>
                  <a:pt x="11770" y="15684"/>
                  <a:pt x="11742" y="15627"/>
                  <a:pt x="11733" y="15553"/>
                </a:cubicBezTo>
              </a:path>
              <a:path w="12205" h="2903">
                <a:moveTo>
                  <a:pt x="12576" y="14858"/>
                </a:moveTo>
                <a:cubicBezTo>
                  <a:pt x="12565" y="14955"/>
                  <a:pt x="12533" y="15055"/>
                  <a:pt x="12551" y="15156"/>
                </a:cubicBezTo>
                <a:cubicBezTo>
                  <a:pt x="12566" y="15239"/>
                  <a:pt x="12561" y="15248"/>
                  <a:pt x="12551" y="15329"/>
                </a:cubicBezTo>
              </a:path>
              <a:path w="12205" h="2903">
                <a:moveTo>
                  <a:pt x="12402" y="15056"/>
                </a:moveTo>
                <a:cubicBezTo>
                  <a:pt x="12535" y="15099"/>
                  <a:pt x="12666" y="15140"/>
                  <a:pt x="12799" y="15180"/>
                </a:cubicBezTo>
              </a:path>
              <a:path w="12205" h="2903">
                <a:moveTo>
                  <a:pt x="12576" y="15652"/>
                </a:moveTo>
                <a:cubicBezTo>
                  <a:pt x="12683" y="15705"/>
                  <a:pt x="12716" y="15742"/>
                  <a:pt x="12824" y="15701"/>
                </a:cubicBezTo>
              </a:path>
              <a:path w="12205" h="2903">
                <a:moveTo>
                  <a:pt x="13122" y="14908"/>
                </a:moveTo>
                <a:cubicBezTo>
                  <a:pt x="13081" y="14948"/>
                  <a:pt x="13019" y="14990"/>
                  <a:pt x="13022" y="15056"/>
                </a:cubicBezTo>
                <a:cubicBezTo>
                  <a:pt x="13024" y="15095"/>
                  <a:pt x="13072" y="15215"/>
                  <a:pt x="13122" y="15230"/>
                </a:cubicBezTo>
                <a:cubicBezTo>
                  <a:pt x="13178" y="15246"/>
                  <a:pt x="13272" y="15235"/>
                  <a:pt x="13320" y="15205"/>
                </a:cubicBezTo>
                <a:cubicBezTo>
                  <a:pt x="13328" y="15197"/>
                  <a:pt x="13337" y="15188"/>
                  <a:pt x="13345" y="15180"/>
                </a:cubicBezTo>
              </a:path>
              <a:path w="12205" h="2903">
                <a:moveTo>
                  <a:pt x="13469" y="14536"/>
                </a:moveTo>
                <a:cubicBezTo>
                  <a:pt x="13422" y="14677"/>
                  <a:pt x="13382" y="14809"/>
                  <a:pt x="13370" y="14957"/>
                </a:cubicBezTo>
                <a:cubicBezTo>
                  <a:pt x="13357" y="15113"/>
                  <a:pt x="13357" y="15273"/>
                  <a:pt x="13345" y="15429"/>
                </a:cubicBezTo>
                <a:cubicBezTo>
                  <a:pt x="13337" y="15537"/>
                  <a:pt x="13326" y="15645"/>
                  <a:pt x="13320" y="15751"/>
                </a:cubicBezTo>
                <a:cubicBezTo>
                  <a:pt x="13320" y="15768"/>
                  <a:pt x="13320" y="15784"/>
                  <a:pt x="13320" y="15801"/>
                </a:cubicBezTo>
              </a:path>
              <a:path w="12205" h="2903">
                <a:moveTo>
                  <a:pt x="13568" y="15429"/>
                </a:moveTo>
                <a:cubicBezTo>
                  <a:pt x="13605" y="15490"/>
                  <a:pt x="13597" y="15576"/>
                  <a:pt x="13618" y="15652"/>
                </a:cubicBezTo>
                <a:cubicBezTo>
                  <a:pt x="13642" y="15739"/>
                  <a:pt x="13634" y="15829"/>
                  <a:pt x="13692" y="15900"/>
                </a:cubicBezTo>
                <a:cubicBezTo>
                  <a:pt x="13715" y="15923"/>
                  <a:pt x="13719" y="15931"/>
                  <a:pt x="13742" y="15925"/>
                </a:cubicBezTo>
              </a:path>
              <a:path w="12205" h="2903">
                <a:moveTo>
                  <a:pt x="13940" y="14833"/>
                </a:moveTo>
                <a:cubicBezTo>
                  <a:pt x="13912" y="14907"/>
                  <a:pt x="13922" y="14910"/>
                  <a:pt x="13866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4" name="Ink 28"/>
          <p:cNvSpPr/>
          <p:nvPr/>
        </p:nvSpPr>
        <p:spPr>
          <a:xfrm>
            <a:off x="258840" y="204840"/>
            <a:ext cx="349200" cy="447480"/>
          </a:xfrm>
          <a:custGeom>
            <a:avLst/>
            <a:gdLst/>
            <a:ahLst/>
            <a:rect l="l" t="t" r="r" b="b"/>
            <a:pathLst>
              <a:path w="969" h="1241">
                <a:moveTo>
                  <a:pt x="794" y="744"/>
                </a:moveTo>
                <a:cubicBezTo>
                  <a:pt x="805" y="878"/>
                  <a:pt x="832" y="1002"/>
                  <a:pt x="819" y="1141"/>
                </a:cubicBezTo>
                <a:cubicBezTo>
                  <a:pt x="802" y="1319"/>
                  <a:pt x="773" y="1488"/>
                  <a:pt x="744" y="1662"/>
                </a:cubicBezTo>
                <a:cubicBezTo>
                  <a:pt x="742" y="1677"/>
                  <a:pt x="719" y="1827"/>
                  <a:pt x="719" y="1761"/>
                </a:cubicBezTo>
              </a:path>
              <a:path w="969" h="1241">
                <a:moveTo>
                  <a:pt x="1091" y="719"/>
                </a:moveTo>
                <a:cubicBezTo>
                  <a:pt x="1066" y="910"/>
                  <a:pt x="1047" y="1099"/>
                  <a:pt x="1017" y="1290"/>
                </a:cubicBezTo>
                <a:cubicBezTo>
                  <a:pt x="995" y="1428"/>
                  <a:pt x="967" y="1547"/>
                  <a:pt x="967" y="1687"/>
                </a:cubicBezTo>
                <a:cubicBezTo>
                  <a:pt x="967" y="1715"/>
                  <a:pt x="958" y="1865"/>
                  <a:pt x="1017" y="1786"/>
                </a:cubicBezTo>
                <a:cubicBezTo>
                  <a:pt x="1025" y="1769"/>
                  <a:pt x="1034" y="1753"/>
                  <a:pt x="1042" y="1736"/>
                </a:cubicBezTo>
              </a:path>
              <a:path w="969" h="1241">
                <a:moveTo>
                  <a:pt x="1265" y="670"/>
                </a:moveTo>
                <a:cubicBezTo>
                  <a:pt x="1294" y="822"/>
                  <a:pt x="1305" y="985"/>
                  <a:pt x="1290" y="1141"/>
                </a:cubicBezTo>
                <a:cubicBezTo>
                  <a:pt x="1277" y="1283"/>
                  <a:pt x="1245" y="1421"/>
                  <a:pt x="1240" y="1563"/>
                </a:cubicBezTo>
                <a:cubicBezTo>
                  <a:pt x="1240" y="1654"/>
                  <a:pt x="1250" y="1665"/>
                  <a:pt x="1315" y="1538"/>
                </a:cubicBezTo>
              </a:path>
              <a:path w="969" h="1241">
                <a:moveTo>
                  <a:pt x="1563" y="571"/>
                </a:moveTo>
                <a:cubicBezTo>
                  <a:pt x="1602" y="816"/>
                  <a:pt x="1602" y="1022"/>
                  <a:pt x="1588" y="1265"/>
                </a:cubicBezTo>
                <a:cubicBezTo>
                  <a:pt x="1582" y="1380"/>
                  <a:pt x="1585" y="1502"/>
                  <a:pt x="1612" y="1612"/>
                </a:cubicBezTo>
                <a:cubicBezTo>
                  <a:pt x="1630" y="1682"/>
                  <a:pt x="1642" y="1692"/>
                  <a:pt x="1687" y="17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5" name="Ink 29"/>
          <p:cNvSpPr/>
          <p:nvPr/>
        </p:nvSpPr>
        <p:spPr>
          <a:xfrm>
            <a:off x="3463920" y="1768320"/>
            <a:ext cx="1440" cy="125640"/>
          </a:xfrm>
          <a:custGeom>
            <a:avLst/>
            <a:gdLst/>
            <a:ahLst/>
            <a:rect l="l" t="t" r="r" b="b"/>
            <a:pathLst>
              <a:path w="1" h="349">
                <a:moveTo>
                  <a:pt x="9624" y="4911"/>
                </a:moveTo>
                <a:cubicBezTo>
                  <a:pt x="9624" y="5027"/>
                  <a:pt x="9624" y="5143"/>
                  <a:pt x="9624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6" name="Ink 30"/>
          <p:cNvSpPr/>
          <p:nvPr/>
        </p:nvSpPr>
        <p:spPr>
          <a:xfrm>
            <a:off x="3160800" y="1438200"/>
            <a:ext cx="9360" cy="214560"/>
          </a:xfrm>
          <a:custGeom>
            <a:avLst/>
            <a:gdLst/>
            <a:ahLst/>
            <a:rect l="l" t="t" r="r" b="b"/>
            <a:pathLst>
              <a:path w="26" h="596">
                <a:moveTo>
                  <a:pt x="8781" y="3994"/>
                </a:moveTo>
                <a:cubicBezTo>
                  <a:pt x="8781" y="4147"/>
                  <a:pt x="8786" y="4292"/>
                  <a:pt x="8806" y="4440"/>
                </a:cubicBezTo>
                <a:cubicBezTo>
                  <a:pt x="8808" y="4456"/>
                  <a:pt x="8806" y="4633"/>
                  <a:pt x="8806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7" name="Ink 31"/>
          <p:cNvSpPr/>
          <p:nvPr/>
        </p:nvSpPr>
        <p:spPr>
          <a:xfrm>
            <a:off x="3205080" y="1438200"/>
            <a:ext cx="63720" cy="160560"/>
          </a:xfrm>
          <a:custGeom>
            <a:avLst/>
            <a:gdLst/>
            <a:ahLst/>
            <a:rect l="l" t="t" r="r" b="b"/>
            <a:pathLst>
              <a:path w="175" h="447">
                <a:moveTo>
                  <a:pt x="8905" y="4093"/>
                </a:moveTo>
                <a:cubicBezTo>
                  <a:pt x="8905" y="4190"/>
                  <a:pt x="8881" y="4327"/>
                  <a:pt x="8930" y="4415"/>
                </a:cubicBezTo>
                <a:cubicBezTo>
                  <a:pt x="8971" y="4487"/>
                  <a:pt x="9042" y="4417"/>
                  <a:pt x="9054" y="4366"/>
                </a:cubicBezTo>
                <a:cubicBezTo>
                  <a:pt x="9074" y="4281"/>
                  <a:pt x="9074" y="4203"/>
                  <a:pt x="9054" y="4118"/>
                </a:cubicBezTo>
                <a:cubicBezTo>
                  <a:pt x="9042" y="4065"/>
                  <a:pt x="9005" y="3970"/>
                  <a:pt x="8930" y="3994"/>
                </a:cubicBezTo>
                <a:cubicBezTo>
                  <a:pt x="8901" y="4022"/>
                  <a:pt x="8893" y="4035"/>
                  <a:pt x="8905" y="40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8" name="Ink 32"/>
          <p:cNvSpPr/>
          <p:nvPr/>
        </p:nvSpPr>
        <p:spPr>
          <a:xfrm>
            <a:off x="3357720" y="1517760"/>
            <a:ext cx="9360" cy="135000"/>
          </a:xfrm>
          <a:custGeom>
            <a:avLst/>
            <a:gdLst/>
            <a:ahLst/>
            <a:rect l="l" t="t" r="r" b="b"/>
            <a:pathLst>
              <a:path w="25" h="373">
                <a:moveTo>
                  <a:pt x="9327" y="4217"/>
                </a:moveTo>
                <a:cubicBezTo>
                  <a:pt x="9343" y="4330"/>
                  <a:pt x="9351" y="4427"/>
                  <a:pt x="9351" y="4539"/>
                </a:cubicBezTo>
                <a:cubicBezTo>
                  <a:pt x="9351" y="4556"/>
                  <a:pt x="9351" y="4572"/>
                  <a:pt x="9351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79" name="Ink 33"/>
          <p:cNvSpPr/>
          <p:nvPr/>
        </p:nvSpPr>
        <p:spPr>
          <a:xfrm>
            <a:off x="3419640" y="1357200"/>
            <a:ext cx="18720" cy="214560"/>
          </a:xfrm>
          <a:custGeom>
            <a:avLst/>
            <a:gdLst/>
            <a:ahLst/>
            <a:rect l="l" t="t" r="r" b="b"/>
            <a:pathLst>
              <a:path w="51" h="597">
                <a:moveTo>
                  <a:pt x="9525" y="3770"/>
                </a:moveTo>
                <a:cubicBezTo>
                  <a:pt x="9533" y="3922"/>
                  <a:pt x="9540" y="4042"/>
                  <a:pt x="9525" y="4192"/>
                </a:cubicBezTo>
                <a:cubicBezTo>
                  <a:pt x="9521" y="4235"/>
                  <a:pt x="9541" y="4382"/>
                  <a:pt x="9500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0" name="Ink 34"/>
          <p:cNvSpPr/>
          <p:nvPr/>
        </p:nvSpPr>
        <p:spPr>
          <a:xfrm>
            <a:off x="3500280" y="1285920"/>
            <a:ext cx="81000" cy="36360"/>
          </a:xfrm>
          <a:custGeom>
            <a:avLst/>
            <a:gdLst/>
            <a:ahLst/>
            <a:rect l="l" t="t" r="r" b="b"/>
            <a:pathLst>
              <a:path w="225" h="100">
                <a:moveTo>
                  <a:pt x="9723" y="3671"/>
                </a:moveTo>
                <a:cubicBezTo>
                  <a:pt x="9800" y="3636"/>
                  <a:pt x="9883" y="3610"/>
                  <a:pt x="9947" y="35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1" name="Ink 35"/>
          <p:cNvSpPr/>
          <p:nvPr/>
        </p:nvSpPr>
        <p:spPr>
          <a:xfrm>
            <a:off x="3473280" y="1357200"/>
            <a:ext cx="9864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9674" y="3770"/>
                </a:moveTo>
                <a:cubicBezTo>
                  <a:pt x="9715" y="3883"/>
                  <a:pt x="9726" y="3885"/>
                  <a:pt x="9823" y="3944"/>
                </a:cubicBezTo>
                <a:cubicBezTo>
                  <a:pt x="9893" y="3987"/>
                  <a:pt x="9958" y="4017"/>
                  <a:pt x="9897" y="4093"/>
                </a:cubicBezTo>
                <a:cubicBezTo>
                  <a:pt x="9850" y="4152"/>
                  <a:pt x="9828" y="4179"/>
                  <a:pt x="9748" y="4192"/>
                </a:cubicBezTo>
                <a:cubicBezTo>
                  <a:pt x="9697" y="4192"/>
                  <a:pt x="9678" y="4191"/>
                  <a:pt x="9649" y="41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2" name="Ink 36"/>
          <p:cNvSpPr/>
          <p:nvPr/>
        </p:nvSpPr>
        <p:spPr>
          <a:xfrm>
            <a:off x="3375000" y="1347840"/>
            <a:ext cx="1440" cy="54000"/>
          </a:xfrm>
          <a:custGeom>
            <a:avLst/>
            <a:gdLst/>
            <a:ahLst/>
            <a:rect l="l" t="t" r="r" b="b"/>
            <a:pathLst>
              <a:path w="1" h="149">
                <a:moveTo>
                  <a:pt x="9376" y="3746"/>
                </a:moveTo>
                <a:cubicBezTo>
                  <a:pt x="9376" y="3795"/>
                  <a:pt x="9376" y="3845"/>
                  <a:pt x="9376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3" name="Ink 37"/>
          <p:cNvSpPr/>
          <p:nvPr/>
        </p:nvSpPr>
        <p:spPr>
          <a:xfrm>
            <a:off x="3340080" y="1374840"/>
            <a:ext cx="619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9277" y="3845"/>
                </a:moveTo>
                <a:cubicBezTo>
                  <a:pt x="9354" y="3839"/>
                  <a:pt x="9384" y="3833"/>
                  <a:pt x="9451" y="38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4" name="Ink 38"/>
          <p:cNvSpPr/>
          <p:nvPr/>
        </p:nvSpPr>
        <p:spPr>
          <a:xfrm>
            <a:off x="3348000" y="144612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9302" y="4068"/>
                </a:moveTo>
                <a:cubicBezTo>
                  <a:pt x="9389" y="4059"/>
                  <a:pt x="9378" y="4060"/>
                  <a:pt x="9451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5" name="Ink 39"/>
          <p:cNvSpPr/>
          <p:nvPr/>
        </p:nvSpPr>
        <p:spPr>
          <a:xfrm>
            <a:off x="3044880" y="1419120"/>
            <a:ext cx="936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8458" y="3944"/>
                </a:moveTo>
                <a:cubicBezTo>
                  <a:pt x="8478" y="4043"/>
                  <a:pt x="8486" y="4059"/>
                  <a:pt x="8483" y="41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6" name="Ink 40"/>
          <p:cNvSpPr/>
          <p:nvPr/>
        </p:nvSpPr>
        <p:spPr>
          <a:xfrm>
            <a:off x="3009960" y="1465200"/>
            <a:ext cx="79200" cy="79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8359" y="4093"/>
                </a:moveTo>
                <a:cubicBezTo>
                  <a:pt x="8483" y="4087"/>
                  <a:pt x="8489" y="4087"/>
                  <a:pt x="8582" y="40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7" name="Ink 41"/>
          <p:cNvSpPr/>
          <p:nvPr/>
        </p:nvSpPr>
        <p:spPr>
          <a:xfrm>
            <a:off x="3044880" y="1535040"/>
            <a:ext cx="54000" cy="28800"/>
          </a:xfrm>
          <a:custGeom>
            <a:avLst/>
            <a:gdLst/>
            <a:ahLst/>
            <a:rect l="l" t="t" r="r" b="b"/>
            <a:pathLst>
              <a:path w="150" h="76">
                <a:moveTo>
                  <a:pt x="8458" y="4341"/>
                </a:moveTo>
                <a:cubicBezTo>
                  <a:pt x="8552" y="4303"/>
                  <a:pt x="8570" y="4310"/>
                  <a:pt x="8607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8" name="Ink 42"/>
          <p:cNvSpPr/>
          <p:nvPr/>
        </p:nvSpPr>
        <p:spPr>
          <a:xfrm>
            <a:off x="3143160" y="1581120"/>
            <a:ext cx="36720" cy="79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8731" y="4415"/>
                </a:moveTo>
                <a:cubicBezTo>
                  <a:pt x="8783" y="4415"/>
                  <a:pt x="8801" y="4414"/>
                  <a:pt x="8830" y="43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9" name="Ink 43"/>
          <p:cNvSpPr/>
          <p:nvPr/>
        </p:nvSpPr>
        <p:spPr>
          <a:xfrm>
            <a:off x="1339920" y="3224160"/>
            <a:ext cx="3062160" cy="177840"/>
          </a:xfrm>
          <a:custGeom>
            <a:avLst/>
            <a:gdLst/>
            <a:ahLst/>
            <a:rect l="l" t="t" r="r" b="b"/>
            <a:pathLst>
              <a:path w="8509" h="498">
                <a:moveTo>
                  <a:pt x="3721" y="9029"/>
                </a:moveTo>
                <a:cubicBezTo>
                  <a:pt x="3798" y="9021"/>
                  <a:pt x="3864" y="9008"/>
                  <a:pt x="3944" y="9004"/>
                </a:cubicBezTo>
                <a:cubicBezTo>
                  <a:pt x="4203" y="8992"/>
                  <a:pt x="4462" y="8972"/>
                  <a:pt x="4713" y="8954"/>
                </a:cubicBezTo>
                <a:cubicBezTo>
                  <a:pt x="5153" y="8922"/>
                  <a:pt x="5597" y="8968"/>
                  <a:pt x="6028" y="9004"/>
                </a:cubicBezTo>
                <a:cubicBezTo>
                  <a:pt x="6371" y="9033"/>
                  <a:pt x="6727" y="9070"/>
                  <a:pt x="7069" y="9079"/>
                </a:cubicBezTo>
                <a:cubicBezTo>
                  <a:pt x="7373" y="9087"/>
                  <a:pt x="7653" y="9166"/>
                  <a:pt x="7962" y="9178"/>
                </a:cubicBezTo>
                <a:cubicBezTo>
                  <a:pt x="8260" y="9189"/>
                  <a:pt x="8556" y="9208"/>
                  <a:pt x="8855" y="9227"/>
                </a:cubicBezTo>
                <a:cubicBezTo>
                  <a:pt x="9163" y="9246"/>
                  <a:pt x="9467" y="9277"/>
                  <a:pt x="9773" y="9302"/>
                </a:cubicBezTo>
                <a:cubicBezTo>
                  <a:pt x="10087" y="9327"/>
                  <a:pt x="10374" y="9376"/>
                  <a:pt x="10691" y="9376"/>
                </a:cubicBezTo>
                <a:cubicBezTo>
                  <a:pt x="10957" y="9376"/>
                  <a:pt x="11198" y="9442"/>
                  <a:pt x="11460" y="9451"/>
                </a:cubicBezTo>
                <a:cubicBezTo>
                  <a:pt x="11720" y="9460"/>
                  <a:pt x="12019" y="9450"/>
                  <a:pt x="12229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0" name="Ink 44"/>
          <p:cNvSpPr/>
          <p:nvPr/>
        </p:nvSpPr>
        <p:spPr>
          <a:xfrm>
            <a:off x="1089000" y="4938840"/>
            <a:ext cx="2482920" cy="152280"/>
          </a:xfrm>
          <a:custGeom>
            <a:avLst/>
            <a:gdLst/>
            <a:ahLst/>
            <a:rect l="l" t="t" r="r" b="b"/>
            <a:pathLst>
              <a:path w="6897" h="423">
                <a:moveTo>
                  <a:pt x="9922" y="13717"/>
                </a:moveTo>
                <a:cubicBezTo>
                  <a:pt x="9756" y="13841"/>
                  <a:pt x="9723" y="13895"/>
                  <a:pt x="9525" y="13940"/>
                </a:cubicBezTo>
                <a:cubicBezTo>
                  <a:pt x="9335" y="13983"/>
                  <a:pt x="9097" y="13965"/>
                  <a:pt x="8905" y="13965"/>
                </a:cubicBezTo>
                <a:cubicBezTo>
                  <a:pt x="8606" y="13965"/>
                  <a:pt x="8310" y="13944"/>
                  <a:pt x="8012" y="13940"/>
                </a:cubicBezTo>
                <a:cubicBezTo>
                  <a:pt x="7741" y="13936"/>
                  <a:pt x="7464" y="13931"/>
                  <a:pt x="7193" y="13915"/>
                </a:cubicBezTo>
                <a:cubicBezTo>
                  <a:pt x="6862" y="13895"/>
                  <a:pt x="6533" y="13870"/>
                  <a:pt x="6201" y="13866"/>
                </a:cubicBezTo>
                <a:cubicBezTo>
                  <a:pt x="5874" y="13862"/>
                  <a:pt x="5535" y="13872"/>
                  <a:pt x="5209" y="13891"/>
                </a:cubicBezTo>
                <a:cubicBezTo>
                  <a:pt x="4912" y="13908"/>
                  <a:pt x="4612" y="13916"/>
                  <a:pt x="4316" y="13940"/>
                </a:cubicBezTo>
                <a:cubicBezTo>
                  <a:pt x="4082" y="13959"/>
                  <a:pt x="3853" y="13977"/>
                  <a:pt x="3621" y="14015"/>
                </a:cubicBezTo>
                <a:cubicBezTo>
                  <a:pt x="3469" y="14040"/>
                  <a:pt x="3324" y="14081"/>
                  <a:pt x="3175" y="14114"/>
                </a:cubicBezTo>
                <a:cubicBezTo>
                  <a:pt x="3126" y="14125"/>
                  <a:pt x="3075" y="14130"/>
                  <a:pt x="3026" y="141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1" name="Ink 45"/>
          <p:cNvSpPr/>
          <p:nvPr/>
        </p:nvSpPr>
        <p:spPr>
          <a:xfrm>
            <a:off x="5303880" y="1741320"/>
            <a:ext cx="3036960" cy="1258920"/>
          </a:xfrm>
          <a:custGeom>
            <a:avLst/>
            <a:gdLst/>
            <a:ahLst/>
            <a:rect l="l" t="t" r="r" b="b"/>
            <a:pathLst>
              <a:path w="8435" h="3498">
                <a:moveTo>
                  <a:pt x="22944" y="5234"/>
                </a:moveTo>
                <a:cubicBezTo>
                  <a:pt x="22838" y="5188"/>
                  <a:pt x="22819" y="5137"/>
                  <a:pt x="22696" y="5110"/>
                </a:cubicBezTo>
                <a:cubicBezTo>
                  <a:pt x="22579" y="5084"/>
                  <a:pt x="22419" y="5066"/>
                  <a:pt x="22299" y="5060"/>
                </a:cubicBezTo>
                <a:cubicBezTo>
                  <a:pt x="22099" y="5051"/>
                  <a:pt x="21903" y="5048"/>
                  <a:pt x="21704" y="5035"/>
                </a:cubicBezTo>
                <a:cubicBezTo>
                  <a:pt x="21457" y="5019"/>
                  <a:pt x="21207" y="4996"/>
                  <a:pt x="20960" y="4986"/>
                </a:cubicBezTo>
                <a:cubicBezTo>
                  <a:pt x="20678" y="4974"/>
                  <a:pt x="20398" y="4964"/>
                  <a:pt x="20117" y="4936"/>
                </a:cubicBezTo>
                <a:cubicBezTo>
                  <a:pt x="19811" y="4906"/>
                  <a:pt x="19506" y="4873"/>
                  <a:pt x="19199" y="4862"/>
                </a:cubicBezTo>
                <a:cubicBezTo>
                  <a:pt x="18810" y="4848"/>
                  <a:pt x="18423" y="4837"/>
                  <a:pt x="18033" y="4837"/>
                </a:cubicBezTo>
                <a:cubicBezTo>
                  <a:pt x="17727" y="4837"/>
                  <a:pt x="17420" y="4839"/>
                  <a:pt x="17115" y="4862"/>
                </a:cubicBezTo>
                <a:cubicBezTo>
                  <a:pt x="16839" y="4883"/>
                  <a:pt x="16568" y="4932"/>
                  <a:pt x="16297" y="4986"/>
                </a:cubicBezTo>
                <a:cubicBezTo>
                  <a:pt x="16098" y="5026"/>
                  <a:pt x="15891" y="5063"/>
                  <a:pt x="15701" y="5135"/>
                </a:cubicBezTo>
                <a:cubicBezTo>
                  <a:pt x="15453" y="5229"/>
                  <a:pt x="15278" y="5371"/>
                  <a:pt x="15156" y="5606"/>
                </a:cubicBezTo>
                <a:cubicBezTo>
                  <a:pt x="15075" y="5762"/>
                  <a:pt x="15018" y="5958"/>
                  <a:pt x="14982" y="6127"/>
                </a:cubicBezTo>
                <a:cubicBezTo>
                  <a:pt x="14858" y="6709"/>
                  <a:pt x="14761" y="7347"/>
                  <a:pt x="14734" y="7938"/>
                </a:cubicBezTo>
                <a:cubicBezTo>
                  <a:pt x="14729" y="8051"/>
                  <a:pt x="14705" y="8191"/>
                  <a:pt x="14784" y="8285"/>
                </a:cubicBezTo>
                <a:cubicBezTo>
                  <a:pt x="14860" y="8377"/>
                  <a:pt x="14992" y="8309"/>
                  <a:pt x="15081" y="8310"/>
                </a:cubicBezTo>
                <a:cubicBezTo>
                  <a:pt x="15197" y="8311"/>
                  <a:pt x="15297" y="8239"/>
                  <a:pt x="15404" y="8210"/>
                </a:cubicBezTo>
                <a:cubicBezTo>
                  <a:pt x="15740" y="8121"/>
                  <a:pt x="16079" y="8045"/>
                  <a:pt x="16421" y="7987"/>
                </a:cubicBezTo>
                <a:cubicBezTo>
                  <a:pt x="17122" y="7867"/>
                  <a:pt x="17820" y="7809"/>
                  <a:pt x="18529" y="7789"/>
                </a:cubicBezTo>
                <a:cubicBezTo>
                  <a:pt x="18811" y="7781"/>
                  <a:pt x="19091" y="7768"/>
                  <a:pt x="19372" y="7764"/>
                </a:cubicBezTo>
                <a:cubicBezTo>
                  <a:pt x="19736" y="7759"/>
                  <a:pt x="20100" y="7726"/>
                  <a:pt x="20464" y="7714"/>
                </a:cubicBezTo>
                <a:cubicBezTo>
                  <a:pt x="21124" y="7692"/>
                  <a:pt x="21792" y="7715"/>
                  <a:pt x="22448" y="7739"/>
                </a:cubicBezTo>
                <a:cubicBezTo>
                  <a:pt x="22530" y="7742"/>
                  <a:pt x="22757" y="7776"/>
                  <a:pt x="22820" y="7714"/>
                </a:cubicBezTo>
                <a:cubicBezTo>
                  <a:pt x="22878" y="7657"/>
                  <a:pt x="22870" y="7588"/>
                  <a:pt x="22895" y="7516"/>
                </a:cubicBezTo>
                <a:cubicBezTo>
                  <a:pt x="22936" y="7399"/>
                  <a:pt x="22962" y="7244"/>
                  <a:pt x="22994" y="7119"/>
                </a:cubicBezTo>
                <a:cubicBezTo>
                  <a:pt x="23121" y="6629"/>
                  <a:pt x="23224" y="6130"/>
                  <a:pt x="23118" y="5631"/>
                </a:cubicBezTo>
                <a:cubicBezTo>
                  <a:pt x="23090" y="5497"/>
                  <a:pt x="23050" y="5359"/>
                  <a:pt x="22994" y="5234"/>
                </a:cubicBezTo>
                <a:cubicBezTo>
                  <a:pt x="22945" y="5125"/>
                  <a:pt x="22883" y="5091"/>
                  <a:pt x="22820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3d2a6"/>
                </a:solidFill>
                <a:latin typeface="Arial"/>
              </a:rPr>
              <a:t>Lesson 2.6</a:t>
            </a:r>
            <a:endParaRPr b="0" lang="en-US" sz="7500" spc="-1" strike="noStrike">
              <a:solidFill>
                <a:srgbClr val="d3d2a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Asymptotes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maginary lines on a graph which a rational function approache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5" name="Ink 4"/>
          <p:cNvSpPr/>
          <p:nvPr/>
        </p:nvSpPr>
        <p:spPr>
          <a:xfrm>
            <a:off x="357120" y="3946680"/>
            <a:ext cx="8892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992" y="10964"/>
                </a:moveTo>
                <a:cubicBezTo>
                  <a:pt x="1075" y="10964"/>
                  <a:pt x="1157" y="10964"/>
                  <a:pt x="1240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6" name="Ink 5"/>
          <p:cNvSpPr/>
          <p:nvPr/>
        </p:nvSpPr>
        <p:spPr>
          <a:xfrm>
            <a:off x="561960" y="3946680"/>
            <a:ext cx="460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563" y="10964"/>
                </a:moveTo>
                <a:cubicBezTo>
                  <a:pt x="1621" y="10964"/>
                  <a:pt x="1646" y="10964"/>
                  <a:pt x="1687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7" name="Ink 6"/>
          <p:cNvSpPr/>
          <p:nvPr/>
        </p:nvSpPr>
        <p:spPr>
          <a:xfrm>
            <a:off x="731880" y="3946680"/>
            <a:ext cx="179280" cy="9360"/>
          </a:xfrm>
          <a:custGeom>
            <a:avLst/>
            <a:gdLst/>
            <a:ahLst/>
            <a:rect l="l" t="t" r="r" b="b"/>
            <a:pathLst>
              <a:path w="497" h="25">
                <a:moveTo>
                  <a:pt x="2034" y="10988"/>
                </a:moveTo>
                <a:cubicBezTo>
                  <a:pt x="2067" y="10988"/>
                  <a:pt x="2100" y="10988"/>
                  <a:pt x="2133" y="10988"/>
                </a:cubicBezTo>
              </a:path>
              <a:path w="497" h="25">
                <a:moveTo>
                  <a:pt x="2406" y="10964"/>
                </a:moveTo>
                <a:cubicBezTo>
                  <a:pt x="2474" y="10964"/>
                  <a:pt x="2493" y="10961"/>
                  <a:pt x="2530" y="109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8" name="Ink 7"/>
          <p:cNvSpPr/>
          <p:nvPr/>
        </p:nvSpPr>
        <p:spPr>
          <a:xfrm>
            <a:off x="1027080" y="3946680"/>
            <a:ext cx="527040" cy="18720"/>
          </a:xfrm>
          <a:custGeom>
            <a:avLst/>
            <a:gdLst/>
            <a:ahLst/>
            <a:rect l="l" t="t" r="r" b="b"/>
            <a:pathLst>
              <a:path w="1464" h="50">
                <a:moveTo>
                  <a:pt x="2853" y="10964"/>
                </a:moveTo>
                <a:cubicBezTo>
                  <a:pt x="2927" y="10964"/>
                  <a:pt x="2952" y="10964"/>
                  <a:pt x="3001" y="10964"/>
                </a:cubicBezTo>
              </a:path>
              <a:path w="1464" h="50">
                <a:moveTo>
                  <a:pt x="3274" y="10964"/>
                </a:moveTo>
                <a:cubicBezTo>
                  <a:pt x="3332" y="10964"/>
                  <a:pt x="3390" y="10964"/>
                  <a:pt x="3448" y="10964"/>
                </a:cubicBezTo>
              </a:path>
              <a:path w="1464" h="50">
                <a:moveTo>
                  <a:pt x="3696" y="10964"/>
                </a:moveTo>
                <a:cubicBezTo>
                  <a:pt x="3753" y="10972"/>
                  <a:pt x="3784" y="10988"/>
                  <a:pt x="3845" y="10988"/>
                </a:cubicBezTo>
              </a:path>
              <a:path w="1464" h="50">
                <a:moveTo>
                  <a:pt x="4093" y="10988"/>
                </a:moveTo>
                <a:cubicBezTo>
                  <a:pt x="4170" y="10995"/>
                  <a:pt x="4239" y="11006"/>
                  <a:pt x="4316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99" name="Ink 8"/>
          <p:cNvSpPr/>
          <p:nvPr/>
        </p:nvSpPr>
        <p:spPr>
          <a:xfrm>
            <a:off x="1677960" y="396396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4663" y="11013"/>
                </a:moveTo>
                <a:cubicBezTo>
                  <a:pt x="4754" y="11031"/>
                  <a:pt x="4761" y="11040"/>
                  <a:pt x="4812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0" name="Ink 9"/>
          <p:cNvSpPr/>
          <p:nvPr/>
        </p:nvSpPr>
        <p:spPr>
          <a:xfrm>
            <a:off x="1847880" y="3956040"/>
            <a:ext cx="6336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5135" y="10988"/>
                </a:moveTo>
                <a:cubicBezTo>
                  <a:pt x="5206" y="11003"/>
                  <a:pt x="5241" y="11013"/>
                  <a:pt x="5308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1" name="Ink 10"/>
          <p:cNvSpPr/>
          <p:nvPr/>
        </p:nvSpPr>
        <p:spPr>
          <a:xfrm>
            <a:off x="2054160" y="3973680"/>
            <a:ext cx="619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5705" y="11038"/>
                </a:moveTo>
                <a:cubicBezTo>
                  <a:pt x="5799" y="11045"/>
                  <a:pt x="5802" y="11052"/>
                  <a:pt x="5879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2" name="Ink 11"/>
          <p:cNvSpPr/>
          <p:nvPr/>
        </p:nvSpPr>
        <p:spPr>
          <a:xfrm>
            <a:off x="2268360" y="3786120"/>
            <a:ext cx="401760" cy="295200"/>
          </a:xfrm>
          <a:custGeom>
            <a:avLst/>
            <a:gdLst/>
            <a:ahLst/>
            <a:rect l="l" t="t" r="r" b="b"/>
            <a:pathLst>
              <a:path w="1118" h="820">
                <a:moveTo>
                  <a:pt x="6300" y="11063"/>
                </a:moveTo>
                <a:cubicBezTo>
                  <a:pt x="6358" y="11063"/>
                  <a:pt x="6383" y="11063"/>
                  <a:pt x="6424" y="11063"/>
                </a:cubicBezTo>
              </a:path>
              <a:path w="1118" h="820">
                <a:moveTo>
                  <a:pt x="6697" y="11013"/>
                </a:moveTo>
                <a:cubicBezTo>
                  <a:pt x="6816" y="11021"/>
                  <a:pt x="6807" y="11025"/>
                  <a:pt x="6896" y="11038"/>
                </a:cubicBezTo>
              </a:path>
              <a:path w="1118" h="820">
                <a:moveTo>
                  <a:pt x="6697" y="10517"/>
                </a:moveTo>
                <a:cubicBezTo>
                  <a:pt x="6869" y="10609"/>
                  <a:pt x="6983" y="10659"/>
                  <a:pt x="7144" y="10740"/>
                </a:cubicBezTo>
                <a:cubicBezTo>
                  <a:pt x="7199" y="10768"/>
                  <a:pt x="7353" y="10814"/>
                  <a:pt x="7392" y="10864"/>
                </a:cubicBezTo>
                <a:cubicBezTo>
                  <a:pt x="7445" y="10931"/>
                  <a:pt x="7415" y="11027"/>
                  <a:pt x="7367" y="11088"/>
                </a:cubicBezTo>
                <a:cubicBezTo>
                  <a:pt x="7312" y="11159"/>
                  <a:pt x="7265" y="11255"/>
                  <a:pt x="7193" y="11311"/>
                </a:cubicBezTo>
                <a:cubicBezTo>
                  <a:pt x="7177" y="11319"/>
                  <a:pt x="7160" y="11328"/>
                  <a:pt x="7144" y="113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3" name="Ink 12"/>
          <p:cNvSpPr/>
          <p:nvPr/>
        </p:nvSpPr>
        <p:spPr>
          <a:xfrm>
            <a:off x="1347840" y="3589200"/>
            <a:ext cx="73080" cy="2421000"/>
          </a:xfrm>
          <a:custGeom>
            <a:avLst/>
            <a:gdLst/>
            <a:ahLst/>
            <a:rect l="l" t="t" r="r" b="b"/>
            <a:pathLst>
              <a:path w="199" h="6724">
                <a:moveTo>
                  <a:pt x="3746" y="9971"/>
                </a:moveTo>
                <a:cubicBezTo>
                  <a:pt x="3750" y="10098"/>
                  <a:pt x="3768" y="10217"/>
                  <a:pt x="3770" y="10344"/>
                </a:cubicBezTo>
                <a:cubicBezTo>
                  <a:pt x="3774" y="10620"/>
                  <a:pt x="3792" y="10889"/>
                  <a:pt x="3820" y="11162"/>
                </a:cubicBezTo>
                <a:cubicBezTo>
                  <a:pt x="3846" y="11419"/>
                  <a:pt x="3873" y="11674"/>
                  <a:pt x="3894" y="11931"/>
                </a:cubicBezTo>
                <a:cubicBezTo>
                  <a:pt x="3919" y="12233"/>
                  <a:pt x="3944" y="12520"/>
                  <a:pt x="3944" y="12824"/>
                </a:cubicBezTo>
                <a:cubicBezTo>
                  <a:pt x="3944" y="13330"/>
                  <a:pt x="3935" y="13833"/>
                  <a:pt x="3919" y="14337"/>
                </a:cubicBezTo>
                <a:cubicBezTo>
                  <a:pt x="3905" y="14768"/>
                  <a:pt x="3860" y="15197"/>
                  <a:pt x="3845" y="15627"/>
                </a:cubicBezTo>
                <a:cubicBezTo>
                  <a:pt x="3834" y="15935"/>
                  <a:pt x="3788" y="16240"/>
                  <a:pt x="3770" y="16545"/>
                </a:cubicBezTo>
                <a:cubicBezTo>
                  <a:pt x="3770" y="16628"/>
                  <a:pt x="3770" y="16644"/>
                  <a:pt x="3770" y="166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4" name="Ink 13"/>
          <p:cNvSpPr/>
          <p:nvPr/>
        </p:nvSpPr>
        <p:spPr>
          <a:xfrm>
            <a:off x="446040" y="4633920"/>
            <a:ext cx="2081160" cy="90360"/>
          </a:xfrm>
          <a:custGeom>
            <a:avLst/>
            <a:gdLst/>
            <a:ahLst/>
            <a:rect l="l" t="t" r="r" b="b"/>
            <a:pathLst>
              <a:path w="5781" h="249">
                <a:moveTo>
                  <a:pt x="1240" y="12923"/>
                </a:moveTo>
                <a:cubicBezTo>
                  <a:pt x="1291" y="12931"/>
                  <a:pt x="1350" y="12946"/>
                  <a:pt x="1414" y="12948"/>
                </a:cubicBezTo>
                <a:cubicBezTo>
                  <a:pt x="1575" y="12952"/>
                  <a:pt x="1728" y="12936"/>
                  <a:pt x="1885" y="12923"/>
                </a:cubicBezTo>
                <a:cubicBezTo>
                  <a:pt x="2040" y="12910"/>
                  <a:pt x="2202" y="12907"/>
                  <a:pt x="2356" y="12898"/>
                </a:cubicBezTo>
                <a:cubicBezTo>
                  <a:pt x="2808" y="12871"/>
                  <a:pt x="3269" y="12891"/>
                  <a:pt x="3721" y="12874"/>
                </a:cubicBezTo>
                <a:cubicBezTo>
                  <a:pt x="4012" y="12863"/>
                  <a:pt x="4299" y="12888"/>
                  <a:pt x="4589" y="12898"/>
                </a:cubicBezTo>
                <a:cubicBezTo>
                  <a:pt x="5061" y="12915"/>
                  <a:pt x="5533" y="12899"/>
                  <a:pt x="6003" y="12923"/>
                </a:cubicBezTo>
                <a:cubicBezTo>
                  <a:pt x="6260" y="12936"/>
                  <a:pt x="6521" y="12900"/>
                  <a:pt x="6772" y="12948"/>
                </a:cubicBezTo>
                <a:cubicBezTo>
                  <a:pt x="6842" y="12961"/>
                  <a:pt x="6888" y="12974"/>
                  <a:pt x="6945" y="13022"/>
                </a:cubicBezTo>
                <a:cubicBezTo>
                  <a:pt x="7047" y="13107"/>
                  <a:pt x="6975" y="13054"/>
                  <a:pt x="7020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5" name="Ink 14"/>
          <p:cNvSpPr/>
          <p:nvPr/>
        </p:nvSpPr>
        <p:spPr>
          <a:xfrm>
            <a:off x="2419200" y="4562640"/>
            <a:ext cx="216000" cy="28728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6821" y="12675"/>
                </a:moveTo>
                <a:cubicBezTo>
                  <a:pt x="6945" y="12719"/>
                  <a:pt x="7067" y="12762"/>
                  <a:pt x="7169" y="12849"/>
                </a:cubicBezTo>
                <a:cubicBezTo>
                  <a:pt x="7227" y="12898"/>
                  <a:pt x="7336" y="12982"/>
                  <a:pt x="7317" y="13072"/>
                </a:cubicBezTo>
                <a:cubicBezTo>
                  <a:pt x="7298" y="13160"/>
                  <a:pt x="7139" y="13234"/>
                  <a:pt x="7069" y="13271"/>
                </a:cubicBezTo>
                <a:cubicBezTo>
                  <a:pt x="6959" y="13329"/>
                  <a:pt x="6873" y="13375"/>
                  <a:pt x="6772" y="13444"/>
                </a:cubicBezTo>
                <a:cubicBezTo>
                  <a:pt x="6755" y="13452"/>
                  <a:pt x="6739" y="13461"/>
                  <a:pt x="6722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6" name="Ink 15"/>
          <p:cNvSpPr/>
          <p:nvPr/>
        </p:nvSpPr>
        <p:spPr>
          <a:xfrm>
            <a:off x="374760" y="4518000"/>
            <a:ext cx="135000" cy="23328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414" y="12551"/>
                </a:moveTo>
                <a:cubicBezTo>
                  <a:pt x="1348" y="12598"/>
                  <a:pt x="1301" y="12664"/>
                  <a:pt x="1240" y="12725"/>
                </a:cubicBezTo>
                <a:cubicBezTo>
                  <a:pt x="1176" y="12789"/>
                  <a:pt x="1122" y="12827"/>
                  <a:pt x="1067" y="12898"/>
                </a:cubicBezTo>
                <a:cubicBezTo>
                  <a:pt x="1035" y="12940"/>
                  <a:pt x="1035" y="13037"/>
                  <a:pt x="1091" y="13072"/>
                </a:cubicBezTo>
                <a:cubicBezTo>
                  <a:pt x="1247" y="13150"/>
                  <a:pt x="1268" y="13167"/>
                  <a:pt x="1364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7" name="Ink 16"/>
          <p:cNvSpPr/>
          <p:nvPr/>
        </p:nvSpPr>
        <p:spPr>
          <a:xfrm>
            <a:off x="1231920" y="3456000"/>
            <a:ext cx="304920" cy="19692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3423" y="10120"/>
                </a:moveTo>
                <a:cubicBezTo>
                  <a:pt x="3490" y="10153"/>
                  <a:pt x="3470" y="10112"/>
                  <a:pt x="3522" y="10071"/>
                </a:cubicBezTo>
                <a:cubicBezTo>
                  <a:pt x="3591" y="10017"/>
                  <a:pt x="3614" y="9984"/>
                  <a:pt x="3646" y="9897"/>
                </a:cubicBezTo>
                <a:cubicBezTo>
                  <a:pt x="3676" y="9814"/>
                  <a:pt x="3698" y="9751"/>
                  <a:pt x="3721" y="9674"/>
                </a:cubicBezTo>
                <a:cubicBezTo>
                  <a:pt x="3741" y="9633"/>
                  <a:pt x="3750" y="9627"/>
                  <a:pt x="3746" y="9599"/>
                </a:cubicBezTo>
                <a:cubicBezTo>
                  <a:pt x="3793" y="9660"/>
                  <a:pt x="3832" y="9699"/>
                  <a:pt x="3894" y="9748"/>
                </a:cubicBezTo>
                <a:cubicBezTo>
                  <a:pt x="4020" y="9847"/>
                  <a:pt x="4149" y="9937"/>
                  <a:pt x="4266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8" name="Ink 17"/>
          <p:cNvSpPr/>
          <p:nvPr/>
        </p:nvSpPr>
        <p:spPr>
          <a:xfrm>
            <a:off x="1241280" y="5769000"/>
            <a:ext cx="322560" cy="30312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3448" y="16024"/>
                </a:moveTo>
                <a:cubicBezTo>
                  <a:pt x="3496" y="16072"/>
                  <a:pt x="3538" y="16113"/>
                  <a:pt x="3572" y="16173"/>
                </a:cubicBezTo>
                <a:cubicBezTo>
                  <a:pt x="3615" y="16249"/>
                  <a:pt x="3617" y="16359"/>
                  <a:pt x="3646" y="16446"/>
                </a:cubicBezTo>
                <a:cubicBezTo>
                  <a:pt x="3683" y="16558"/>
                  <a:pt x="3688" y="16636"/>
                  <a:pt x="3746" y="16743"/>
                </a:cubicBezTo>
                <a:cubicBezTo>
                  <a:pt x="3772" y="16792"/>
                  <a:pt x="3769" y="16824"/>
                  <a:pt x="3795" y="16867"/>
                </a:cubicBezTo>
                <a:cubicBezTo>
                  <a:pt x="3906" y="16812"/>
                  <a:pt x="3933" y="16762"/>
                  <a:pt x="4018" y="16669"/>
                </a:cubicBezTo>
                <a:cubicBezTo>
                  <a:pt x="4146" y="16530"/>
                  <a:pt x="4240" y="16408"/>
                  <a:pt x="4341" y="162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09" name="Ink 18"/>
          <p:cNvSpPr/>
          <p:nvPr/>
        </p:nvSpPr>
        <p:spPr>
          <a:xfrm>
            <a:off x="1231920" y="4367160"/>
            <a:ext cx="322200" cy="7920"/>
          </a:xfrm>
          <a:custGeom>
            <a:avLst/>
            <a:gdLst/>
            <a:ahLst/>
            <a:rect l="l" t="t" r="r" b="b"/>
            <a:pathLst>
              <a:path w="894" h="26">
                <a:moveTo>
                  <a:pt x="3423" y="12129"/>
                </a:moveTo>
                <a:cubicBezTo>
                  <a:pt x="3651" y="12129"/>
                  <a:pt x="3869" y="12144"/>
                  <a:pt x="4093" y="12154"/>
                </a:cubicBezTo>
                <a:cubicBezTo>
                  <a:pt x="4167" y="12154"/>
                  <a:pt x="4242" y="12154"/>
                  <a:pt x="4316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0" name="Ink 19"/>
          <p:cNvSpPr/>
          <p:nvPr/>
        </p:nvSpPr>
        <p:spPr>
          <a:xfrm>
            <a:off x="1276200" y="4152960"/>
            <a:ext cx="206640" cy="17280"/>
          </a:xfrm>
          <a:custGeom>
            <a:avLst/>
            <a:gdLst/>
            <a:ahLst/>
            <a:rect l="l" t="t" r="r" b="b"/>
            <a:pathLst>
              <a:path w="572" h="51">
                <a:moveTo>
                  <a:pt x="3547" y="11534"/>
                </a:moveTo>
                <a:cubicBezTo>
                  <a:pt x="3700" y="11541"/>
                  <a:pt x="3866" y="11539"/>
                  <a:pt x="4018" y="11559"/>
                </a:cubicBezTo>
                <a:cubicBezTo>
                  <a:pt x="4051" y="11567"/>
                  <a:pt x="4085" y="11576"/>
                  <a:pt x="4118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1" name="Ink 20"/>
          <p:cNvSpPr/>
          <p:nvPr/>
        </p:nvSpPr>
        <p:spPr>
          <a:xfrm>
            <a:off x="1268280" y="3963960"/>
            <a:ext cx="214560" cy="19080"/>
          </a:xfrm>
          <a:custGeom>
            <a:avLst/>
            <a:gdLst/>
            <a:ahLst/>
            <a:rect l="l" t="t" r="r" b="b"/>
            <a:pathLst>
              <a:path w="597" h="51">
                <a:moveTo>
                  <a:pt x="3522" y="11013"/>
                </a:moveTo>
                <a:cubicBezTo>
                  <a:pt x="3644" y="11013"/>
                  <a:pt x="3751" y="11019"/>
                  <a:pt x="3870" y="11038"/>
                </a:cubicBezTo>
                <a:cubicBezTo>
                  <a:pt x="4010" y="11058"/>
                  <a:pt x="4034" y="11067"/>
                  <a:pt x="4118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2" name="Ink 21"/>
          <p:cNvSpPr/>
          <p:nvPr/>
        </p:nvSpPr>
        <p:spPr>
          <a:xfrm>
            <a:off x="241200" y="3776760"/>
            <a:ext cx="223920" cy="260280"/>
          </a:xfrm>
          <a:custGeom>
            <a:avLst/>
            <a:gdLst/>
            <a:ahLst/>
            <a:rect l="l" t="t" r="r" b="b"/>
            <a:pathLst>
              <a:path w="621" h="721">
                <a:moveTo>
                  <a:pt x="1290" y="10492"/>
                </a:moveTo>
                <a:cubicBezTo>
                  <a:pt x="1210" y="10542"/>
                  <a:pt x="1116" y="10581"/>
                  <a:pt x="1042" y="10641"/>
                </a:cubicBezTo>
                <a:cubicBezTo>
                  <a:pt x="954" y="10712"/>
                  <a:pt x="857" y="10771"/>
                  <a:pt x="769" y="10840"/>
                </a:cubicBezTo>
                <a:cubicBezTo>
                  <a:pt x="732" y="10869"/>
                  <a:pt x="651" y="10932"/>
                  <a:pt x="670" y="10988"/>
                </a:cubicBezTo>
                <a:cubicBezTo>
                  <a:pt x="683" y="11026"/>
                  <a:pt x="762" y="11075"/>
                  <a:pt x="794" y="11088"/>
                </a:cubicBezTo>
                <a:cubicBezTo>
                  <a:pt x="903" y="11132"/>
                  <a:pt x="1008" y="11167"/>
                  <a:pt x="1116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3" name="Ink 22"/>
          <p:cNvSpPr/>
          <p:nvPr/>
        </p:nvSpPr>
        <p:spPr>
          <a:xfrm>
            <a:off x="1768320" y="3956040"/>
            <a:ext cx="615960" cy="61920"/>
          </a:xfrm>
          <a:custGeom>
            <a:avLst/>
            <a:gdLst/>
            <a:ahLst/>
            <a:rect l="l" t="t" r="r" b="b"/>
            <a:pathLst>
              <a:path w="1713" h="175">
                <a:moveTo>
                  <a:pt x="6623" y="11063"/>
                </a:moveTo>
                <a:cubicBezTo>
                  <a:pt x="6549" y="11063"/>
                  <a:pt x="6495" y="11042"/>
                  <a:pt x="6424" y="11038"/>
                </a:cubicBezTo>
                <a:cubicBezTo>
                  <a:pt x="6370" y="11035"/>
                  <a:pt x="6307" y="11025"/>
                  <a:pt x="6251" y="11013"/>
                </a:cubicBezTo>
                <a:cubicBezTo>
                  <a:pt x="6148" y="10991"/>
                  <a:pt x="6060" y="10988"/>
                  <a:pt x="5953" y="10988"/>
                </a:cubicBezTo>
                <a:cubicBezTo>
                  <a:pt x="5870" y="10988"/>
                  <a:pt x="5820" y="11013"/>
                  <a:pt x="5730" y="11013"/>
                </a:cubicBezTo>
                <a:cubicBezTo>
                  <a:pt x="5670" y="11013"/>
                  <a:pt x="5540" y="11020"/>
                  <a:pt x="5482" y="11038"/>
                </a:cubicBezTo>
                <a:cubicBezTo>
                  <a:pt x="5435" y="11053"/>
                  <a:pt x="5356" y="11044"/>
                  <a:pt x="5308" y="11063"/>
                </a:cubicBezTo>
                <a:cubicBezTo>
                  <a:pt x="5249" y="11086"/>
                  <a:pt x="5176" y="11109"/>
                  <a:pt x="5110" y="11112"/>
                </a:cubicBezTo>
                <a:cubicBezTo>
                  <a:pt x="5079" y="11113"/>
                  <a:pt x="4938" y="11120"/>
                  <a:pt x="4911" y="11137"/>
                </a:cubicBezTo>
                <a:cubicBezTo>
                  <a:pt x="4911" y="11145"/>
                  <a:pt x="4911" y="11154"/>
                  <a:pt x="4911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4" name="Ink 23"/>
          <p:cNvSpPr/>
          <p:nvPr/>
        </p:nvSpPr>
        <p:spPr>
          <a:xfrm>
            <a:off x="1847880" y="3946680"/>
            <a:ext cx="519120" cy="63360"/>
          </a:xfrm>
          <a:custGeom>
            <a:avLst/>
            <a:gdLst/>
            <a:ahLst/>
            <a:rect l="l" t="t" r="r" b="b"/>
            <a:pathLst>
              <a:path w="1439" h="174">
                <a:moveTo>
                  <a:pt x="6573" y="11038"/>
                </a:moveTo>
                <a:cubicBezTo>
                  <a:pt x="6509" y="11038"/>
                  <a:pt x="6456" y="11033"/>
                  <a:pt x="6400" y="11013"/>
                </a:cubicBezTo>
                <a:cubicBezTo>
                  <a:pt x="6322" y="10985"/>
                  <a:pt x="6237" y="10970"/>
                  <a:pt x="6152" y="10964"/>
                </a:cubicBezTo>
                <a:cubicBezTo>
                  <a:pt x="6018" y="10955"/>
                  <a:pt x="5874" y="10965"/>
                  <a:pt x="5755" y="10988"/>
                </a:cubicBezTo>
                <a:cubicBezTo>
                  <a:pt x="5692" y="11000"/>
                  <a:pt x="5619" y="11009"/>
                  <a:pt x="5556" y="11013"/>
                </a:cubicBezTo>
                <a:cubicBezTo>
                  <a:pt x="5491" y="11017"/>
                  <a:pt x="5448" y="11048"/>
                  <a:pt x="5383" y="11063"/>
                </a:cubicBezTo>
                <a:cubicBezTo>
                  <a:pt x="5329" y="11076"/>
                  <a:pt x="5259" y="11066"/>
                  <a:pt x="5209" y="11088"/>
                </a:cubicBezTo>
                <a:cubicBezTo>
                  <a:pt x="5179" y="11117"/>
                  <a:pt x="5165" y="11128"/>
                  <a:pt x="5135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5" name="Ink 24"/>
          <p:cNvSpPr/>
          <p:nvPr/>
        </p:nvSpPr>
        <p:spPr>
          <a:xfrm>
            <a:off x="731880" y="4017960"/>
            <a:ext cx="1573200" cy="1563840"/>
          </a:xfrm>
          <a:custGeom>
            <a:avLst/>
            <a:gdLst/>
            <a:ahLst/>
            <a:rect l="l" t="t" r="r" b="b"/>
            <a:pathLst>
              <a:path w="4367" h="4342">
                <a:moveTo>
                  <a:pt x="6400" y="11237"/>
                </a:moveTo>
                <a:cubicBezTo>
                  <a:pt x="6350" y="11227"/>
                  <a:pt x="6287" y="11220"/>
                  <a:pt x="6226" y="11212"/>
                </a:cubicBezTo>
                <a:cubicBezTo>
                  <a:pt x="6129" y="11200"/>
                  <a:pt x="6026" y="11169"/>
                  <a:pt x="5928" y="11162"/>
                </a:cubicBezTo>
                <a:cubicBezTo>
                  <a:pt x="5738" y="11149"/>
                  <a:pt x="5532" y="11177"/>
                  <a:pt x="5358" y="11187"/>
                </a:cubicBezTo>
                <a:cubicBezTo>
                  <a:pt x="5258" y="11193"/>
                  <a:pt x="5156" y="11187"/>
                  <a:pt x="5060" y="11212"/>
                </a:cubicBezTo>
                <a:cubicBezTo>
                  <a:pt x="5008" y="11226"/>
                  <a:pt x="4943" y="11244"/>
                  <a:pt x="4887" y="11261"/>
                </a:cubicBezTo>
                <a:cubicBezTo>
                  <a:pt x="4825" y="11280"/>
                  <a:pt x="4770" y="11292"/>
                  <a:pt x="4713" y="11311"/>
                </a:cubicBezTo>
                <a:cubicBezTo>
                  <a:pt x="4646" y="11333"/>
                  <a:pt x="4574" y="11366"/>
                  <a:pt x="4514" y="11385"/>
                </a:cubicBezTo>
                <a:cubicBezTo>
                  <a:pt x="4381" y="11426"/>
                  <a:pt x="4245" y="11467"/>
                  <a:pt x="4118" y="11534"/>
                </a:cubicBezTo>
                <a:cubicBezTo>
                  <a:pt x="4056" y="11566"/>
                  <a:pt x="3974" y="11614"/>
                  <a:pt x="3919" y="11658"/>
                </a:cubicBezTo>
                <a:cubicBezTo>
                  <a:pt x="3859" y="11706"/>
                  <a:pt x="3805" y="11760"/>
                  <a:pt x="3746" y="11807"/>
                </a:cubicBezTo>
                <a:cubicBezTo>
                  <a:pt x="3694" y="11849"/>
                  <a:pt x="3647" y="11884"/>
                  <a:pt x="3597" y="11931"/>
                </a:cubicBezTo>
                <a:cubicBezTo>
                  <a:pt x="3439" y="12080"/>
                  <a:pt x="3290" y="12239"/>
                  <a:pt x="3150" y="12402"/>
                </a:cubicBezTo>
                <a:cubicBezTo>
                  <a:pt x="3100" y="12460"/>
                  <a:pt x="3051" y="12512"/>
                  <a:pt x="3001" y="12576"/>
                </a:cubicBezTo>
                <a:cubicBezTo>
                  <a:pt x="2947" y="12646"/>
                  <a:pt x="2908" y="12727"/>
                  <a:pt x="2853" y="12799"/>
                </a:cubicBezTo>
                <a:cubicBezTo>
                  <a:pt x="2802" y="12866"/>
                  <a:pt x="2750" y="12927"/>
                  <a:pt x="2704" y="12998"/>
                </a:cubicBezTo>
                <a:cubicBezTo>
                  <a:pt x="2635" y="13105"/>
                  <a:pt x="2587" y="13212"/>
                  <a:pt x="2530" y="13320"/>
                </a:cubicBezTo>
                <a:cubicBezTo>
                  <a:pt x="2482" y="13411"/>
                  <a:pt x="2442" y="13496"/>
                  <a:pt x="2406" y="13593"/>
                </a:cubicBezTo>
                <a:cubicBezTo>
                  <a:pt x="2326" y="13807"/>
                  <a:pt x="2263" y="14039"/>
                  <a:pt x="2232" y="14263"/>
                </a:cubicBezTo>
                <a:cubicBezTo>
                  <a:pt x="2205" y="14459"/>
                  <a:pt x="2151" y="14662"/>
                  <a:pt x="2133" y="14858"/>
                </a:cubicBezTo>
                <a:cubicBezTo>
                  <a:pt x="2121" y="14982"/>
                  <a:pt x="2114" y="15107"/>
                  <a:pt x="2108" y="15230"/>
                </a:cubicBezTo>
                <a:cubicBezTo>
                  <a:pt x="2104" y="15320"/>
                  <a:pt x="2108" y="15412"/>
                  <a:pt x="2108" y="15503"/>
                </a:cubicBezTo>
                <a:cubicBezTo>
                  <a:pt x="2085" y="15416"/>
                  <a:pt x="2064" y="15340"/>
                  <a:pt x="2034" y="152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6" name="Ink 25"/>
          <p:cNvSpPr/>
          <p:nvPr/>
        </p:nvSpPr>
        <p:spPr>
          <a:xfrm>
            <a:off x="652320" y="5322960"/>
            <a:ext cx="268560" cy="32076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1885" y="14858"/>
                </a:moveTo>
                <a:cubicBezTo>
                  <a:pt x="1860" y="14833"/>
                  <a:pt x="1836" y="14809"/>
                  <a:pt x="1811" y="14784"/>
                </a:cubicBezTo>
                <a:cubicBezTo>
                  <a:pt x="1811" y="14868"/>
                  <a:pt x="1832" y="14928"/>
                  <a:pt x="1836" y="15007"/>
                </a:cubicBezTo>
                <a:cubicBezTo>
                  <a:pt x="1840" y="15085"/>
                  <a:pt x="1860" y="15147"/>
                  <a:pt x="1860" y="15230"/>
                </a:cubicBezTo>
                <a:cubicBezTo>
                  <a:pt x="1860" y="15286"/>
                  <a:pt x="1825" y="15660"/>
                  <a:pt x="1885" y="15677"/>
                </a:cubicBezTo>
                <a:cubicBezTo>
                  <a:pt x="2009" y="15711"/>
                  <a:pt x="2076" y="15627"/>
                  <a:pt x="2158" y="15553"/>
                </a:cubicBezTo>
                <a:cubicBezTo>
                  <a:pt x="2375" y="15357"/>
                  <a:pt x="2429" y="15311"/>
                  <a:pt x="2555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17" name="Ink 26"/>
          <p:cNvSpPr/>
          <p:nvPr/>
        </p:nvSpPr>
        <p:spPr>
          <a:xfrm>
            <a:off x="2133720" y="3875040"/>
            <a:ext cx="260280" cy="304920"/>
          </a:xfrm>
          <a:custGeom>
            <a:avLst/>
            <a:gdLst/>
            <a:ahLst/>
            <a:rect l="l" t="t" r="r" b="b"/>
            <a:pathLst>
              <a:path w="721" h="845">
                <a:moveTo>
                  <a:pt x="5928" y="10765"/>
                </a:moveTo>
                <a:cubicBezTo>
                  <a:pt x="5992" y="10801"/>
                  <a:pt x="6041" y="10849"/>
                  <a:pt x="6102" y="10889"/>
                </a:cubicBezTo>
                <a:cubicBezTo>
                  <a:pt x="6197" y="10951"/>
                  <a:pt x="6277" y="11009"/>
                  <a:pt x="6375" y="11063"/>
                </a:cubicBezTo>
                <a:cubicBezTo>
                  <a:pt x="6451" y="11105"/>
                  <a:pt x="6513" y="11148"/>
                  <a:pt x="6598" y="11162"/>
                </a:cubicBezTo>
                <a:cubicBezTo>
                  <a:pt x="6615" y="11162"/>
                  <a:pt x="6631" y="11162"/>
                  <a:pt x="6648" y="11162"/>
                </a:cubicBezTo>
                <a:cubicBezTo>
                  <a:pt x="6600" y="11210"/>
                  <a:pt x="6548" y="11239"/>
                  <a:pt x="6499" y="11286"/>
                </a:cubicBezTo>
                <a:cubicBezTo>
                  <a:pt x="6433" y="11349"/>
                  <a:pt x="6407" y="11425"/>
                  <a:pt x="6375" y="11509"/>
                </a:cubicBezTo>
                <a:cubicBezTo>
                  <a:pt x="6355" y="11570"/>
                  <a:pt x="6357" y="11585"/>
                  <a:pt x="6325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Vertical Asymptotes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a rational function is of the form f(x) = 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N(x)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dcdad0"/>
                </a:solidFill>
                <a:latin typeface="Arial"/>
              </a:rPr>
              <a:t>D(x)</a:t>
            </a:r>
            <a:r>
              <a:rPr b="0" lang="en-US" sz="3200" spc="-1" strike="noStrike" baseline="30000">
                <a:solidFill>
                  <a:srgbClr val="dcdad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 then the graph has vertical asymptotes at the zeros of D(x)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Make the vertical asymptote        “x =“ the zero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20" name="Ink 4"/>
          <p:cNvSpPr/>
          <p:nvPr/>
        </p:nvSpPr>
        <p:spPr>
          <a:xfrm>
            <a:off x="465120" y="633240"/>
            <a:ext cx="446040" cy="42084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1339" y="1836"/>
                </a:moveTo>
                <a:cubicBezTo>
                  <a:pt x="1381" y="1905"/>
                  <a:pt x="1364" y="1999"/>
                  <a:pt x="1364" y="2084"/>
                </a:cubicBezTo>
                <a:cubicBezTo>
                  <a:pt x="1364" y="2252"/>
                  <a:pt x="1344" y="2413"/>
                  <a:pt x="1339" y="2580"/>
                </a:cubicBezTo>
                <a:cubicBezTo>
                  <a:pt x="1336" y="2683"/>
                  <a:pt x="1320" y="2777"/>
                  <a:pt x="1315" y="2877"/>
                </a:cubicBezTo>
                <a:cubicBezTo>
                  <a:pt x="1312" y="2935"/>
                  <a:pt x="1315" y="2861"/>
                  <a:pt x="1315" y="2803"/>
                </a:cubicBezTo>
              </a:path>
              <a:path w="1241" h="1167">
                <a:moveTo>
                  <a:pt x="1588" y="1960"/>
                </a:moveTo>
                <a:cubicBezTo>
                  <a:pt x="1573" y="2193"/>
                  <a:pt x="1547" y="2424"/>
                  <a:pt x="1538" y="2654"/>
                </a:cubicBezTo>
                <a:cubicBezTo>
                  <a:pt x="1535" y="2721"/>
                  <a:pt x="1531" y="2775"/>
                  <a:pt x="1563" y="2828"/>
                </a:cubicBezTo>
                <a:cubicBezTo>
                  <a:pt x="1563" y="2726"/>
                  <a:pt x="1572" y="2675"/>
                  <a:pt x="1612" y="2604"/>
                </a:cubicBezTo>
              </a:path>
              <a:path w="1241" h="1167">
                <a:moveTo>
                  <a:pt x="1860" y="1836"/>
                </a:moveTo>
                <a:cubicBezTo>
                  <a:pt x="1875" y="1996"/>
                  <a:pt x="1880" y="2169"/>
                  <a:pt x="1860" y="2332"/>
                </a:cubicBezTo>
                <a:cubicBezTo>
                  <a:pt x="1847" y="2439"/>
                  <a:pt x="1826" y="2552"/>
                  <a:pt x="1811" y="2654"/>
                </a:cubicBezTo>
                <a:cubicBezTo>
                  <a:pt x="1800" y="2730"/>
                  <a:pt x="1819" y="2794"/>
                  <a:pt x="1836" y="2679"/>
                </a:cubicBezTo>
              </a:path>
              <a:path w="1241" h="1167">
                <a:moveTo>
                  <a:pt x="2183" y="1885"/>
                </a:moveTo>
                <a:cubicBezTo>
                  <a:pt x="2183" y="2081"/>
                  <a:pt x="2179" y="2242"/>
                  <a:pt x="2133" y="2431"/>
                </a:cubicBezTo>
                <a:cubicBezTo>
                  <a:pt x="2113" y="2511"/>
                  <a:pt x="2092" y="2632"/>
                  <a:pt x="2059" y="2704"/>
                </a:cubicBezTo>
                <a:cubicBezTo>
                  <a:pt x="2042" y="2741"/>
                  <a:pt x="2033" y="2762"/>
                  <a:pt x="2009" y="2778"/>
                </a:cubicBezTo>
              </a:path>
              <a:path w="1241" h="1167">
                <a:moveTo>
                  <a:pt x="1290" y="2902"/>
                </a:moveTo>
                <a:cubicBezTo>
                  <a:pt x="1351" y="2793"/>
                  <a:pt x="1425" y="2717"/>
                  <a:pt x="1513" y="2629"/>
                </a:cubicBezTo>
                <a:cubicBezTo>
                  <a:pt x="1687" y="2454"/>
                  <a:pt x="1884" y="2308"/>
                  <a:pt x="2059" y="2133"/>
                </a:cubicBezTo>
                <a:cubicBezTo>
                  <a:pt x="2182" y="2010"/>
                  <a:pt x="2332" y="1930"/>
                  <a:pt x="2456" y="1811"/>
                </a:cubicBezTo>
                <a:cubicBezTo>
                  <a:pt x="2506" y="1763"/>
                  <a:pt x="2500" y="1796"/>
                  <a:pt x="2530" y="17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Horizontal asymptotes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degree of N(x) &lt; degree of D(x), then     y = 0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degree of N(x) = degree of D(x), then     y = fraction of leading coefficient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f degree of N(x) &gt; degree of D(x), then there is no horizontal asymptote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34Z</dcterms:created>
  <dc:creator>jnewman</dc:creator>
  <dc:description/>
  <dc:language>en-US</dc:language>
  <cp:lastModifiedBy>abeason</cp:lastModifiedBy>
  <dcterms:modified xsi:type="dcterms:W3CDTF">2010-05-20T14:36:37Z</dcterms:modified>
  <cp:revision>12</cp:revision>
  <dc:subject/>
  <dc:title>Lesson 2.6</dc:title>
</cp:coreProperties>
</file>